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398-1719-47FE-8EE4-E20B4056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421-F33F-42BC-B443-04C38A4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586-CAED-484C-BF18-E0AD67CD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1F4-1FF2-4D84-BE57-C252CC36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F8E0-0367-412A-B658-4B99F86F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4F09-4792-4D72-8336-5D507356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DD87-544B-4BB8-9B5D-A9E0BDCB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1132-C0E5-42C0-96EC-8383184D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CDE2-10ED-44B9-8558-EEE5B370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4583-1905-4BC1-8A46-E267394F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1D65-EA1F-4A62-8B99-0527DF58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F25-C0CE-4C4A-B1AB-36C7C51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95C-7559-4E12-9A43-EB684061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70BF-4144-4C4F-A423-2A093643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459D-6432-463C-9790-C7223A7C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6371-EAC1-4A15-A602-FCED44A6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D82A-F1D0-4053-B911-0FCCBD2C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F67-FB6C-4576-98D2-3548A36B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BEE-9881-4280-8E82-8461F321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740-D9FA-40F9-AE30-9F670A31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46C-75D4-4001-A129-6AB8B862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AD7-5BFD-4811-8D07-6C1EC774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557-C490-40E7-8D0A-4D51F24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5A3-0A3F-471E-97DE-869D6E83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5408-EFBF-44BE-9281-81455EE7244C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9E3C-4FDF-4F08-B193-FEA5C064FB2C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wbook.com.tw/cw/T1.jsp" TargetMode="External"/><Relationship Id="rId2" Type="http://schemas.openxmlformats.org/officeDocument/2006/relationships/hyperlink" Target="http://www.cwbook.com.tw/cw/activity/2003/leadership/index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660066"/>
                </a:solidFill>
                <a:latin typeface="Tahoma"/>
                <a:ea typeface="標楷體"/>
              </a:rPr>
              <a:t>火線領導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676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828800"/>
            <a:ext cx="3886200" cy="33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標楷體"/>
                <a:ea typeface="標楷體"/>
              </a:rPr>
              <a:t>作者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標楷體"/>
                <a:ea typeface="標楷體"/>
              </a:rPr>
              <a:t>隆納‧海菲茲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標楷體"/>
                <a:ea typeface="標楷體"/>
              </a:rPr>
              <a:t>馬惕‧林斯基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f89f7"/>
                </a:solidFill>
                <a:uFillTx/>
                <a:latin typeface="標楷體"/>
                <a:ea typeface="標楷體"/>
                <a:hlinkClick r:id="rId1"/>
              </a:rPr>
              <a:t>天下雜誌出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</a:rPr>
              <a:t>Leadership on the Line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762120"/>
            <a:ext cx="34545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領導：管理你的飢渴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權力與控制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切記，你贏得的權威是社會期待的產物。如果認為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權威來自於你，就是誤解了。千萬別被這誤解沖昏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肯定和重要性</a:t>
            </a:r>
            <a:r>
              <a:rPr b="0" lang="zh-TW" sz="3200" spc="-1" strike="noStrike">
                <a:solidFill>
                  <a:srgbClr val="cc0000"/>
                </a:solidFill>
                <a:latin typeface="新細明體"/>
              </a:rPr>
              <a:t>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接受任意的讚美，會導致自誇，讓你膨脹自己和自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的理由。最後，你將危及自己的可信度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親密關係和愉悅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在回應我們情緒上各種不同的虛弱、耗盡、「亢奮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或厭煩時，我們有時候會做自毀的事。臣服於這種飢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渴，就是你失去控制、利用人們和濫用地位的徵兆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5920" y="-33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領導：穩住自己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0000"/>
                </a:solidFill>
                <a:latin typeface="Times New Roman"/>
              </a:rPr>
              <a:t>區別角色和自我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</a:rPr>
              <a:t>這個世界強化了你的專業角色，助長了混淆。同事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</a:rPr>
              <a:t>下屬和老闆對待你的方式，好像你所扮演的角色，就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</a:rPr>
              <a:t>是你的本質，真正的你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0000"/>
                </a:solidFill>
                <a:latin typeface="Times New Roman"/>
              </a:rPr>
              <a:t>擁有密友，別將他們和盟友搞混了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</a:rPr>
              <a:t>密友能做許多盟友不能做的事。他們提供一個地方，讓你暢所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</a:rPr>
              <a:t>言，不需事先簡化或包裝。情緒和用語可以顛三倒四，沒有秩序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</a:rPr>
              <a:t>等到一切都攤出來後，你再開始收拾，分別有價值的和沒價值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0000"/>
                </a:solidFill>
                <a:latin typeface="Times New Roman"/>
              </a:rPr>
              <a:t>尋找庇護所</a:t>
            </a:r>
            <a:r>
              <a:rPr b="0" lang="zh-TW" sz="24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</a:rPr>
              <a:t>人類不是被設計來處理這不永不停止的現代世界，所以我們必須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</a:rPr>
              <a:t>補償自己。找到錨來穩住自己，根本上和自愛及紀律有關。我們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</a:rPr>
              <a:t>得照顧自己，才能判斷自己的價值和渴望，這是很重要的體認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為什麼我們要領導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</a:rPr>
              <a:t>領導都是由一個人的渴望所驅動的，他想要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貢獻給共同生活和工作的人們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</a:rPr>
              <a:t>領導能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在日常利害外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</a:rPr>
              <a:t>－朋友和同儕的認可，物質上的收穫，成功的立即滿足－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賦予生命意義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</a:rPr>
              <a:t>愛賦予你所做的事以意義，不管是在一個企業、一個社群、一間教室或一個家庭裡。我們有很好的理由來冒險：</a:t>
            </a:r>
            <a:r>
              <a:rPr b="0" lang="zh-TW" sz="2800" spc="-1" strike="noStrike">
                <a:solidFill>
                  <a:srgbClr val="c5071e"/>
                </a:solidFill>
                <a:latin typeface="Times New Roman"/>
              </a:rPr>
              <a:t>我們希望人們的生活有所不同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543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領導是危險的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</a:rPr>
              <a:t>馬英九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標楷體"/>
                <a:ea typeface="標楷體"/>
              </a:rPr>
              <a:t>每個人隨時都有領導機會，但是，如果</a:t>
            </a:r>
            <a:r>
              <a:rPr b="0" lang="zh-TW" sz="2000" spc="-1" strike="noStrike">
                <a:solidFill>
                  <a:srgbClr val="cc0000"/>
                </a:solidFill>
                <a:latin typeface="標楷體"/>
                <a:ea typeface="標楷體"/>
              </a:rPr>
              <a:t>想要改變別人的既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0000"/>
                </a:solidFill>
                <a:latin typeface="標楷體"/>
                <a:ea typeface="標楷體"/>
              </a:rPr>
              <a:t>習慣、態度或價值觀，就會遭受無法避免的抗拒力量</a:t>
            </a:r>
            <a:r>
              <a:rPr b="0" lang="zh-TW" sz="2000" spc="-1" strike="noStrike">
                <a:solidFill>
                  <a:srgbClr val="40458c"/>
                </a:solidFill>
                <a:latin typeface="標楷體"/>
                <a:ea typeface="標楷體"/>
              </a:rPr>
              <a:t>，也就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標楷體"/>
                <a:ea typeface="標楷體"/>
              </a:rPr>
              <a:t>是所謂的「積習難改」，或是「既得利益者反撲」，而這些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標楷體"/>
                <a:ea typeface="標楷體"/>
              </a:rPr>
              <a:t>都說明了領導的困難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</a:rPr>
              <a:t>蘇貞昌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標楷體"/>
                <a:ea typeface="標楷體"/>
              </a:rPr>
              <a:t>面對瞬息萬變的國際環境，政府官員必須不斷變革與調適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標楷體"/>
                <a:ea typeface="標楷體"/>
              </a:rPr>
              <a:t>面對可能挑戰，</a:t>
            </a:r>
            <a:r>
              <a:rPr b="0" lang="zh-TW" sz="2000" spc="-1" strike="noStrike">
                <a:solidFill>
                  <a:srgbClr val="cc0000"/>
                </a:solidFill>
                <a:latin typeface="標楷體"/>
                <a:ea typeface="標楷體"/>
              </a:rPr>
              <a:t>了解領導的潛在問題和危險，找出解決之道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0000"/>
                </a:solidFill>
                <a:latin typeface="標楷體"/>
                <a:ea typeface="標楷體"/>
              </a:rPr>
              <a:t>而這也是現今所有領域的領導人所必須面對的問題</a:t>
            </a:r>
            <a:r>
              <a:rPr b="0" lang="zh-TW" sz="2000" spc="-1" strike="noStrike">
                <a:solidFill>
                  <a:srgbClr val="40458c"/>
                </a:solidFill>
                <a:latin typeface="標楷體"/>
                <a:ea typeface="標楷體"/>
              </a:rPr>
              <a:t>。</a:t>
            </a:r>
            <a:r>
              <a:rPr b="0" lang="zh-TW" sz="2800" spc="-1" strike="noStrike">
                <a:solidFill>
                  <a:srgbClr val="40458c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新細明體"/>
              </a:rPr>
              <a:t>被</a:t>
            </a:r>
            <a:r>
              <a:rPr b="0" lang="zh-TW" sz="32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邊緣化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新細明體"/>
                <a:ea typeface="Times New Roman"/>
              </a:rPr>
              <a:t>組織多數時候不會太直接排擠人們。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聲東擊西</a:t>
            </a:r>
            <a:r>
              <a:rPr b="0" lang="zh-TW" sz="3200" spc="-1" strike="noStrike">
                <a:solidFill>
                  <a:srgbClr val="cc0000"/>
                </a:solidFill>
                <a:latin typeface="新細明體"/>
              </a:rPr>
              <a:t> 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新細明體"/>
                <a:ea typeface="Times New Roman"/>
              </a:rPr>
              <a:t>社群和組織有意或潛意識裡想要讓你失去焦點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攻擊</a:t>
            </a:r>
            <a:r>
              <a:rPr b="0" lang="zh-TW" sz="3200" spc="-1" strike="noStrike">
                <a:solidFill>
                  <a:srgbClr val="cc0000"/>
                </a:solidFill>
                <a:latin typeface="新細明體"/>
              </a:rPr>
              <a:t> 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新細明體"/>
                <a:ea typeface="Times New Roman"/>
              </a:rPr>
              <a:t>進行個人攻擊是讓你的訊息無效的方法，而且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新細明體"/>
                <a:ea typeface="Times New Roman"/>
              </a:rPr>
              <a:t>屢試不爽。</a:t>
            </a:r>
            <a:r>
              <a:rPr b="0" lang="zh-TW" sz="2800" spc="-1" strike="noStrike">
                <a:solidFill>
                  <a:srgbClr val="40458c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誘惑</a:t>
            </a:r>
            <a:r>
              <a:rPr b="0" lang="zh-TW" sz="3200" spc="-1" strike="noStrike">
                <a:solidFill>
                  <a:srgbClr val="cc0000"/>
                </a:solidFill>
                <a:latin typeface="新細明體"/>
              </a:rPr>
              <a:t> 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新細明體"/>
                <a:ea typeface="Times New Roman"/>
              </a:rPr>
              <a:t>許多讓你失敗的方式，都有一個誘人的面向。</a:t>
            </a:r>
            <a:r>
              <a:rPr b="0" lang="zh-TW" sz="2800" spc="-1" strike="noStrike">
                <a:solidFill>
                  <a:srgbClr val="40458c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09120" y="533160"/>
            <a:ext cx="7543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領導危險的面貌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區別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技術性挑戰和適應性挑戰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新細明體"/>
                <a:ea typeface="Times New Roman"/>
              </a:rPr>
              <a:t>區分出哪些是重要的，哪些是次要的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找出民之所欲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新細明體"/>
                <a:ea typeface="Times New Roman"/>
              </a:rPr>
              <a:t>你是否真地了解各陣營不同的想法。了解他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新細明體"/>
                <a:ea typeface="Times New Roman"/>
              </a:rPr>
              <a:t>們的危險和恐懼。</a:t>
            </a:r>
            <a:r>
              <a:rPr b="0" lang="zh-TW" sz="2400" spc="-1" strike="noStrike">
                <a:solidFill>
                  <a:srgbClr val="40458c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傾聽弦外之音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新細明體"/>
                <a:ea typeface="Times New Roman"/>
              </a:rPr>
              <a:t>角度是超然的，但觀察本身卻必須貼近而且仔細。</a:t>
            </a:r>
            <a:r>
              <a:rPr b="0" lang="zh-TW" sz="2400" spc="-1" strike="noStrike">
                <a:solidFill>
                  <a:srgbClr val="40458c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解讀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掌權者的言行，找出線索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</a:rPr>
              <a:t>掌權者的行為透露了組織的痛苦程度，以及恢復均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</a:rPr>
              <a:t>衡的習慣方法。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09120" y="533160"/>
            <a:ext cx="7543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如何回應領導的危險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找尋伙伴</a:t>
            </a:r>
            <a:r>
              <a:rPr b="0" lang="zh-TW" sz="2800" spc="-1" strike="noStrike">
                <a:solidFill>
                  <a:srgbClr val="40458c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找到正確的伙伴很難。發展信賴需要時間和堅持，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能解決衝突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接近反對者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在承擔領導責任時，想要存活並成功，你必須與反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者密切共事，就像與支持者共事一樣。</a:t>
            </a:r>
            <a:r>
              <a:rPr b="0" lang="zh-TW" sz="2400" spc="-1" strike="noStrike">
                <a:solidFill>
                  <a:srgbClr val="40458c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負起你對混亂的責任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 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為了對現狀做出貢獻，你必須認同並接受責任，即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你是試著讓人們更好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從</a:t>
            </a:r>
            <a:r>
              <a:rPr b="0" lang="zh-TW" sz="4800" spc="-1" strike="noStrike">
                <a:solidFill>
                  <a:srgbClr val="ff3300"/>
                </a:solidFill>
                <a:latin typeface="Tahoma"/>
                <a:ea typeface="標楷體"/>
              </a:rPr>
              <a:t>政治面</a:t>
            </a: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思考：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  <a:ea typeface="標楷體"/>
              </a:rPr>
              <a:t>重視個人關係</a:t>
            </a: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從</a:t>
            </a:r>
            <a:r>
              <a:rPr b="0" lang="zh-TW" sz="4800" spc="-1" strike="noStrike">
                <a:solidFill>
                  <a:srgbClr val="ff3300"/>
                </a:solidFill>
                <a:latin typeface="Tahoma"/>
                <a:ea typeface="標楷體"/>
              </a:rPr>
              <a:t>政治面</a:t>
            </a: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思考：</a:t>
            </a:r>
            <a:r>
              <a:rPr b="0" lang="zh-TW" sz="4800" spc="-1" strike="noStrike">
                <a:solidFill>
                  <a:srgbClr val="660066"/>
                </a:solidFill>
                <a:latin typeface="Times New Roman"/>
                <a:ea typeface="標楷體"/>
              </a:rPr>
              <a:t>重視個人關係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承認疏失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用可能的方法，來溝通犧牲的理由－他們為何要承受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損失和重組忠誠，就變得相當重要了。人們需要知道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這麼做是值得的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身先士卒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人們在做他們要求別人去做的事時，是有風險的。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使象徵的典型也有實質的影響力。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接受傷亡人員 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對組織全體有益的改變，可能會明顯傷及既得利益者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他們變成傷亡人員。當組織和社群進行重大變革時，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這是無可避免的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領導：調和衝突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建立有利的環境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有利的環境，是由關係網絡形成的空間，在裡頭，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們能夠處理困難及有時分歧的問題，而不引起分裂。</a:t>
            </a: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控制溫度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提高溫度，高到讓人足以正襟危坐</a:t>
            </a:r>
            <a:r>
              <a:rPr b="0" lang="zh-TW" sz="2400" spc="-1" strike="noStrike">
                <a:solidFill>
                  <a:srgbClr val="40458c"/>
                </a:solidFill>
                <a:latin typeface="細明體"/>
              </a:rPr>
              <a:t>；或者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要降低緊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所帶來的反效果，得降低溫度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調整步伐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人們每次只能夠忍受那麼多改變。做得太多太快，只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會危急你的生存，引起反彈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許他們一個未來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提醒人們原始的價值－積極的願景，讓眼前的不安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值得。就能增加人們忍受痛苦的意願，苦盡甘來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領導：丟回工作給他人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卸下責任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任何介入，可能可以解決當下的危機，卻沒能解決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層的議題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將工作擺在它所屬的地方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卸下肩上的工作是必要的，但還不夠充分。你還必須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將它放在正確的地方，好讓相關的人來解決它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讓你的介入簡單明瞭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簡單而直接的介入比較可能被聽進去，被接受，避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引起危險的抗拒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ahoma"/>
                <a:ea typeface="標楷體"/>
              </a:rPr>
              <a:t>領導：要從容不迫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承受高溫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在不損及你先前努力的情況下，接受別人的憤怒，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領導最困難的任務之一。</a:t>
            </a:r>
            <a:r>
              <a:rPr b="0" lang="zh-TW" sz="2800" spc="-1" strike="noStrike">
                <a:solidFill>
                  <a:srgbClr val="40458c"/>
                </a:solidFill>
                <a:latin typeface="細明體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讓議題成熟</a:t>
            </a:r>
            <a:r>
              <a:rPr b="0" lang="zh-TW" sz="3200" spc="-1" strike="noStrike">
                <a:solidFill>
                  <a:srgbClr val="cc0000"/>
                </a:solidFill>
                <a:latin typeface="新細明體"/>
              </a:rPr>
              <a:t>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按兵不動，直到問題被準備好，再動員人們的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精力，並讓你自己被聽到時，可能很重要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集中於議題上</a:t>
            </a:r>
            <a:r>
              <a:rPr b="0" lang="zh-TW" sz="2800" spc="-1" strike="noStrike">
                <a:solidFill>
                  <a:srgbClr val="cc0000"/>
                </a:solidFill>
                <a:latin typeface="新細明體"/>
                <a:ea typeface="Times New Roman"/>
              </a:rPr>
              <a:t>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給自己時間來找出人們的關注，這樣你能重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讓注意力集中在關鍵議題上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3:01:32Z</dcterms:created>
  <dc:creator>lenz</dc:creator>
  <dc:description/>
  <dc:language>en-US</dc:language>
  <cp:lastModifiedBy>user</cp:lastModifiedBy>
  <dcterms:modified xsi:type="dcterms:W3CDTF">2005-04-10T07:32:26Z</dcterms:modified>
  <cp:revision>18</cp:revision>
  <dc:subject/>
  <dc:title>決策</dc:title>
</cp:coreProperties>
</file>