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895-4D54-41DA-B08C-F231C613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3736440"/>
            <a:ext cx="867420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A1B-4C92-4DAF-AA97-9B83D699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445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FCA-6EF8-4E73-996A-25E5F5CF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560" y="90648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480" y="90648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373644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560" y="373644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480" y="373644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CAF-A0C5-487B-93D9-4BE2427F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17B33-4922-4E83-B313-3DEADC299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94F22-8B55-48BB-A730-C70E847C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613A7-8804-4E86-8E42-7B8426C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D2AE2-1335-49D0-966F-C13546EC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ECAF9-7F8E-482E-A76F-72BF7671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64720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37C11-5E3E-418D-A2C4-FFE0C56C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-3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98089-5E74-410C-B244-E574392B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751-6228-42B6-A776-932921BE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4445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4D9C8-72BC-4736-A929-9E6F868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3736440"/>
            <a:ext cx="867420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55B63-F596-471B-ABEA-916DC0D0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-360" y="3736440"/>
            <a:ext cx="867420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7A350-E333-45EA-83D9-419B86E2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3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45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ED9FD-8CD8-415E-8A6E-636AE6CD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560" y="90648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65480" y="90648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-360" y="373644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560" y="373644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65480" y="373644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84028-5E03-4CF2-BC19-FBC47D2FD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0A2D8-2B61-48B8-854A-4AD048BB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2094A-9FDB-43DB-BE21-25776638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3E385-C0DE-4D59-A33C-4B2CA8A6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AA842-DD8F-47F8-AAD1-ED748BC4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0B10E-8BB9-4208-B46F-9CEF02BB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FAF-D8F3-421D-9A1A-793ECE1C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64720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D1B70-AC38-4FF6-B7C0-2966327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-3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5BDA6-57A4-464A-BB81-4BEFE8A3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445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99C79-B368-4D49-B09E-7F84FCC3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-360" y="3736440"/>
            <a:ext cx="867420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CB205-9A26-4BE8-938B-994D733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-360" y="3736440"/>
            <a:ext cx="867420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BDBFB-D289-4580-BD8F-80B2C69A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-3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445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727B6-21EE-4BFA-8BD2-E92300A0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32560" y="90648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65480" y="90648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-360" y="373644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32560" y="373644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65480" y="3736440"/>
            <a:ext cx="279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03242-A252-458E-AFFD-7DAED7C4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565-622F-4BFD-8992-9821661C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886-F514-4CA0-95A4-B1614F27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64720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E5C-7325-4080-AA18-00A181E4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D36-36A4-4F09-ADB3-121A490E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4560" y="373644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B05-E5B3-489E-8372-33778C55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8647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4560" y="906480"/>
            <a:ext cx="423288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3736440"/>
            <a:ext cx="8674200" cy="25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820-E4AE-43D3-B097-8DE503B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>
              <a:spcBef>
                <a:spcPts val="499"/>
              </a:spcBef>
              <a:buClr>
                <a:srgbClr val="000000"/>
              </a:buClr>
              <a:buFont typeface="Web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57200" indent="-457200">
              <a:spcBef>
                <a:spcPts val="499"/>
              </a:spcBef>
              <a:buClr>
                <a:srgbClr val="000000"/>
              </a:buClr>
              <a:buFont typeface="Web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457200" indent="-457200">
              <a:spcBef>
                <a:spcPts val="499"/>
              </a:spcBef>
              <a:buClr>
                <a:srgbClr val="000000"/>
              </a:buClr>
              <a:buFont typeface="Web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457200" indent="-457200">
              <a:spcBef>
                <a:spcPts val="499"/>
              </a:spcBef>
              <a:buClr>
                <a:srgbClr val="000000"/>
              </a:buClr>
              <a:buFont typeface="Web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457200" indent="-457200">
              <a:spcBef>
                <a:spcPts val="499"/>
              </a:spcBef>
              <a:buClr>
                <a:srgbClr val="000000"/>
              </a:buClr>
              <a:buFont typeface="Web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457200" indent="-457200">
              <a:spcBef>
                <a:spcPts val="499"/>
              </a:spcBef>
              <a:buClr>
                <a:srgbClr val="000000"/>
              </a:buClr>
              <a:buFont typeface="Web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6800"/>
            <a:ext cx="864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2080" y="6609960"/>
            <a:ext cx="190476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44880"/>
            <a:ext cx="289584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5280" y="6610320"/>
            <a:ext cx="24732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D1F-2860-4F5B-8F4F-EB8DF5B40144}" type="slidenum">
              <a:rPr b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47D2-0C97-41DC-BB99-852E8D97BC5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529-2CDF-4675-884F-CF18A390BCE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656760" y="56052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  <a:ea typeface="新細明體"/>
              </a:rPr>
              <a:t>http://www.bized.ac.uk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  <a:ea typeface="新細明體"/>
              </a:rPr>
              <a:t>Copyright 2005 – Biz/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802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4174"/>
                </a:solidFill>
                <a:latin typeface="Verdana"/>
                <a:ea typeface="新細明體"/>
              </a:rPr>
              <a:t>Motivation  </a:t>
            </a:r>
            <a:endParaRPr b="0" lang="en-US" sz="48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B0FD6-0830-4626-B2D0-B4F4175E3D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Motivation factor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Growth/Advan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Interest in the jo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B634C-0D49-422A-802F-23B5EEBF59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McClelland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19C2F-9F5F-443C-80D1-0F5D0C91BF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McGregor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AD73C-8721-4973-8620-2ECA032AAF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Mayo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BDF5B-C0D7-4C90-A2EA-1327CA9CAB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tivating Employees and Building Self-Managed Team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701280"/>
            <a:ext cx="866448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tivation:  the set of forces (intrinsic and extrinsic) that causes people to behave in a certain way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tivate:  to make an action interesting and engaging to the worker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The management challenge, how to motivate the subordinat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8FD-8962-45DF-8077-99CF8665CA7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新細明體"/>
              </a:rPr>
              <a:t>The Evolution of Motivation as a Work Place Issue/Concer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r-conditions for an individual to be naturally motivate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Choice/alternative employment possibili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Basic (sub) existence needs addressed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duc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Relative affluen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A sense of sel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B36-0538-4124-B33A-F93DDF1CF508}" type="slidenum">
              <a:t>15</a:t>
            </a:fld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Early Motivational Research and Perspective (pre 1920’s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aylor and the Scientific Management (Classical) Perspectiv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Looked at work as a science rather than a series of “rules- of-thumb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Looked exclusively at the physical (movement) dimension of the job/tas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Motivation was the process of making the task easier and more efficient and effectiv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ime and motion stud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124-5D44-4EBC-8414-86648E3CED21}" type="slidenum">
              <a:t>16</a:t>
            </a:fld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Early Motivational Research and Perspective (pre 1920’s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he significance of Taylor/Scientific Management (Classical Theory) to the evolution of management theory and practic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One of the first organized, comprehensive and logical study of the work environ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Focused on the task and physical dimension of work, not the pers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Focused on productivity/efficiency (reduce labour costs) and by inference profitabilit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Overlooked (in hind sight) of the role of psychology in understanding human behavi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nvisioned the assemble line (Henry Ford) and the industrialization of the US in the early 1900’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Indirectly encouraged the unionization of work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iece rate (financial, $) incentive/motivation syste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Favoured a bureaucratic organizational desig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3F2-B014-4DE8-B757-DE2AAB107A96}" type="slidenum">
              <a:t>17</a:t>
            </a:fld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he Perspective of the Earlier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新細明體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 Century (1920 – 50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Next, Mayo and the Hawthorne Stud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Insights from this research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Identified the role of psychology and the cognitive realm in understanding motiv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Looked at the psycho-social context of work rather than exclusively the tas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Human relation school of management theor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Identified that pay was not a strong motivating for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7EB-FA31-427D-8789-736AA26FFF6E}" type="slidenum">
              <a:t>18</a:t>
            </a:fld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Maslow and the Needs Hierarchy (1950’s +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Identified that motivation is strongly influenced by the desire to satisfy need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A satisfied need no longer motivates the person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Needs are hierarchical, when one need is satisfied, another higher level need emerg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o motivate a worker, the work/employment setting must afford the opportunity to satisfy unfilled need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7B5-A919-48C1-B969-0FFC7E2E947E}" type="slidenum">
              <a:t>19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Motivation  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AD68E-3BC8-4365-B1F0-FF45AE1365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Maslow and the Needs Hierarch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hysiological needs: basic survival needs, such as food, water and shelter; relief from pai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afety needs: protection from physical harm, ill health, job security; freedom from thre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ocial needs: belongingness, companionship, acceptance, part of a group, love, affili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steem needs: awareness of importance to others (self-esteem) and the actual warranted and deserved esteem from others, statu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elf actualization needs: to become everything one is capable of becoming; to realize ones potentia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CA0-6CD6-4BE9-B49E-4B260516F4BA}" type="slidenum">
              <a:t>20</a:t>
            </a:fld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Herzberg’s Two-Factor Motivation Theory (60’s +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Classified job conditions into a two scale classification system, bein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xtrinsic/dis-satisfiers/hygiene factors: job conditions, which, if absent cause workers to be un-motivated or perform poorly, but if present, do not motivate the employe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Intrinsic/satisfiers/motivators: job conditions, which, if present cause the worker to be motivated, producti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His model assumes job satisfaction is not one-dimensional concept, but rather a two continua system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E1E-8B44-4A69-A8DC-3B36F832E2FE}" type="slidenum">
              <a:t>21</a:t>
            </a:fld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McGregor’s Theory X and Theory Y (60’s +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568080"/>
            <a:ext cx="8674200" cy="60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heory X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heory 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are laz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are energeti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lack ambition and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are ambitious an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dislike responsibilit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eek responsibilit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are self-centred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can be selfl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resist chang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want to contribu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o business growth an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chang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are gullible and no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are intellig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very brigh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Money and fear are the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ople are motivated by a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rimary motivator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variety of rewar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F93-89D0-48B5-AE63-18386FCEB041}" type="slidenum">
              <a:t>22</a:t>
            </a:fld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volution of Organizational Behaviour Theory and Practi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aylor and Scientific Management Perspecti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Human Relations Perspecti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Human Resource Perspecti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FCC-6445-4DF2-8450-A427F8394304}" type="slidenum">
              <a:t>23</a:t>
            </a:fld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Back to the Fu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aylor and the Scientific management school of thought (early 1900’s) and Activity Based Costing (ABC) and Management (ABM) (late 1900’s, now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ime and motion stud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Non-value added activities (value chain analysis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-commerce (dotcoms, supply chain management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Automating repetitive task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rgonomic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Job and product/service desig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Mass production/assembly lin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hird world outsourcing, globaliz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BA0-CACD-4BA5-8A64-47133C4CC204}" type="slidenum">
              <a:t>24</a:t>
            </a:fld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Motivation Theo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Management by Objectives (MBO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Identification of goals/objectives by superi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Development of metrics to measure goal achiev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ubordinate buy-in on these goal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Goal clarit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Goal congruen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ubordinate is self-motivated/empower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EAD-0845-47E5-8A1A-0666C1D21CCA}" type="slidenum">
              <a:t>25</a:t>
            </a:fld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Motivation Theo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xpectancy Theor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uperior determines rewards that are valued by subordina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uperior identifies attainable goals they seek to achiev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uperior establishes rewards consistent with rewards/ needs of the subordina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uperior guarantees rewards tied to performan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ubordinate works diligently if the expectation (probability) of receiving rewards is hig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586-1E24-44B5-9EA1-81358FFF8CC7}" type="slidenum">
              <a:t>26</a:t>
            </a:fld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Motivation Theo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quity Theor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ercept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Fairn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Maintain balance between how I am treated and my cohor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Reasonableness of rewards relative to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- effort (input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- rewards received by others for perceived equal effor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It’s not fair!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929-6F6E-4F01-BF6D-52E5A7D74733}" type="slidenum">
              <a:t>27</a:t>
            </a:fld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Motivation Theo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Reinforcement Theory, Behaviourism and BF Skinn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Conditioned stimulu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Conditioned respon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ositive reinforcements and negative reinforcement  (carrot and stick approach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Pavlov and the salivating do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Behaviour modific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63A-DA9B-46D7-970C-480777236B14}" type="slidenum">
              <a:t>28</a:t>
            </a:fld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Building Self-Motivated Team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elf-motivated: to be diligently engaged in a task without being forced, coerced, manipulated to do so. To willingly and without dis-pleasure do what you are hired to do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Teams:  Groups of individuals working together on a common task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Knowledge workers in the 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新細明體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 centur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454-315D-45BE-87F4-ABED383E7933}" type="slidenum">
              <a:t>29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Maslow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5FB5B-BFFD-4C90-88AC-E5B94AF2F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Building Self-Motivated Team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867420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Qualities of effective self-motivated te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High level of cooperation amongst membe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Clarity of goals of the tea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Open communic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trong listening skill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Respecting equity and diversity in the group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High level of trust of other members of the team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thical behaviou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Balancing process and result (goal) orient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Limited external (management) interven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Usually the task requires some technical (knowledge) experti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Organization is committed to training and life-long learn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5D3-EB09-4767-85B4-5E45C5B0B5EA}" type="slidenum">
              <a:t>30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Drucker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674FB-75CB-40DC-B7A6-B879E279C5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Liker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688B7-E539-4826-8B7C-DAA23E0ECA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Taylor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9A56E-100C-4C41-938F-7781EF79D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Argyri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BF811-58C6-4E98-A2E5-F8E00C912D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Herzberg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3DA5E-5576-4DF7-B8EA-484520EDE0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  <a:ea typeface="新細明體"/>
              </a:rPr>
              <a:t>Hygiene Factor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97080"/>
            <a:ext cx="7772400" cy="22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Company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Commerce 100: Canadian Busin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30A99-95E1-41CB-AFBA-5B366D7EBB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4T21:49:05Z</dcterms:created>
  <dc:creator>Michael LeRoy</dc:creator>
  <dc:description/>
  <dc:language>en-US</dc:language>
  <cp:lastModifiedBy>user</cp:lastModifiedBy>
  <dcterms:modified xsi:type="dcterms:W3CDTF">2005-03-26T02:45:47Z</dcterms:modified>
  <cp:revision>81</cp:revision>
  <dc:subject/>
  <dc:title>International Marketing</dc:title>
</cp:coreProperties>
</file>