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4CDE-D5B1-479F-BF61-0BA5519B54C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9480" y="685800"/>
            <a:ext cx="4566960" cy="3425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這是上鹽山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下不沈之海的那份舒暢與怡然自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F07-4902-4139-AD06-3D8E312B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205-1EA2-40B8-BF90-BDCF7148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021-D6AB-4F9C-A085-332E733C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912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1264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68560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74912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1264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DA06-FAC8-4FD1-8CC8-D81FC7EA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FD0E-AB5B-48BA-8D43-6540E014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FB84-E9FB-4E1E-878C-998EE85B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E5DE-4DDF-457E-920F-B33AF572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4344-C5DE-4E8F-B0A4-4283D6DD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D30D-3AF9-47C9-99B0-43D70083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AB5B-EA28-4413-839B-7DA17C09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4BB0-C6EB-4D17-BE60-88EE782F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00D-18BD-4ED3-914E-F1008B03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1A00-452F-42A5-AC39-204851B1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98B2-CF71-4280-9236-A67BC83D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2A89-F6CB-44DC-8104-0AE15D06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D63A-6780-4B2B-BB07-2E0C0C8C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912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12640" y="349200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68560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74912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812640" y="4407840"/>
            <a:ext cx="1964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900B-CEF3-4949-8A7F-96317307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2B17-D6DE-4AA5-8B93-893599F7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BFE1-38E4-477C-9B79-68FC0BA0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305-4BBF-495E-ADAF-1582375F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8FD-5D68-4A26-88BA-CAB78671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505-DCAC-4BB7-B627-A43E7251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12920" y="440784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923B-67F6-4A29-AFF2-55DF451E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8560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12920" y="3492000"/>
            <a:ext cx="2977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685600" y="4407840"/>
            <a:ext cx="610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72F-B94F-4C0F-802D-742ACEE1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06A5-4065-4A30-82B6-8E291E18665A}" type="slidenum">
              <a:rPr b="0" lang="zh-TW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7E65-2667-4639-B382-B954DD629743}" type="slidenum">
              <a:rPr b="0" lang="zh-TW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taiyengroup.com.tw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1143000"/>
            <a:ext cx="7543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cc00"/>
                </a:solidFill>
                <a:latin typeface="Arial"/>
                <a:ea typeface="標楷體"/>
              </a:rPr>
              <a:t>台鹽轉型與改造成功</a:t>
            </a:r>
            <a:br>
              <a:rPr sz="5400"/>
            </a:br>
            <a:r>
              <a:rPr b="1" lang="zh-TW" sz="5400" spc="-1" strike="noStrike">
                <a:solidFill>
                  <a:srgbClr val="ffcc00"/>
                </a:solidFill>
                <a:latin typeface="Arial"/>
                <a:ea typeface="標楷體"/>
              </a:rPr>
              <a:t>經驗分享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04760" y="3886200"/>
            <a:ext cx="610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66ff66"/>
                </a:solidFill>
                <a:latin typeface="Arial"/>
                <a:ea typeface="標楷體"/>
              </a:rPr>
              <a:t>台鹽公司董事長  鄭寶清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ff66"/>
                </a:solidFill>
                <a:latin typeface="Arial"/>
                <a:ea typeface="標楷體"/>
              </a:rPr>
              <a:t>2004</a:t>
            </a:r>
            <a:r>
              <a:rPr b="1" lang="zh-TW" sz="3600" spc="-1" strike="noStrike">
                <a:solidFill>
                  <a:srgbClr val="66ff66"/>
                </a:solidFill>
                <a:latin typeface="Arial"/>
                <a:ea typeface="標楷體"/>
              </a:rPr>
              <a:t>年</a:t>
            </a:r>
            <a:r>
              <a:rPr b="1" lang="zh-TW" sz="3600" spc="-1" strike="noStrike">
                <a:solidFill>
                  <a:srgbClr val="66ff66"/>
                </a:solidFill>
                <a:latin typeface="Arial"/>
                <a:ea typeface="標楷體"/>
              </a:rPr>
              <a:t>11</a:t>
            </a:r>
            <a:r>
              <a:rPr b="1" lang="zh-TW" sz="3600" spc="-1" strike="noStrike">
                <a:solidFill>
                  <a:srgbClr val="66ff66"/>
                </a:solidFill>
                <a:latin typeface="Arial"/>
                <a:ea typeface="標楷體"/>
              </a:rPr>
              <a:t>月</a:t>
            </a:r>
            <a:r>
              <a:rPr b="1" lang="zh-TW" sz="3600" spc="-1" strike="noStrike">
                <a:solidFill>
                  <a:srgbClr val="66ff66"/>
                </a:solidFill>
                <a:latin typeface="Arial"/>
                <a:ea typeface="標楷體"/>
              </a:rPr>
              <a:t>18</a:t>
            </a:r>
            <a:r>
              <a:rPr b="1" lang="zh-TW" sz="3600" spc="-1" strike="noStrike">
                <a:solidFill>
                  <a:srgbClr val="66ff66"/>
                </a:solidFill>
                <a:latin typeface="Arial"/>
                <a:ea typeface="標楷體"/>
              </a:rPr>
              <a:t>日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複合式經營的作法與利弊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"/>
                <a:ea typeface="標楷體"/>
              </a:rPr>
              <a:t>作法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：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使用與核心本業無關的新技術，開拓與製鹽無關的新市場，以求在短期間內擴大經營規模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"/>
                <a:ea typeface="標楷體"/>
              </a:rPr>
              <a:t>利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：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企業經營規模可能擴大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"/>
                <a:ea typeface="標楷體"/>
              </a:rPr>
              <a:t>弊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：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猶如亂槍打鳥，不易產生綜效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形成競逐資源的不利情形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D57-42E0-4A61-9016-FA039D18B64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標楷體"/>
                <a:ea typeface="標楷體"/>
              </a:rPr>
              <a:t>聚焦經營策略</a:t>
            </a:r>
            <a:r>
              <a:rPr b="0" lang="zh-TW" sz="4400" spc="-1" strike="noStrike">
                <a:solidFill>
                  <a:srgbClr val="ffcc00"/>
                </a:solidFill>
                <a:latin typeface="標楷體"/>
                <a:ea typeface="標楷體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ff66"/>
                </a:solidFill>
                <a:latin typeface="標楷體"/>
                <a:ea typeface="標楷體"/>
              </a:rPr>
              <a:t>優先鞏固核心事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原有的核心本業（工業用鹽及食用鹽品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後續進入的生技（膠原蛋白、微生物製劑）事業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漸進分割科技事業部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ff66"/>
                </a:solidFill>
                <a:latin typeface="標楷體"/>
                <a:ea typeface="標楷體"/>
              </a:rPr>
              <a:t>調整企業願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「在海水化學及生物科技（微生物製劑、膠原蛋白生醫材料、膠原蛋白化妝品）領域，成為國際市場的領導者」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542-3C86-40DC-B302-029934FD85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14475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cc00"/>
                </a:solidFill>
                <a:latin typeface="Arial"/>
                <a:ea typeface="標楷體"/>
              </a:rPr>
              <a:t>台鹽的創新構思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75600"/>
            <a:ext cx="2971800" cy="13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標楷體"/>
                <a:ea typeface="標楷體"/>
              </a:rPr>
              <a:t>企業經營的</a:t>
            </a:r>
            <a:br>
              <a:rPr sz="2800"/>
            </a:br>
            <a:r>
              <a:rPr b="1" lang="zh-TW" sz="2800" spc="-1" strike="noStrike">
                <a:solidFill>
                  <a:srgbClr val="ffcc00"/>
                </a:solidFill>
                <a:latin typeface="標楷體"/>
                <a:ea typeface="標楷體"/>
              </a:rPr>
              <a:t>鑽石理論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533520"/>
            <a:ext cx="5867280" cy="5943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990720"/>
            <a:ext cx="4952880" cy="5029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5791320"/>
            <a:ext cx="1219320" cy="68580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cc00"/>
                </a:solidFill>
                <a:latin typeface="Times New Roman"/>
                <a:ea typeface="標楷體"/>
              </a:rPr>
              <a:t>創新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cc00"/>
                </a:solidFill>
                <a:latin typeface="Times New Roman"/>
                <a:ea typeface="標楷體"/>
              </a:rPr>
              <a:t>Innov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5791320"/>
            <a:ext cx="2286000" cy="7034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=PDQS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167652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cc00"/>
                </a:solidFill>
                <a:latin typeface="Times New Roman"/>
                <a:ea typeface="標楷體"/>
              </a:rPr>
              <a:t>品質</a:t>
            </a:r>
            <a:r>
              <a:rPr b="1" lang="zh-TW" sz="2000" spc="-1" strike="noStrike">
                <a:solidFill>
                  <a:srgbClr val="ffcc00"/>
                </a:solidFill>
                <a:latin typeface="Times New Roman"/>
                <a:ea typeface="標楷體"/>
              </a:rPr>
              <a:t>Qualit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16765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cc00"/>
                </a:solidFill>
                <a:latin typeface="Times New Roman"/>
                <a:ea typeface="標楷體"/>
              </a:rPr>
              <a:t>服務</a:t>
            </a:r>
            <a:r>
              <a:rPr b="1" lang="zh-TW" sz="2000" spc="-1" strike="noStrike">
                <a:solidFill>
                  <a:srgbClr val="ffcc00"/>
                </a:solidFill>
                <a:latin typeface="Times New Roman"/>
                <a:ea typeface="標楷體"/>
              </a:rPr>
              <a:t>Servi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2743200"/>
            <a:ext cx="99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cc00"/>
                </a:solidFill>
                <a:latin typeface="Times New Roman"/>
                <a:ea typeface="標楷體"/>
              </a:rPr>
              <a:t>價格</a:t>
            </a:r>
            <a:r>
              <a:rPr b="1" lang="zh-TW" sz="2000" spc="-1" strike="noStrike">
                <a:solidFill>
                  <a:srgbClr val="ffcc00"/>
                </a:solidFill>
                <a:latin typeface="Times New Roman"/>
                <a:ea typeface="標楷體"/>
              </a:rPr>
              <a:t>Pri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2666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cc00"/>
                </a:solidFill>
                <a:latin typeface="Times New Roman"/>
                <a:ea typeface="標楷體"/>
              </a:rPr>
              <a:t>策略</a:t>
            </a:r>
            <a:r>
              <a:rPr b="1" lang="zh-TW" sz="2000" spc="-1" strike="noStrike">
                <a:solidFill>
                  <a:srgbClr val="ffcc00"/>
                </a:solidFill>
                <a:latin typeface="Times New Roman"/>
                <a:ea typeface="標楷體"/>
              </a:rPr>
              <a:t>Strateg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41911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cc00"/>
                </a:solidFill>
                <a:latin typeface="Times New Roman"/>
                <a:ea typeface="標楷體"/>
              </a:rPr>
              <a:t>速度</a:t>
            </a:r>
            <a:r>
              <a:rPr b="1" lang="zh-TW" sz="2000" spc="-1" strike="noStrike">
                <a:solidFill>
                  <a:srgbClr val="ffcc00"/>
                </a:solidFill>
                <a:latin typeface="Times New Roman"/>
                <a:ea typeface="標楷體"/>
              </a:rPr>
              <a:t>Spe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2743200"/>
            <a:ext cx="137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cc00"/>
                </a:solidFill>
                <a:latin typeface="Times New Roman"/>
                <a:ea typeface="標楷體"/>
              </a:rPr>
              <a:t>特色</a:t>
            </a:r>
            <a:r>
              <a:rPr b="1" lang="zh-TW" sz="1800" spc="-1" strike="noStrike">
                <a:solidFill>
                  <a:srgbClr val="ffcc00"/>
                </a:solidFill>
                <a:latin typeface="Times New Roman"/>
                <a:ea typeface="標楷體"/>
              </a:rPr>
              <a:t>Differen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181120" y="3048120"/>
            <a:ext cx="1219320" cy="2743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3124080"/>
            <a:ext cx="1143000" cy="2667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990720"/>
            <a:ext cx="4876560" cy="48006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0"/>
            <a:ext cx="7162920" cy="655308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3124080"/>
            <a:ext cx="685800" cy="533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791320" y="3047760"/>
            <a:ext cx="60948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274320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cc00"/>
                </a:solidFill>
                <a:latin typeface="Times New Roman"/>
                <a:ea typeface="標楷體"/>
              </a:rPr>
              <a:t>核心價值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cc00"/>
                </a:solidFill>
                <a:latin typeface="Times New Roman"/>
                <a:ea typeface="標楷體"/>
              </a:rPr>
              <a:t>Core Valu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251460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181480" y="3657600"/>
            <a:ext cx="609840" cy="21337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57200" cy="21337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038480" y="2514600"/>
            <a:ext cx="60984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2514600"/>
            <a:ext cx="838080" cy="5335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657600"/>
            <a:ext cx="10670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695-5ECE-42BC-8FC5-484F70CBB7E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962520" y="1819440"/>
            <a:ext cx="1523880" cy="106668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2895480"/>
            <a:ext cx="1523880" cy="105732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2886120"/>
            <a:ext cx="1524240" cy="107640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962520" y="2885400"/>
            <a:ext cx="1523880" cy="106668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1828800"/>
            <a:ext cx="3352680" cy="2971800"/>
          </a:xfrm>
          <a:prstGeom prst="ellipse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1447920"/>
            <a:ext cx="914400" cy="295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700000">
            <a:off x="6351840" y="3827880"/>
            <a:ext cx="459000" cy="762120"/>
          </a:xfrm>
          <a:prstGeom prst="rightArrow">
            <a:avLst>
              <a:gd name="adj1" fmla="val 50000"/>
              <a:gd name="adj2" fmla="val 21875"/>
            </a:avLst>
          </a:prstGeom>
          <a:solidFill>
            <a:srgbClr val="33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8900000">
            <a:off x="2643120" y="3746160"/>
            <a:ext cx="457200" cy="7621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99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914400"/>
            <a:ext cx="63244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3300"/>
                </a:solidFill>
                <a:latin typeface="Times New Roman"/>
                <a:ea typeface="標楷體"/>
              </a:rPr>
              <a:t>在海水化學及生物科技領域，成為國際市場的領導者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4343400"/>
            <a:ext cx="13716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3300"/>
                </a:solidFill>
                <a:latin typeface="Times New Roman"/>
                <a:ea typeface="標楷體"/>
              </a:rPr>
              <a:t>專業導向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81680" y="4419720"/>
            <a:ext cx="17528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3300"/>
                </a:solidFill>
                <a:latin typeface="Times New Roman"/>
                <a:ea typeface="標楷體"/>
              </a:rPr>
              <a:t>顧客需求導向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352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價格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3495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品質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3495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服務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3038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Times New Roman"/>
              </a:rPr>
              <a:t>創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41814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cccc"/>
                </a:solidFill>
                <a:latin typeface="Times New Roman"/>
              </a:rPr>
              <a:t>通路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51720" y="2505240"/>
            <a:ext cx="79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cccc"/>
                </a:solidFill>
                <a:latin typeface="Times New Roman"/>
              </a:rPr>
              <a:t>研發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82000" y="2505240"/>
            <a:ext cx="79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cccc"/>
                </a:solidFill>
                <a:latin typeface="Times New Roman"/>
              </a:rPr>
              <a:t>品牌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6172200"/>
            <a:ext cx="42670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~</a:t>
            </a: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創新是四大優勢的基石</a:t>
            </a: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~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4952880"/>
            <a:ext cx="373356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cccc"/>
                </a:solidFill>
                <a:latin typeface="標楷體"/>
                <a:ea typeface="標楷體"/>
              </a:rPr>
              <a:t>台鹽面對全球競爭的四大優勢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cccc"/>
                </a:solidFill>
                <a:latin typeface="標楷體"/>
                <a:ea typeface="標楷體"/>
              </a:rPr>
              <a:t>*</a:t>
            </a:r>
            <a:r>
              <a:rPr b="1" lang="zh-TW" sz="1800" spc="-1" strike="noStrike">
                <a:solidFill>
                  <a:srgbClr val="ffcccc"/>
                </a:solidFill>
                <a:latin typeface="標楷體"/>
                <a:ea typeface="標楷體"/>
              </a:rPr>
              <a:t>最低價格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cccc"/>
                </a:solidFill>
                <a:latin typeface="標楷體"/>
                <a:ea typeface="標楷體"/>
              </a:rPr>
              <a:t>*</a:t>
            </a:r>
            <a:r>
              <a:rPr b="1" lang="zh-TW" sz="1800" spc="-1" strike="noStrike">
                <a:solidFill>
                  <a:srgbClr val="ffcccc"/>
                </a:solidFill>
                <a:latin typeface="標楷體"/>
                <a:ea typeface="標楷體"/>
              </a:rPr>
              <a:t>最高品質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cccc"/>
                </a:solidFill>
                <a:latin typeface="標楷體"/>
                <a:ea typeface="標楷體"/>
              </a:rPr>
              <a:t>*</a:t>
            </a:r>
            <a:r>
              <a:rPr b="1" lang="zh-TW" sz="1800" spc="-1" strike="noStrike">
                <a:solidFill>
                  <a:srgbClr val="ffcccc"/>
                </a:solidFill>
                <a:latin typeface="標楷體"/>
                <a:ea typeface="標楷體"/>
              </a:rPr>
              <a:t>最快服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cccc"/>
                </a:solidFill>
                <a:latin typeface="標楷體"/>
                <a:ea typeface="標楷體"/>
              </a:rPr>
              <a:t>*</a:t>
            </a:r>
            <a:r>
              <a:rPr b="1" lang="zh-TW" sz="1800" spc="-1" strike="noStrike">
                <a:solidFill>
                  <a:srgbClr val="ffcccc"/>
                </a:solidFill>
                <a:latin typeface="標楷體"/>
                <a:ea typeface="標楷體"/>
              </a:rPr>
              <a:t>最大特色</a:t>
            </a:r>
            <a:r>
              <a:rPr b="1" lang="zh-TW" sz="1800" spc="-1" strike="noStrike">
                <a:solidFill>
                  <a:srgbClr val="ffcccc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ffcccc"/>
                </a:solidFill>
                <a:latin typeface="標楷體"/>
                <a:ea typeface="標楷體"/>
              </a:rPr>
              <a:t>差異化</a:t>
            </a:r>
            <a:r>
              <a:rPr b="1" lang="zh-TW" sz="1800" spc="-1" strike="noStrike">
                <a:solidFill>
                  <a:srgbClr val="ffcccc"/>
                </a:solidFill>
                <a:latin typeface="標楷體"/>
                <a:ea typeface="標楷體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228600"/>
            <a:ext cx="30477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台鹽集團競爭策略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cc00"/>
                </a:solidFill>
                <a:latin typeface="Arial"/>
                <a:ea typeface="標楷體"/>
              </a:rPr>
              <a:t>最低價格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6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最低價格：以</a:t>
            </a: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Wal-Mart</a:t>
            </a: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為例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Arial"/>
                <a:ea typeface="標楷體"/>
              </a:rPr>
              <a:t>薄利多銷</a:t>
            </a:r>
            <a:br>
              <a:rPr sz="2800"/>
            </a:b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壓低價格，擴大與競爭對手的差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Arial"/>
                <a:ea typeface="標楷體"/>
              </a:rPr>
              <a:t>創辦人山姆威頓（</a:t>
            </a:r>
            <a:r>
              <a:rPr b="1" lang="zh-TW" sz="2800" spc="-1" strike="noStrike">
                <a:solidFill>
                  <a:srgbClr val="ffcc00"/>
                </a:solidFill>
                <a:latin typeface="Arial"/>
                <a:ea typeface="標楷體"/>
              </a:rPr>
              <a:t>Sam Walton</a:t>
            </a:r>
            <a:r>
              <a:rPr b="1" lang="zh-TW" sz="2800" spc="-1" strike="noStrike">
                <a:solidFill>
                  <a:srgbClr val="ffcc00"/>
                </a:solidFill>
                <a:latin typeface="Arial"/>
                <a:ea typeface="標楷體"/>
              </a:rPr>
              <a:t>）的經營哲學：</a:t>
            </a:r>
            <a:br>
              <a:rPr sz="2800"/>
            </a:b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「從賣你東西的人那裡擠下最低的價格，把省下的錢回饋給消費者」，並打出天天低價（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Every Day Low Price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Arial"/>
                <a:ea typeface="標楷體"/>
              </a:rPr>
              <a:t>女褲理論</a:t>
            </a:r>
            <a:br>
              <a:rPr sz="2800"/>
            </a:b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女褲的進價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0.8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美元，售價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1.2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美元。如果降價到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1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美元，會少賺一半的錢，但卻能賣出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3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倍的貨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6AA-0398-439B-85DF-16EE4A3464A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最低價格：以</a:t>
            </a: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IKEA</a:t>
            </a: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為例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209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傢具皇帝坎普拉說：</a:t>
            </a:r>
            <a:br>
              <a:rPr sz="2400"/>
            </a:br>
            <a:r>
              <a:rPr b="1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我這輩子最大的目標是想證明：</a:t>
            </a:r>
            <a:r>
              <a:rPr b="1" lang="zh-TW" sz="2400" spc="-1" strike="noStrike" u="sng">
                <a:solidFill>
                  <a:srgbClr val="ffcccc"/>
                </a:solidFill>
                <a:uFillTx/>
                <a:latin typeface="Arial"/>
                <a:ea typeface="標楷體"/>
              </a:rPr>
              <a:t>一件精美實用的東西，不見得一定要貴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。凡對消費者有益的，就長期來說，也必然有益於我們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"/>
                <a:ea typeface="標楷體"/>
              </a:rPr>
              <a:t>經營理念</a:t>
            </a:r>
            <a:br>
              <a:rPr sz="2400"/>
            </a:br>
            <a:r>
              <a:rPr b="1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我們要以最低廉的價格，提供一系列種類齊全、設計精良、實用可靠的家庭裝潢產品，使最大多數民眾負擔得起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cccc"/>
                </a:solidFill>
                <a:uFillTx/>
                <a:latin typeface="Arial"/>
                <a:ea typeface="標楷體"/>
              </a:rPr>
              <a:t>我們的價格與競爭對手比較起來，務須有明顯價差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；每個商品區，一定要有「令人屏息的特價品」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"/>
                <a:ea typeface="標楷體"/>
              </a:rPr>
              <a:t>經營方式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1.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先訂價格再設計製造，創造有意義的低價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2.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訂出比同類商品低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30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％～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50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％價差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3.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善用所有材料，兼顧產品美觀實用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4.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不做組裝，節省運費及工資</a:t>
            </a:r>
            <a:br>
              <a:rPr sz="2400"/>
            </a:b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5.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採大賣場，少用售貨員及折扣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2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848D-5868-4612-B73F-349CC8B2CE8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cc00"/>
                </a:solidFill>
                <a:latin typeface="Arial"/>
                <a:ea typeface="標楷體"/>
              </a:rPr>
              <a:t>最低價格：以台鹽為例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4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78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最低價格：停止晒鹽之效益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680" y="2398680"/>
          <a:ext cx="7941960" cy="3619440"/>
        </p:xfrm>
        <a:graphic>
          <a:graphicData uri="http://schemas.openxmlformats.org/drawingml/2006/table">
            <a:tbl>
              <a:tblPr/>
              <a:tblGrid>
                <a:gridCol w="1733040"/>
                <a:gridCol w="1734120"/>
                <a:gridCol w="2221560"/>
                <a:gridCol w="2253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年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度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產量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（公噸）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每公噸盈虧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（元</a:t>
                      </a: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/</a:t>
                      </a: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噸）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盈虧金額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（萬元）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88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74,873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-3,196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-23,929.4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8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49,641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-6,347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-31,507.1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66,148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-2,597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-17,178.6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9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56,134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-2,114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-11,866.7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246,796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-14,254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 u="sng">
                          <a:solidFill>
                            <a:srgbClr val="ffcccc"/>
                          </a:solidFill>
                          <a:uFillTx/>
                          <a:latin typeface="Arial"/>
                          <a:ea typeface="標楷體"/>
                        </a:rPr>
                        <a:t>-84,481.8</a:t>
                      </a:r>
                      <a:r>
                        <a:rPr b="0" lang="zh-TW" sz="2800" spc="-1" strike="noStrike">
                          <a:solidFill>
                            <a:srgbClr val="ffffcc"/>
                          </a:solidFill>
                          <a:latin typeface="Arial"/>
                          <a:ea typeface="標楷體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762120" y="12193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91</a:t>
            </a: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年</a:t>
            </a: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6</a:t>
            </a: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月起不再晒鹽，</a:t>
            </a:r>
            <a:r>
              <a:rPr b="1" lang="zh-TW" sz="2800" spc="-1" strike="noStrike">
                <a:solidFill>
                  <a:srgbClr val="ffcc00"/>
                </a:solidFill>
                <a:latin typeface="標楷體"/>
                <a:ea typeface="標楷體"/>
              </a:rPr>
              <a:t>每年</a:t>
            </a: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減少虧損近</a:t>
            </a: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2</a:t>
            </a: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億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5317920" cy="3988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88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～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91</a:t>
            </a:r>
            <a:r>
              <a:rPr b="1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年自產晒鹽盈虧統計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9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7264-ADD2-41B5-A7E9-580EC2ABBED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cc00"/>
                </a:solidFill>
                <a:latin typeface="Arial"/>
                <a:ea typeface="標楷體"/>
              </a:rPr>
              <a:t>綱要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34680" y="20174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全球化下之</a:t>
            </a:r>
            <a:r>
              <a:rPr b="1" lang="zh-TW" sz="3200" spc="-1" strike="noStrike" u="sng">
                <a:solidFill>
                  <a:srgbClr val="ffffcc"/>
                </a:solidFill>
                <a:uFillTx/>
                <a:latin typeface="Arial"/>
                <a:ea typeface="標楷體"/>
              </a:rPr>
              <a:t>微利超競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台鹽的轉型與改造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多角化變革歷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創新經營構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「鑽石理論」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建立四大優勢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結語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2E5-7523-4AD0-A728-6BD970E9A0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最低價格：每年節省費用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洗滌鹽運輸合理化：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2,195.6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萬元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精鹽運輸合理化：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356.2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萬元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鐵公路運鹽耗損減少：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1,573.6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萬元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裝卸費用之節省：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840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萬元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倉租費之節省：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240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萬元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相關作業人員簡省：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800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萬元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合計：</a:t>
            </a:r>
            <a:r>
              <a:rPr b="1" lang="zh-TW" sz="3200" spc="-1" strike="noStrike" u="sng">
                <a:solidFill>
                  <a:srgbClr val="ffcccc"/>
                </a:solidFill>
                <a:uFillTx/>
                <a:latin typeface="Arial"/>
                <a:ea typeface="標楷體"/>
              </a:rPr>
              <a:t>6,205.4</a:t>
            </a:r>
            <a:r>
              <a:rPr b="0" lang="zh-TW" sz="3200" spc="-1" strike="noStrike" u="sng">
                <a:solidFill>
                  <a:srgbClr val="ffcccc"/>
                </a:solidFill>
                <a:uFillTx/>
                <a:latin typeface="Arial"/>
                <a:ea typeface="標楷體"/>
              </a:rPr>
              <a:t>萬元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2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389-E7D3-4D25-8185-751DA5EEF21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最低價格：推動降低成本活動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每月降低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3%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成本，每年約可節省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1.43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億元</a:t>
            </a:r>
            <a:br>
              <a:rPr sz="3200"/>
            </a:b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項目包括：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生產成本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管理費用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營業支出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推動通霄廠再生計畫以大幅降低生產成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鹽品開放後，應具市場競爭力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5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972-BC65-46CF-A3A7-637A40BE86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14475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cc00"/>
                </a:solidFill>
                <a:latin typeface="Arial"/>
                <a:ea typeface="標楷體"/>
              </a:rPr>
              <a:t>最高品質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07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最高品質：以海爾為例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經營理念：第一次就把事情做好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仿效奇異實行六標準差管理方法：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那怕產品返修率只有千分之一，對用戶來說就是百分之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創名牌：核心在於產品的高品質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產品缺陷等於廢品：將庫存中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76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台不合格冰箱全部砸毀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0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4CA-2B26-43D9-9034-65409E79385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7160" y="4402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最高品質：以台鹽為例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12952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ffcccc"/>
                </a:solidFill>
                <a:uFillTx/>
                <a:latin typeface="Arial"/>
                <a:ea typeface="標楷體"/>
              </a:rPr>
              <a:t>不是好東西，不推出；不是完品，不上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cc00"/>
                </a:solidFill>
                <a:latin typeface="Arial"/>
                <a:ea typeface="標楷體"/>
              </a:rPr>
              <a:t>鹼性離子水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之水分子更小，具有防制癌症、骨質疏鬆、尿酸痛風、蟲咬等功能，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2004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年熱賣到缺貨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cc00"/>
                </a:solidFill>
                <a:latin typeface="Arial"/>
                <a:ea typeface="標楷體"/>
              </a:rPr>
              <a:t>台鹽海洋生成水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是最小的水分子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(200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奈米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) 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，有任何瑕疵一律丟棄。獲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2001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台灣區職業高爾夫球巡迴賽及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2002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台灣（職棒）大聯盟指定用水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cc00"/>
                </a:solidFill>
                <a:latin typeface="Arial"/>
                <a:ea typeface="標楷體"/>
              </a:rPr>
              <a:t>綠迷雅化妝品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採用醫藥級原料且與獲美國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FDA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認證廠商技術合作，並採用奈米級的技術生產；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2003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年獲國家生醫策進會評鑑為</a:t>
            </a: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「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 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2003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國家生技醫療品質金獎</a:t>
            </a:r>
            <a:r>
              <a:rPr b="0" lang="zh-TW" sz="2000" spc="-1" strike="noStrike">
                <a:solidFill>
                  <a:srgbClr val="ffffcc"/>
                </a:solidFill>
                <a:latin typeface="標楷體"/>
                <a:ea typeface="標楷體"/>
              </a:rPr>
              <a:t>」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cc00"/>
                </a:solidFill>
                <a:latin typeface="Arial"/>
                <a:ea typeface="標楷體"/>
              </a:rPr>
              <a:t>蓓舒美洗面乳系列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(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含洗面乳、沐浴乳、洗髮乳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)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及膠原蛋白創傷覆蓋材獲得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2002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國家生技醫療品質獎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cc00"/>
                </a:solidFill>
                <a:latin typeface="Arial"/>
                <a:ea typeface="標楷體"/>
              </a:rPr>
              <a:t>低鈉鹽及藻醬油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，獲台灣新生報第十三屆「中華民國優良食品評鑑會」優良產品；</a:t>
            </a:r>
            <a:r>
              <a:rPr b="0" lang="zh-TW" sz="2000" spc="-1" strike="noStrike">
                <a:solidFill>
                  <a:srgbClr val="ffcc00"/>
                </a:solidFill>
                <a:latin typeface="Arial"/>
                <a:ea typeface="標楷體"/>
              </a:rPr>
              <a:t>美味鹽及藻精飲料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，獲中時晚報第一屆「食品金質獎」優良產品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cc00"/>
                </a:solidFill>
                <a:latin typeface="Arial"/>
                <a:ea typeface="標楷體"/>
              </a:rPr>
              <a:t>納豆藍藻素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，通過「 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2004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國家生技醫療品質金獎」評鑑 ，並榮獲「國家品質標章」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3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84C5-D16E-48CD-AAD3-5A161E7F585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7160" y="574920"/>
            <a:ext cx="86374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cc00"/>
                </a:solidFill>
                <a:latin typeface="Arial"/>
                <a:ea typeface="標楷體"/>
              </a:rPr>
              <a:t>最高品質：以台鹽為例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88520" y="2246400"/>
            <a:ext cx="802332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cc"/>
                </a:solidFill>
                <a:latin typeface="Arial"/>
                <a:ea typeface="標楷體"/>
              </a:rPr>
              <a:t>推動六標準差：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良率最高、零缺點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91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年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9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月起至今，生技一廠產品合格率維持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100%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台鹽海洋生成水生菌數已達每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cc.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小於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1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個（以往國家標準為每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cc.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小於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200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個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6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845-67F6-4D2B-94AD-C7C06936FF8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236232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cc00"/>
                </a:solidFill>
                <a:latin typeface="Arial"/>
                <a:ea typeface="標楷體"/>
              </a:rPr>
              <a:t>最快服務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18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6160" y="7596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最快服務：以</a:t>
            </a: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Wal-Mart</a:t>
            </a: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為例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經營理念：</a:t>
            </a:r>
            <a:br>
              <a:rPr sz="2800"/>
            </a:b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只要商店能夠提供</a:t>
            </a:r>
            <a:r>
              <a:rPr b="0" lang="zh-TW" sz="2800" spc="-1" strike="noStrike" u="sng">
                <a:solidFill>
                  <a:srgbClr val="ffcc00"/>
                </a:solidFill>
                <a:uFillTx/>
                <a:latin typeface="Arial"/>
                <a:ea typeface="標楷體"/>
              </a:rPr>
              <a:t>最齊全的商品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、</a:t>
            </a:r>
            <a:r>
              <a:rPr b="0" lang="zh-TW" sz="2800" spc="-1" strike="noStrike" u="sng">
                <a:solidFill>
                  <a:srgbClr val="ffcc00"/>
                </a:solidFill>
                <a:uFillTx/>
                <a:latin typeface="Arial"/>
                <a:ea typeface="標楷體"/>
              </a:rPr>
              <a:t>最好的服務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，顧客就會蜂擁而至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對員工的兩條要求：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00"/>
                </a:solidFill>
                <a:latin typeface="Arial"/>
                <a:ea typeface="標楷體"/>
              </a:rPr>
              <a:t>太陽下山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：指每個員工都必須在太陽下山之前完成自己當天的任務，如果顧客提出要求，也必須在太陽下山之前滿足顧客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00"/>
                </a:solidFill>
                <a:latin typeface="Arial"/>
                <a:ea typeface="標楷體"/>
              </a:rPr>
              <a:t>10</a:t>
            </a:r>
            <a:r>
              <a:rPr b="0" lang="zh-TW" sz="2400" spc="-1" strike="noStrike">
                <a:solidFill>
                  <a:srgbClr val="ffcc00"/>
                </a:solidFill>
                <a:latin typeface="Arial"/>
                <a:ea typeface="標楷體"/>
              </a:rPr>
              <a:t>英呎態度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：當顧客走進員工所處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10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英呎的範圍內時，員工就必須主動地詢問顧客有什麼要求，而且說話時必須注視顧客的眼睛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1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8F5-1DB3-45BB-A188-37119D2C5F5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最快服務：以海爾為例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00"/>
                </a:solidFill>
                <a:latin typeface="Arial"/>
                <a:ea typeface="標楷體"/>
              </a:rPr>
              <a:t>毛宗良的故事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-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用戶永遠是對的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cc00"/>
                </a:solidFill>
                <a:latin typeface="Arial"/>
                <a:ea typeface="標楷體"/>
              </a:rPr>
              <a:t>零距離的服務模式</a:t>
            </a:r>
            <a:br>
              <a:rPr sz="3200"/>
            </a:b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心與心的零距離，只有企業與員工的心是零距離，員工才能和用戶的心是零距離，真正做到賣一台產品贏得一顆用戶的心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4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17F-45FA-495C-83EB-CA3E461E0D3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最快服務：以台鹽為例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8320" y="1066320"/>
            <a:ext cx="8815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客戶的抱怨是天使的聲音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cccc"/>
                </a:solidFill>
                <a:uFillTx/>
                <a:latin typeface="Arial"/>
                <a:ea typeface="標楷體"/>
              </a:rPr>
              <a:t>客服信念</a:t>
            </a:r>
            <a:r>
              <a:rPr b="0" lang="zh-TW" sz="2800" spc="-1" strike="noStrike" u="sng">
                <a:solidFill>
                  <a:srgbClr val="ffcccc"/>
                </a:solidFill>
                <a:uFillTx/>
                <a:latin typeface="Arial"/>
                <a:ea typeface="標楷體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00"/>
                </a:solidFill>
                <a:latin typeface="Arial"/>
                <a:ea typeface="標楷體"/>
              </a:rPr>
              <a:t>客戶是台鹽唯一的老闆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。在服務顧客上，本公司抱持著用最低價格、最好品質、最新創意的信念服務顧客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在客服小組設立顧客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24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小時服務專線</a:t>
            </a:r>
            <a:r>
              <a:rPr b="0" lang="zh-TW" sz="2400" spc="-1" strike="noStrike">
                <a:solidFill>
                  <a:srgbClr val="ffcc00"/>
                </a:solidFill>
                <a:latin typeface="Arial"/>
                <a:ea typeface="標楷體"/>
              </a:rPr>
              <a:t>0800-230-99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一級正、副主管</a:t>
            </a:r>
            <a:r>
              <a:rPr b="0" lang="zh-TW" sz="2400" spc="-1" strike="noStrike">
                <a:solidFill>
                  <a:srgbClr val="ffcc00"/>
                </a:solidFill>
                <a:latin typeface="Arial"/>
                <a:ea typeface="標楷體"/>
              </a:rPr>
              <a:t>24</a:t>
            </a:r>
            <a:r>
              <a:rPr b="0" lang="zh-TW" sz="2400" spc="-1" strike="noStrike">
                <a:solidFill>
                  <a:srgbClr val="ffcc00"/>
                </a:solidFill>
                <a:latin typeface="Arial"/>
                <a:ea typeface="標楷體"/>
              </a:rPr>
              <a:t>小時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為顧客開機等待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網路上任何意見反應，各單位在</a:t>
            </a:r>
            <a:r>
              <a:rPr b="0" lang="zh-TW" sz="2400" spc="-1" strike="noStrike">
                <a:solidFill>
                  <a:srgbClr val="ffcc00"/>
                </a:solidFill>
                <a:latin typeface="Arial"/>
                <a:ea typeface="標楷體"/>
              </a:rPr>
              <a:t>一小時內作具體回復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全台各地客戶訂購本公司綠迷雅產品，</a:t>
            </a:r>
            <a:r>
              <a:rPr b="0" lang="zh-TW" sz="2400" spc="-1" strike="noStrike">
                <a:solidFill>
                  <a:srgbClr val="ffcc00"/>
                </a:solidFill>
                <a:latin typeface="Arial"/>
                <a:ea typeface="標楷體"/>
              </a:rPr>
              <a:t>即使是一瓶，亦可派員送達；無效保證退錢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以客為尊、超越顧客要求、</a:t>
            </a:r>
            <a:r>
              <a:rPr b="0" lang="zh-TW" sz="2400" spc="-1" strike="noStrike">
                <a:solidFill>
                  <a:srgbClr val="ffcc00"/>
                </a:solidFill>
                <a:latin typeface="Arial"/>
                <a:ea typeface="標楷體"/>
              </a:rPr>
              <a:t>要寵愛顧客，更要寵壞顧客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派員追蹤國內外客戶申訴辦理進度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獲第七屆中華民國優良企業商品</a:t>
            </a:r>
            <a:r>
              <a:rPr b="0" lang="zh-TW" sz="2800" spc="-1" strike="noStrike">
                <a:solidFill>
                  <a:srgbClr val="ffcc00"/>
                </a:solidFill>
                <a:latin typeface="Arial"/>
                <a:ea typeface="標楷體"/>
              </a:rPr>
              <a:t>顧客滿意度金質獎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7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64C-25D2-4250-8124-D342DC3F221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95280" y="609480"/>
            <a:ext cx="586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cc00"/>
                </a:solidFill>
                <a:latin typeface="Arial"/>
                <a:ea typeface="標楷體"/>
              </a:rPr>
              <a:t>經貿全球化時代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8680" y="2322360"/>
            <a:ext cx="820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標楷體"/>
              </a:rPr>
              <a:t>我國於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標楷體"/>
              </a:rPr>
              <a:t>2002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標楷體"/>
              </a:rPr>
              <a:t>年加入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標楷體"/>
              </a:rPr>
              <a:t>WTO 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標楷體"/>
              </a:rPr>
              <a:t>，對國內經濟及產業帶來深遠的影響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標楷體"/>
              </a:rPr>
              <a:t>WTO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標楷體"/>
              </a:rPr>
              <a:t>已經成為國際經貿體系的總樞紐，涵括全球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標楷體"/>
              </a:rPr>
              <a:t>90%</a:t>
            </a:r>
            <a:r>
              <a:rPr b="0" lang="zh-TW" sz="3600" spc="-1" strike="noStrike">
                <a:solidFill>
                  <a:srgbClr val="ffffff"/>
                </a:solidFill>
                <a:latin typeface="Arial"/>
                <a:ea typeface="標楷體"/>
              </a:rPr>
              <a:t>以上貿易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BE1-6F01-4397-B315-02DDCF350E2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 spd="med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cc00"/>
                </a:solidFill>
                <a:latin typeface="Arial"/>
                <a:ea typeface="標楷體"/>
              </a:rPr>
              <a:t>最大特色（差異化）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29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7160" y="574920"/>
            <a:ext cx="86374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cc00"/>
                </a:solidFill>
                <a:latin typeface="Arial"/>
                <a:ea typeface="標楷體"/>
              </a:rPr>
              <a:t>差異化成功的案例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3840" y="2398680"/>
            <a:ext cx="6278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名畫、鑽石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史波力休旅車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衣蝶百貨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2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C8A-12F8-4F03-AACF-B6AD8226E47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690840"/>
            <a:ext cx="86500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cc00"/>
                </a:solidFill>
                <a:latin typeface="Arial"/>
                <a:ea typeface="標楷體"/>
              </a:rPr>
              <a:t>台鹽產品的差異化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生產最有特色產品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綠迷雅系列化妝品採用醫藥級且與獲美國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FDA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認證廠商技術合作，並採用奈米級的技術生產，與類似品顯著不同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台鹽海洋生成水、鹼性離子經電透析等九道製程，是台灣唯一海洋水，且屬分子最小之飲用水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台鹽四寶採用海鹽精製，具最佳保養及清潔效果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cccc"/>
                </a:solidFill>
                <a:uFillTx/>
                <a:latin typeface="Arial"/>
                <a:ea typeface="標楷體"/>
              </a:rPr>
              <a:t>不沉之海係台灣唯一含大量礦物質之美體</a:t>
            </a:r>
            <a:r>
              <a:rPr b="0" lang="zh-TW" sz="2800" spc="-1" strike="noStrike" u="sng">
                <a:solidFill>
                  <a:srgbClr val="ffcccc"/>
                </a:solidFill>
                <a:uFillTx/>
                <a:latin typeface="Arial"/>
                <a:ea typeface="標楷體"/>
              </a:rPr>
              <a:t>SP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5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34E-8305-42C7-9F5F-F9F2D7455A8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531000"/>
            <a:ext cx="31240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cc00"/>
                </a:solidFill>
                <a:latin typeface="Arial"/>
                <a:ea typeface="標楷體"/>
              </a:rPr>
              <a:t>不沉之海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57800" y="4495680"/>
            <a:ext cx="3657600" cy="1323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「不沉之海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接吻比賽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8" name="920906-第一屆不沉之海接吻比賽實景之二" descr=""/>
          <p:cNvPicPr/>
          <p:nvPr/>
        </p:nvPicPr>
        <p:blipFill>
          <a:blip r:embed="rId2"/>
          <a:stretch/>
        </p:blipFill>
        <p:spPr>
          <a:xfrm>
            <a:off x="0" y="28195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239" name="920829-kiss-b" descr=""/>
          <p:cNvPicPr/>
          <p:nvPr/>
        </p:nvPicPr>
        <p:blipFill>
          <a:blip r:embed="rId3"/>
          <a:stretch/>
        </p:blipFill>
        <p:spPr>
          <a:xfrm>
            <a:off x="3733920" y="228600"/>
            <a:ext cx="5410080" cy="33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562-8AE2-49F3-A6B7-1C39C74FBEA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不沉正dm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716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0F0-9BCD-4646-B4DD-A7726AF8DC72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608400"/>
            <a:ext cx="186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00"/>
                </a:solidFill>
                <a:latin typeface="Arial"/>
                <a:ea typeface="標楷體"/>
              </a:rPr>
              <a:t>鹽雕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4800600"/>
            <a:ext cx="3657600" cy="581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第二屆</a:t>
            </a: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「國際鹽雕大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賽</a:t>
            </a:r>
            <a:r>
              <a:rPr b="0" lang="zh-TW" sz="3200" spc="-1" strike="noStrike">
                <a:solidFill>
                  <a:srgbClr val="ffffcc"/>
                </a:solidFill>
                <a:latin typeface="標楷體"/>
                <a:ea typeface="標楷體"/>
              </a:rPr>
              <a:t>」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作品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3" name="第二屆第一名" descr=""/>
          <p:cNvPicPr/>
          <p:nvPr/>
        </p:nvPicPr>
        <p:blipFill>
          <a:blip r:embed="rId2"/>
          <a:stretch/>
        </p:blipFill>
        <p:spPr>
          <a:xfrm>
            <a:off x="4191120" y="914400"/>
            <a:ext cx="4647960" cy="3657600"/>
          </a:xfrm>
          <a:prstGeom prst="rect">
            <a:avLst/>
          </a:prstGeom>
          <a:ln w="0">
            <a:noFill/>
          </a:ln>
        </p:spPr>
      </p:pic>
      <p:pic>
        <p:nvPicPr>
          <p:cNvPr id="244" name="第二屆第二名" descr=""/>
          <p:cNvPicPr/>
          <p:nvPr/>
        </p:nvPicPr>
        <p:blipFill>
          <a:blip r:embed="rId3"/>
          <a:stretch/>
        </p:blipFill>
        <p:spPr>
          <a:xfrm>
            <a:off x="304920" y="2664000"/>
            <a:ext cx="4343400" cy="325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07A-4D21-4941-853B-A83D3F8E03E5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DSC01303" descr=""/>
          <p:cNvPicPr/>
          <p:nvPr/>
        </p:nvPicPr>
        <p:blipFill>
          <a:blip r:embed="rId2"/>
          <a:stretch/>
        </p:blipFill>
        <p:spPr>
          <a:xfrm>
            <a:off x="3505320" y="0"/>
            <a:ext cx="5638680" cy="3741840"/>
          </a:xfrm>
          <a:prstGeom prst="rect">
            <a:avLst/>
          </a:prstGeom>
          <a:ln w="0">
            <a:noFill/>
          </a:ln>
        </p:spPr>
      </p:pic>
      <p:pic>
        <p:nvPicPr>
          <p:cNvPr id="246" name="IMG_3598" descr=""/>
          <p:cNvPicPr/>
          <p:nvPr/>
        </p:nvPicPr>
        <p:blipFill>
          <a:blip r:embed="rId3"/>
          <a:stretch/>
        </p:blipFill>
        <p:spPr>
          <a:xfrm>
            <a:off x="0" y="2911320"/>
            <a:ext cx="5638680" cy="3303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28600" y="6094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ccff"/>
                </a:solidFill>
                <a:latin typeface="Times New Roman"/>
                <a:ea typeface="標楷體"/>
              </a:rPr>
              <a:t>鹽山之旅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1752480"/>
            <a:ext cx="25146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d4d4d"/>
                </a:solidFill>
                <a:latin typeface="Times New Roman"/>
                <a:ea typeface="標楷體"/>
              </a:rPr>
              <a:t>土瓦魯總理一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19810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86600" y="4724280"/>
            <a:ext cx="167652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d4d4d"/>
                </a:solidFill>
                <a:latin typeface="Times New Roman"/>
                <a:ea typeface="標楷體"/>
              </a:rPr>
              <a:t>瓜國總統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4876920"/>
            <a:ext cx="609480" cy="152280"/>
          </a:xfrm>
          <a:prstGeom prst="leftArrow">
            <a:avLst>
              <a:gd name="adj1" fmla="val 50000"/>
              <a:gd name="adj2" fmla="val 100059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4DC-BBAC-4141-9DC7-61E9021A9E51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8600" y="3808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ccff"/>
                </a:solidFill>
                <a:latin typeface="Times New Roman"/>
                <a:ea typeface="標楷體"/>
              </a:rPr>
              <a:t>鹽山之旅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1447920"/>
            <a:ext cx="25146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d4d4d"/>
                </a:solidFill>
                <a:latin typeface="Times New Roman"/>
                <a:ea typeface="標楷體"/>
              </a:rPr>
              <a:t>泰國上議院一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19920" y="4419720"/>
            <a:ext cx="2514600" cy="1015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d4d4d"/>
                </a:solidFill>
                <a:latin typeface="Times New Roman"/>
                <a:ea typeface="標楷體"/>
              </a:rPr>
              <a:t>塞內加爾共和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d4d4d"/>
                </a:solidFill>
                <a:latin typeface="Times New Roman"/>
                <a:ea typeface="標楷體"/>
              </a:rPr>
              <a:t>國會議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5" name="DSC00003" descr=""/>
          <p:cNvPicPr/>
          <p:nvPr/>
        </p:nvPicPr>
        <p:blipFill>
          <a:blip r:embed="rId2"/>
          <a:stretch/>
        </p:blipFill>
        <p:spPr>
          <a:xfrm>
            <a:off x="0" y="2666880"/>
            <a:ext cx="5334120" cy="3581640"/>
          </a:xfrm>
          <a:prstGeom prst="rect">
            <a:avLst/>
          </a:prstGeom>
          <a:ln w="0">
            <a:noFill/>
          </a:ln>
        </p:spPr>
      </p:pic>
      <p:pic>
        <p:nvPicPr>
          <p:cNvPr id="256" name="DSC00001" descr=""/>
          <p:cNvPicPr/>
          <p:nvPr/>
        </p:nvPicPr>
        <p:blipFill>
          <a:blip r:embed="rId3"/>
          <a:stretch/>
        </p:blipFill>
        <p:spPr>
          <a:xfrm>
            <a:off x="3505320" y="0"/>
            <a:ext cx="5638680" cy="3276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371600" y="20574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62920" y="380988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94F-93D9-46E5-BDDE-328929974408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1400" y="436680"/>
            <a:ext cx="302724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cc00"/>
                </a:solidFill>
                <a:latin typeface="Arial"/>
                <a:ea typeface="標楷體"/>
              </a:rPr>
              <a:t>鹽山雪人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60" name="王總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815328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64F-1858-441D-B40A-564FFB20B2D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220968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66ff66"/>
                </a:solidFill>
                <a:latin typeface="Arial"/>
                <a:ea typeface="標楷體"/>
              </a:rPr>
              <a:t>創新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505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創新團隊是企業發展最重要的基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3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759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全球化風潮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c00"/>
                </a:solidFill>
                <a:latin typeface="Arial"/>
                <a:ea typeface="標楷體"/>
              </a:rPr>
              <a:t>全球化的影響</a:t>
            </a:r>
            <a:br>
              <a:rPr sz="2800"/>
            </a:b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全球的經濟在關稅壁壘消除與資訊科技的配合下，使得資本、技術與工作機會都將為了追求最大獲利機會，而在世界各國迅速移動 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c00"/>
                </a:solidFill>
                <a:latin typeface="Arial"/>
                <a:ea typeface="標楷體"/>
              </a:rPr>
              <a:t>企業的因應對策</a:t>
            </a:r>
            <a:br>
              <a:rPr sz="2800"/>
            </a:b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隨著加入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WTO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及全球化的快速發展，國內投資環境已快速改變，企業必須快速調整其經營策略加以因應，否則就有被淘汰之虞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c00"/>
                </a:solidFill>
                <a:latin typeface="Arial"/>
                <a:ea typeface="標楷體"/>
              </a:rPr>
              <a:t>彼得杜拉克說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：我們若無法阻擋變革，就只能走在變革之前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logo%20A-1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60020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B916-4367-4854-81CC-526C77E3DF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04560" y="1905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"/>
                <a:ea typeface="標楷體"/>
              </a:rPr>
              <a:t>熊彼得</a:t>
            </a:r>
            <a:r>
              <a:rPr b="1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：創新是資本主義發展的動力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"/>
                <a:ea typeface="標楷體"/>
              </a:rPr>
              <a:t>彼得杜拉克</a:t>
            </a:r>
            <a:r>
              <a:rPr b="1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：創新及企業家精神是取得競爭優勢不二法門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"/>
                <a:ea typeface="標楷體"/>
              </a:rPr>
              <a:t>麥克波特</a:t>
            </a:r>
            <a:r>
              <a:rPr b="1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：產業發展要由投資導向，轉為創新導向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53100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大師的箴言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6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CA9-42B7-454D-A7BC-89D77CE1854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split dir="in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820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ff66"/>
                </a:solidFill>
                <a:latin typeface="Arial"/>
                <a:ea typeface="標楷體"/>
              </a:rPr>
              <a:t>猛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00"/>
                </a:solidFill>
                <a:latin typeface="Arial"/>
                <a:ea typeface="標楷體"/>
              </a:rPr>
              <a:t>重賞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鼓勵創新；重賞有成效創新者、中賞一般創新者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00"/>
                </a:solidFill>
                <a:latin typeface="Arial"/>
                <a:ea typeface="標楷體"/>
              </a:rPr>
              <a:t>重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不對不罰；不創新者罰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ff66"/>
                </a:solidFill>
                <a:latin typeface="Arial"/>
                <a:ea typeface="標楷體"/>
              </a:rPr>
              <a:t>難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『製造困難、形成壓力』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斷生機、求生路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生於憂患、死於安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嚴師出高徒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533520" y="60804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cc00"/>
                </a:solidFill>
                <a:latin typeface="Arial"/>
                <a:ea typeface="標楷體"/>
              </a:rPr>
              <a:t>成功的創新守則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69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B8E-693C-4989-AD4B-77424C1761E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split dir="in" orient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320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cc00"/>
                </a:solidFill>
                <a:latin typeface="Arial"/>
                <a:ea typeface="標楷體"/>
              </a:rPr>
              <a:t>成功的創新守則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ff66"/>
                </a:solidFill>
                <a:latin typeface="Arial"/>
                <a:ea typeface="標楷體"/>
              </a:rPr>
              <a:t>辣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有些狂野、有些放蕩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堅持最後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跳出框架、對錯、愚智之外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ff66"/>
                </a:solidFill>
                <a:latin typeface="Arial"/>
                <a:ea typeface="標楷體"/>
              </a:rPr>
              <a:t>魅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有格調、有主見、有方向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有型、有味、有專業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2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87BC-5240-40BA-A6BE-6640D42642C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17160" y="497160"/>
            <a:ext cx="86374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cc00"/>
                </a:solidFill>
                <a:latin typeface="Arial"/>
                <a:ea typeface="標楷體"/>
              </a:rPr>
              <a:t>創新的驅動力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8680" y="2398320"/>
            <a:ext cx="820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向全球進軍，否則老化、凋零、沒落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成長第一，只要持續成長，利潤就會跟著出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自己不淘汰自己，就會被別人淘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5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B5B-7AA0-452C-BDE1-1582D209903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randomBa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台鹽創新的誘因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台鹽是世界上最渴望尋找偉大創新的公司之一，且毫不膽怯，毫不遲疑採用這些創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員工挑戰創意基金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ff66"/>
                </a:solidFill>
                <a:latin typeface="Arial"/>
                <a:ea typeface="標楷體"/>
              </a:rPr>
              <a:t>成立一千萬元之「點鹽成金、挑戰創意基金 」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00"/>
                </a:solidFill>
                <a:latin typeface="Arial"/>
                <a:ea typeface="標楷體"/>
              </a:rPr>
              <a:t>創新獎勵</a:t>
            </a:r>
            <a:br>
              <a:rPr sz="2000"/>
            </a:b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以其所創造之年平均獲利之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10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％撥發獎金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(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每項最高每年發給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200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萬元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)</a:t>
            </a: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，並得每年撥發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00"/>
                </a:solidFill>
                <a:latin typeface="Arial"/>
                <a:ea typeface="標楷體"/>
              </a:rPr>
              <a:t>專利獎勵</a:t>
            </a:r>
            <a:br>
              <a:rPr sz="2000"/>
            </a:b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如取得專利者，再另加發專利獎勵</a:t>
            </a:r>
            <a:br>
              <a:rPr sz="2000"/>
            </a:br>
            <a:r>
              <a:rPr b="0" lang="zh-TW" sz="2000" spc="-1" strike="noStrike">
                <a:solidFill>
                  <a:srgbClr val="ffffcc"/>
                </a:solidFill>
                <a:latin typeface="Arial"/>
                <a:ea typeface="標楷體"/>
              </a:rPr>
              <a:t>獲國內、外專利者，再加發之專利獎勵以兩百萬元為上限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00"/>
                </a:solidFill>
                <a:latin typeface="Arial"/>
                <a:ea typeface="標楷體"/>
              </a:rPr>
              <a:t>新產品獎勵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Times New Roman"/>
                <a:ea typeface="標楷體"/>
              </a:rPr>
              <a:t>    </a:t>
            </a:r>
            <a:r>
              <a:rPr b="0" lang="zh-TW" sz="2000" spc="-1" strike="noStrike">
                <a:solidFill>
                  <a:srgbClr val="ffffcc"/>
                </a:solidFill>
                <a:latin typeface="Times New Roman"/>
                <a:ea typeface="標楷體"/>
              </a:rPr>
              <a:t>為優先鼓勵新產品創新，凡提報新產品會議並獲列入開發清單者，俟開發完成並經該會議確認者，即核定撥發部分獎勵金予發明人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8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852-46FE-4666-8117-0B8CDCB7D9C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454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台鹽創新的誘因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另設「台鹽之友挑戰創意基金」鼓勵外界提供創新建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公佈在台鹽網站</a:t>
            </a:r>
            <a:r>
              <a:rPr b="0" lang="zh-TW" sz="3200" spc="-1" strike="noStrike" u="sng">
                <a:solidFill>
                  <a:srgbClr val="cc6600"/>
                </a:solidFill>
                <a:uFillTx/>
                <a:latin typeface="Arial"/>
                <a:ea typeface="標楷體"/>
                <a:hlinkClick r:id="rId2"/>
              </a:rPr>
              <a:t>http://www.taiyengroup.com.tw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九十三年九月底止累計提案數計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481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件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(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含台鹽之友所提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71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件 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)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； 本公司均俟召開審查會後，除即時給予提案者獎勵外，亦將提案轉新產品開發專案小組處理，對公司營運頗有助益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81" name="台鹽商標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3D94-A3C0-43B8-8186-91EA3C55B80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checke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6160" y="6991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獎酬制度的創新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97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Arial"/>
                <a:ea typeface="標楷體"/>
              </a:rPr>
              <a:t>打破齊頭式假平等的獎金分配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對於兼負創新、銷售、經營之責任者，多給鼓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訂定「營業目標激勵要點」，按實績分配績效獎金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成立「點鹽成金、挑戰創意基金 」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84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CD3-B07A-4164-87FF-5676350B2EB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split dir="in" orient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17160" y="6832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速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263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速度帶來活力與創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打破部門主義、官僚體系</a:t>
            </a:r>
            <a:r>
              <a:rPr b="0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、上下游供應鏈阻隔及國與國之區域藩籬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高獲利、高信任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87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409-0520-4882-B313-519D947BE15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checker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cc00"/>
                </a:solidFill>
                <a:latin typeface="Arial"/>
                <a:ea typeface="標楷體"/>
              </a:rPr>
              <a:t>策    略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89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514600" y="3049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Comic Sans MS"/>
                <a:ea typeface="標楷體"/>
              </a:rPr>
              <a:t>從微笑理論談起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61520" y="1904760"/>
            <a:ext cx="8407800" cy="4193640"/>
            <a:chOff x="461520" y="1904760"/>
            <a:chExt cx="8407800" cy="4193640"/>
          </a:xfrm>
        </p:grpSpPr>
        <p:sp>
          <p:nvSpPr>
            <p:cNvPr id="292" name=""/>
            <p:cNvSpPr/>
            <p:nvPr/>
          </p:nvSpPr>
          <p:spPr>
            <a:xfrm flipH="1" flipV="1">
              <a:off x="1630080" y="1904400"/>
              <a:ext cx="716184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1325520" y="1904040"/>
              <a:ext cx="716256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96920" y="5257800"/>
              <a:ext cx="769608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64200" y="56386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ff66"/>
                  </a:solidFill>
                  <a:latin typeface="Comic Sans MS"/>
                  <a:ea typeface="標楷體"/>
                </a:rPr>
                <a:t>品牌行銷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45040" y="56386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cc00"/>
                  </a:solidFill>
                  <a:latin typeface="Comic Sans MS"/>
                  <a:ea typeface="標楷體"/>
                </a:rPr>
                <a:t>生產加工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73240" y="56386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66ffcc"/>
                  </a:solidFill>
                  <a:latin typeface="Comic Sans MS"/>
                  <a:ea typeface="標楷體"/>
                </a:rPr>
                <a:t>創新研發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1520" y="3047760"/>
              <a:ext cx="60696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00ffff"/>
                  </a:solidFill>
                  <a:latin typeface="Comic Sans MS"/>
                  <a:ea typeface="標楷體"/>
                </a:rPr>
                <a:t>附加價值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1096920" y="2285640"/>
              <a:ext cx="0" cy="29718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54320" y="4647960"/>
              <a:ext cx="0" cy="99072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64200" y="4647960"/>
              <a:ext cx="0" cy="99072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73240" y="5410080"/>
              <a:ext cx="1904760" cy="0"/>
            </a:xfrm>
            <a:prstGeom prst="line">
              <a:avLst/>
            </a:prstGeom>
            <a:ln w="12600">
              <a:solidFill>
                <a:srgbClr val="66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06600" y="5410080"/>
              <a:ext cx="358164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16840" y="5410080"/>
              <a:ext cx="1447560" cy="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35000" y="1981080"/>
              <a:ext cx="61722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200" spc="-1" strike="noStrike">
                  <a:solidFill>
                    <a:srgbClr val="00ff00"/>
                  </a:solidFill>
                  <a:latin typeface="標楷體"/>
                  <a:ea typeface="標楷體"/>
                </a:rPr>
                <a:t>生產加工階段</a:t>
              </a:r>
              <a:br>
                <a:rPr sz="3200"/>
              </a:br>
              <a:r>
                <a:rPr b="0" lang="zh-TW" sz="3200" spc="-1" strike="noStrike">
                  <a:solidFill>
                    <a:srgbClr val="00ff00"/>
                  </a:solidFill>
                  <a:latin typeface="標楷體"/>
                  <a:ea typeface="標楷體"/>
                </a:rPr>
                <a:t>衍生的附加價值比重最低；研發及市場行銷產生的附加價值較高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306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3C2-ACC0-458F-8E31-010FF8258DE1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7606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cc00"/>
                </a:solidFill>
                <a:latin typeface="Arial"/>
                <a:ea typeface="標楷體"/>
              </a:rPr>
              <a:t>贏家的關鍵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「只要是全球化產業，就是掠奪和殲滅式的戰爭」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--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聯強杜書伍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在微利超競爭時代，贏家的關鍵在於其經營基本面：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cc"/>
                </a:solidFill>
                <a:latin typeface="Arial"/>
                <a:ea typeface="標楷體"/>
              </a:rPr>
              <a:t>品質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：比別人高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cc"/>
                </a:solidFill>
                <a:latin typeface="Arial"/>
                <a:ea typeface="標楷體"/>
              </a:rPr>
              <a:t>價格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：比別人低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cc"/>
                </a:solidFill>
                <a:latin typeface="Arial"/>
                <a:ea typeface="標楷體"/>
              </a:rPr>
              <a:t>速度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：比別人快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服務：比別人好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特色：比別人多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策略：比別人正確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8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B847-72BE-42D3-8D65-3B1F01BB92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 spd="med"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發展風箏理論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572000" y="2285640"/>
            <a:ext cx="0" cy="3048120"/>
          </a:xfrm>
          <a:prstGeom prst="line">
            <a:avLst/>
          </a:prstGeom>
          <a:ln w="127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572000" y="3123720"/>
            <a:ext cx="1752480" cy="2210040"/>
          </a:xfrm>
          <a:prstGeom prst="line">
            <a:avLst/>
          </a:prstGeom>
          <a:ln w="127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2895120" y="3352680"/>
            <a:ext cx="1676520" cy="1981440"/>
          </a:xfrm>
          <a:prstGeom prst="line">
            <a:avLst/>
          </a:prstGeom>
          <a:ln w="127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00200" y="2971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ff66"/>
                </a:solidFill>
                <a:latin typeface="Times New Roman"/>
                <a:ea typeface="標楷體"/>
              </a:rPr>
              <a:t>研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1676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ff66"/>
                </a:solidFill>
                <a:latin typeface="Times New Roman"/>
                <a:ea typeface="標楷體"/>
              </a:rPr>
              <a:t>通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2819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ff66"/>
                </a:solidFill>
                <a:latin typeface="Times New Roman"/>
                <a:ea typeface="標楷體"/>
              </a:rPr>
              <a:t>品牌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ff66"/>
                </a:solidFill>
                <a:latin typeface="Times New Roman"/>
                <a:ea typeface="標楷體"/>
              </a:rPr>
              <a:t>生產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724280" y="2437920"/>
            <a:ext cx="1524240" cy="685800"/>
          </a:xfrm>
          <a:prstGeom prst="line">
            <a:avLst/>
          </a:prstGeom>
          <a:ln w="127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71800" y="3276720"/>
            <a:ext cx="2971800" cy="0"/>
          </a:xfrm>
          <a:prstGeom prst="line">
            <a:avLst/>
          </a:prstGeom>
          <a:ln w="12708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048120" y="2362320"/>
            <a:ext cx="1371600" cy="761760"/>
          </a:xfrm>
          <a:prstGeom prst="line">
            <a:avLst/>
          </a:prstGeom>
          <a:ln w="127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1980720"/>
            <a:ext cx="0" cy="403884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6019920"/>
            <a:ext cx="601992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1120" y="1828800"/>
            <a:ext cx="91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附加價值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588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  <a:ea typeface="標楷體"/>
              </a:rPr>
              <a:t>產品價值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2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D0B-8058-4F0F-9FB1-4DE4466A2D52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增加研發能力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533520" y="2286000"/>
          <a:ext cx="8076960" cy="3462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86000"/>
                    <a:ext cx="807696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181480" y="35053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029200" y="3505320"/>
            <a:ext cx="1295280" cy="457200"/>
          </a:xfrm>
          <a:prstGeom prst="line">
            <a:avLst/>
          </a:prstGeom>
          <a:ln cap="rnd" w="381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752480"/>
            <a:ext cx="5089680" cy="5205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一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、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研發經費佔營收比例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791320"/>
            <a:ext cx="7848720" cy="5205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二、增加資本支出 ，以提升自有研發能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0" name="台鹽商標" descr="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AEA-C289-4070-8593-32036426557A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blinds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360" y="6832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掌握行銷通路</a:t>
            </a: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-</a:t>
            </a: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建立策略聯盟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蓓舒美及綠迷雅系列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直營店通路</a:t>
            </a:r>
            <a:r>
              <a:rPr b="0" lang="zh-TW" sz="2400" spc="-1" strike="noStrike">
                <a:solidFill>
                  <a:srgbClr val="ffffcc"/>
                </a:solidFill>
                <a:latin typeface="標楷體"/>
                <a:ea typeface="標楷體"/>
              </a:rPr>
              <a:t>、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生技加盟店通路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K/A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南區系統與北區系統通路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D/S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全國系統通路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東森電視購物銷售合作通路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…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海洋生成水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委由甲公司擔任台鹽海洋生成水之總經銷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替國內知名乙公司代工生產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膠原蛋白化粧保養系列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與某直銷商簽約，開發直銷客戶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33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395-0012-4865-86C8-4C6B1F8FE3D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split dir="in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240" y="303480"/>
            <a:ext cx="86374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cc00"/>
                </a:solidFill>
                <a:latin typeface="Arial"/>
                <a:ea typeface="標楷體"/>
              </a:rPr>
              <a:t>建立台鹽自有品牌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28320" y="1523520"/>
            <a:ext cx="8815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ff66"/>
                </a:solidFill>
                <a:latin typeface="Arial"/>
                <a:ea typeface="標楷體"/>
              </a:rPr>
              <a:t>鹽：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台鹽         </a:t>
            </a:r>
            <a:r>
              <a:rPr b="0" lang="zh-TW" sz="2800" spc="-1" strike="noStrike">
                <a:solidFill>
                  <a:srgbClr val="ffcc00"/>
                </a:solidFill>
                <a:latin typeface="Arial"/>
                <a:ea typeface="標楷體"/>
              </a:rPr>
              <a:t>品牌 — 顧客的滿意所累積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ff66"/>
                </a:solidFill>
                <a:latin typeface="Arial"/>
                <a:ea typeface="標楷體"/>
              </a:rPr>
              <a:t>美容沐浴類：</a:t>
            </a:r>
            <a:br>
              <a:rPr sz="2800"/>
            </a:b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蓓舒美（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Bath-magic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）、綠迷雅（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Lu-miel</a:t>
            </a:r>
            <a:r>
              <a:rPr b="0" lang="zh-TW" sz="2800" spc="-1" strike="noStrike">
                <a:solidFill>
                  <a:srgbClr val="ffffcc"/>
                </a:solidFill>
                <a:latin typeface="標楷體"/>
                <a:ea typeface="標楷體"/>
              </a:rPr>
              <a:t>）、純鹽美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ff66"/>
                </a:solidFill>
                <a:latin typeface="Arial"/>
                <a:ea typeface="標楷體"/>
              </a:rPr>
              <a:t>藥妝生技類：</a:t>
            </a:r>
            <a:br>
              <a:rPr sz="2800"/>
            </a:b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蜜迪膚（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Medifil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）、司金敷布（</a:t>
            </a:r>
            <a:r>
              <a:rPr b="0" lang="zh-TW" sz="2400" spc="-1" strike="noStrike">
                <a:solidFill>
                  <a:srgbClr val="ffffcc"/>
                </a:solidFill>
                <a:latin typeface="Arial"/>
                <a:ea typeface="標楷體"/>
              </a:rPr>
              <a:t>SkinTemp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ff66"/>
                </a:solidFill>
                <a:latin typeface="Arial"/>
                <a:ea typeface="標楷體"/>
              </a:rPr>
              <a:t>保健食品類：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 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膠原一生、丰采一生…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ff66"/>
                </a:solidFill>
                <a:latin typeface="Arial"/>
                <a:ea typeface="標楷體"/>
              </a:rPr>
              <a:t>科技類：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TSICTE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36" name="台鹽商標" descr=""/>
          <p:cNvPicPr/>
          <p:nvPr/>
        </p:nvPicPr>
        <p:blipFill>
          <a:blip r:embed="rId2"/>
          <a:stretch/>
        </p:blipFill>
        <p:spPr>
          <a:xfrm>
            <a:off x="2209680" y="1600200"/>
            <a:ext cx="762120" cy="380880"/>
          </a:xfrm>
          <a:prstGeom prst="rect">
            <a:avLst/>
          </a:prstGeom>
          <a:ln w="0">
            <a:noFill/>
          </a:ln>
        </p:spPr>
      </p:pic>
      <p:pic>
        <p:nvPicPr>
          <p:cNvPr id="337" name="台鹽商標" descr=""/>
          <p:cNvPicPr/>
          <p:nvPr/>
        </p:nvPicPr>
        <p:blipFill>
          <a:blip r:embed="rId3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076-C2DD-4AF1-8263-2D6D18C7BF3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checke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cc00"/>
                </a:solidFill>
                <a:latin typeface="Arial"/>
                <a:ea typeface="標楷體"/>
              </a:rPr>
              <a:t>結語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39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759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結語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2090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21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世紀是一個動態競爭的時代，不論企業或是個人，為求保有動態競爭優勢，惟有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c00"/>
                </a:solidFill>
                <a:latin typeface="Arial"/>
                <a:ea typeface="標楷體"/>
              </a:rPr>
              <a:t>採行聚焦策略，集中資源全力攻擊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c00"/>
                </a:solidFill>
                <a:latin typeface="Arial"/>
                <a:ea typeface="標楷體"/>
              </a:rPr>
              <a:t>不斷地累積知識，持續創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創新：無呆人、無呆料、無呆錢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計畫不如變化，變化不如一通電話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計畫、計畫，桌上畫一畫，牆上掛一掛，</a:t>
            </a:r>
            <a:br>
              <a:rPr sz="2800"/>
            </a:br>
            <a:r>
              <a:rPr b="0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說過的通通不算話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2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02C-52E7-4869-9C5D-0FAB1648300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checker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68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結語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20908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一個人若不致力成長，便會趨向死亡</a:t>
            </a:r>
            <a:br>
              <a:rPr sz="3200"/>
            </a:b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一個公司若不創新，便會走向滅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欠缺明確目標的強制服從，乃是創新的頭號殺手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「變」是唯一不變的經營策略，是唯一不變的創新模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When you’re green, you grow.</a:t>
            </a:r>
            <a:br>
              <a:rPr sz="3200"/>
            </a:b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When you ripen, you ro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5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B311-C603-4EA7-BD75-896A77152009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split dir="in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759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結語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你必須在自己身上投資；在企業上或專職領域出人頭地、全力投入、精益求精，才是唯一成功之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堅持「朝八晚五、正常上下班」 ，不可能有輝煌成就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你只有一個老闆，名字叫—</a:t>
            </a:r>
            <a:r>
              <a:rPr b="0" lang="zh-TW" sz="3200" spc="-1" strike="noStrike">
                <a:solidFill>
                  <a:srgbClr val="ffcccc"/>
                </a:solidFill>
                <a:latin typeface="Arial"/>
                <a:ea typeface="標楷體"/>
              </a:rPr>
              <a:t>顧客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偉大來自徹底確實的執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8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FFC-0CCE-431A-9C9E-B06AA9E755B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checke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cc00"/>
                </a:solidFill>
                <a:latin typeface="Arial"/>
                <a:ea typeface="標楷體"/>
              </a:rPr>
              <a:t>敬請指教！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0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4475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cc00"/>
                </a:solidFill>
                <a:latin typeface="Arial"/>
                <a:ea typeface="標楷體"/>
              </a:rPr>
              <a:t>台鹽的再造與創新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0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cc00"/>
                </a:solidFill>
                <a:latin typeface="Arial"/>
                <a:ea typeface="標楷體"/>
              </a:rPr>
              <a:t>多角化變革歷程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台鹽商標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457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傳統台鹽時期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09560" y="1958760"/>
            <a:ext cx="6329520" cy="35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單一產業： 鹽及副產品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靠天吃飯的行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政府保護壟斷，幾無策略可言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欠缺企業經營觀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盈餘穩定，但營收成長緩慢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  <a:ea typeface="標楷體"/>
              </a:rPr>
              <a:t>財務結構良好，幾無負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959-6617-45EE-8064-1EB1D03451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683280"/>
            <a:ext cx="8704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00"/>
                </a:solidFill>
                <a:latin typeface="Arial"/>
                <a:ea typeface="標楷體"/>
              </a:rPr>
              <a:t>多角化經營時期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3341520"/>
            <a:ext cx="4876920" cy="776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Arial"/>
                <a:ea typeface="標楷體"/>
              </a:rPr>
              <a:t>生物科技（膠原蛋白、微生物製劑） </a:t>
            </a:r>
            <a:br>
              <a:rPr sz="2400"/>
            </a:br>
            <a:r>
              <a:rPr b="0" lang="zh-TW" sz="2000" spc="-1" strike="noStrike">
                <a:solidFill>
                  <a:srgbClr val="6600ff"/>
                </a:solidFill>
                <a:latin typeface="Arial"/>
                <a:ea typeface="標楷體"/>
              </a:rPr>
              <a:t>烘焙酵母、生技食品綜合廠、生技骨材、</a:t>
            </a:r>
            <a:br>
              <a:rPr sz="2000"/>
            </a:br>
            <a:r>
              <a:rPr b="0" lang="zh-TW" sz="2000" spc="-1" strike="noStrike">
                <a:solidFill>
                  <a:srgbClr val="6600ff"/>
                </a:solidFill>
                <a:latin typeface="Arial"/>
                <a:ea typeface="標楷體"/>
              </a:rPr>
              <a:t>蛋白質藥物…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981080"/>
            <a:ext cx="213336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海水化學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（晒鹽、精鹽</a:t>
            </a:r>
            <a:br>
              <a:rPr sz="2400"/>
            </a:br>
            <a:r>
              <a:rPr b="1" lang="zh-TW" sz="2400" spc="-1" strike="noStrike">
                <a:solidFill>
                  <a:srgbClr val="0000cc"/>
                </a:solidFill>
                <a:latin typeface="Arial"/>
                <a:ea typeface="標楷體"/>
              </a:rPr>
              <a:t>及副產品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2367000"/>
            <a:ext cx="4838760" cy="839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  <a:ea typeface="標楷體"/>
              </a:rPr>
              <a:t>資訊科技（有機感光鼓、氮化鋁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6600"/>
                </a:solidFill>
                <a:latin typeface="Arial"/>
                <a:ea typeface="標楷體"/>
              </a:rPr>
              <a:t>矽膠研磨漿、</a:t>
            </a:r>
            <a:r>
              <a:rPr b="0" lang="zh-TW" sz="2000" spc="-1" strike="noStrike">
                <a:solidFill>
                  <a:srgbClr val="cc6600"/>
                </a:solidFill>
                <a:latin typeface="Arial"/>
                <a:ea typeface="標楷體"/>
              </a:rPr>
              <a:t>OLED</a:t>
            </a:r>
            <a:r>
              <a:rPr b="0" lang="zh-TW" sz="2000" spc="-1" strike="noStrike">
                <a:solidFill>
                  <a:srgbClr val="cc6600"/>
                </a:solidFill>
                <a:latin typeface="Arial"/>
                <a:ea typeface="標楷體"/>
              </a:rPr>
              <a:t>顯示器、光訊半導體、</a:t>
            </a:r>
            <a:br>
              <a:rPr sz="2000"/>
            </a:br>
            <a:r>
              <a:rPr b="0" lang="zh-TW" sz="2000" spc="-1" strike="noStrike">
                <a:solidFill>
                  <a:srgbClr val="cc6600"/>
                </a:solidFill>
                <a:latin typeface="Arial"/>
                <a:ea typeface="標楷體"/>
              </a:rPr>
              <a:t>鋰離子電池…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6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352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  <a:ea typeface="標楷體"/>
              </a:rPr>
              <a:t>本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5257800"/>
            <a:ext cx="3886200" cy="349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cc00"/>
                </a:solidFill>
                <a:latin typeface="Arial"/>
                <a:ea typeface="標楷體"/>
              </a:rPr>
              <a:t>土地開發、生技養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4757760"/>
            <a:ext cx="3886200" cy="349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cc00"/>
                </a:solidFill>
                <a:latin typeface="Arial"/>
                <a:ea typeface="標楷體"/>
              </a:rPr>
              <a:t>海水淡化、獨立電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4267080"/>
            <a:ext cx="3886200" cy="34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Arial"/>
                <a:ea typeface="標楷體"/>
              </a:rPr>
              <a:t>遊樂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5334120"/>
            <a:ext cx="1447920" cy="228600"/>
          </a:xfrm>
          <a:prstGeom prst="rightArrow">
            <a:avLst>
              <a:gd name="adj1" fmla="val 50000"/>
              <a:gd name="adj2" fmla="val 158346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3886200"/>
            <a:ext cx="304920" cy="1219320"/>
          </a:xfrm>
          <a:prstGeom prst="upArrow">
            <a:avLst>
              <a:gd name="adj1" fmla="val 50000"/>
              <a:gd name="adj2" fmla="val 99970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981080" y="2971440"/>
            <a:ext cx="1600200" cy="213372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057400" y="3505320"/>
            <a:ext cx="1447920" cy="167616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133720" y="4343400"/>
            <a:ext cx="1371600" cy="9144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133720" y="4876920"/>
            <a:ext cx="1371600" cy="3808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828800" y="2057040"/>
            <a:ext cx="1752480" cy="29718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1752480"/>
            <a:ext cx="48006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  <a:ea typeface="標楷體"/>
              </a:rPr>
              <a:t>含鹽沐浴美容用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5720" y="5181480"/>
            <a:ext cx="115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Times New Roman"/>
                <a:ea typeface="標楷體"/>
              </a:rPr>
              <a:t>台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台鹽轉型與改造成功經驗分享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CA7-A466-417A-8016-4094F677EC2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中山大學前瞻講座931118</a:t>
            </a: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5:55:59Z</dcterms:created>
  <dc:creator>prod</dc:creator>
  <dc:description/>
  <dc:language>en-US</dc:language>
  <cp:lastModifiedBy>leo</cp:lastModifiedBy>
  <dcterms:modified xsi:type="dcterms:W3CDTF">2004-11-18T09:22:23Z</dcterms:modified>
  <cp:revision>284</cp:revision>
  <dc:subject/>
  <dc:title>台鹽轉型與改造成功經驗分享</dc:title>
</cp:coreProperties>
</file>