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A37-79B1-4DCD-923D-05B58EEA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167-2976-4EBA-B00B-F4774E5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55F-607E-41C2-98EF-B5D9226B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29D-EB22-47A1-8D0D-2C6A939E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8114-5C46-40E6-8D61-4A188B38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494A-CE26-4539-9FA5-1D5D34B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DA02-675C-404C-8AB7-B09A0BC0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B319-97F4-4FB2-A574-A7729742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E5A3-3F4D-463A-9C26-4D866F68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6379-A0A6-4324-A028-43795549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9A37-DAA1-4DEA-90F7-7B48213E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D35-A4F1-4765-9FD2-9FBAC1F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3AF-513C-487D-926A-F22572D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324-2FA8-434E-B71E-2AC8DC8E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CF3D-B209-4741-81FA-8BF9EA56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ECDE-78A5-4355-AB28-7D914E7C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8212-D3D1-4705-8D69-089035E8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06E-3DF9-4138-99F5-9A43A2CD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9EF-5DC4-412C-97DF-04995C7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D4F-5F0C-4F90-AA5D-706BB05F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B0C-067A-4DE5-8209-CDB5C59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5B7-08A2-4D5D-AF5B-8B59535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AC3-9891-4AD9-BBD6-138157EF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1FB-ECA9-4277-839C-98282E5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cpc1-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華康中黑體(P)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華康中黑體(P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華康中黑體(P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華康中黑體(P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275-DFB4-47B6-BB63-556B7BDC5793}" type="slidenum">
              <a:rPr b="0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pc1-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華康中黑體(P)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30CC-A35A-4135-8516-8D512A3BB26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華康中黑體(P)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華康中黑體(P)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華康中黑體(P)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華康中黑體(P)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(P)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華康中黑體(P)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(P)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華康中黑體(P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(P)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華康中黑體(P)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(P)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企業變革與管理案例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中國生產力中心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張國棟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4861-9F52-4D30-B38E-54E72E6FE8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聚陽實業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創業：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99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成衣廠外移面臨失業，成立貿易商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機會：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996Wal-mart 66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萬件緊急訂單，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個月內交貨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體會：大而美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破除小訂單安全舒適圈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佈局：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國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個廠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降低成本、分散風險、彈性快速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台灣營運總部：新生產模式的研發中心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紐約辦公室：蒐集流行情報提供台灣參考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上海接單中心／大陸產區：原物料優勢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越南／柬埔寨產區：低成本優勢可支援生產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菲律賓產區：自有配額多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印尼產區：襯衫專精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斯里蘭卡／孟加拉產區：次級產能補給長期訂單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薩爾瓦多：彌補亞洲配額產品不足時，快速補貨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E87-5FD2-4A46-9809-2ECAE2C428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運作體系：例菲律賓廠生產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萬打印花上衣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花面台灣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車線菲律賓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釦子泰國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衣架和商標中國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ERP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導入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國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廠無法靠人傳遞資訊、腦安排產能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即時調配產能，追蹤訂單。預估未來三季的獲利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資訊化將專業知識顯性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工廠管理：多元化接單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採購對每家供應商的掌握度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生產線的能耐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多能工：要有能力依產品隨時變動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作業標準：台灣試作，並寫成作業手冊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生產運作：訂定標準時間，作業員須在時間內完畢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9943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生管：控管線上速度，落後調整人力，掌控效率。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2984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A0A-E56F-46B3-BB6B-D524EC42E3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利豐集團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生存利基：一次購足加值服務，靠管理力擠出利潤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商業模式：更低成本、保證品質、靈活供貨，讓客戶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    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願多付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％、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％的價差去買這些彈性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供應鏈管理：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深入供應商進行管理，確保品質、及時交付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成衣訂單決定買紗國→台灣紡織、染色→中國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YKK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拉鍊→考量配額、人工泰國生產，五週後就在客戶貨架上。快速週轉使客人減少庫存成本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下單量占每家供應商產能的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％到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％ 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目標管理：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業績和報酬掛鉤，且一切報酬都用現金來體現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先確定三年內想達到什麼目標，找出現在未來目標之間的差距，然後再看必須做些什麼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                                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(P)"/>
              </a:rPr>
              <a:t>整理自：商業周刊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566-558D-403D-91E1-5D452BEBD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台化→台石化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不斷建立各種標準作業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日常管理、</a:t>
            </a: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5S</a:t>
            </a: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是重點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工務部負責提高設備效率、安全、並降低成本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重新招進新血</a:t>
            </a: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檢查進度品質、設備結構及內裝構造、了解整個流程</a:t>
            </a: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嚴格執行作業標準程序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中黑體(P)"/>
              </a:rPr>
              <a:t>降低成本度過寒冬</a:t>
            </a:r>
            <a:endParaRPr b="0" lang="en-US" sz="32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16F-611E-4EBF-BDED-E3F66B56BC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競泰製鎖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每年研發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多種新產品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皮箱鎖、具指南針的鎖、雷射筆鎖、警報功能鎖、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Notebook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號碼鎖、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PDA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充電器號碼鎖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毛率最高的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3C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資訊產品佔營收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皮箱鎖以前佔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100%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營收，現只剩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跳脫鎖的功能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創造需求開發新市場、新客戶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打垮國際大廠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410-E31C-452A-9D7B-6DFEB06E8E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危機前先改造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-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裕隆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995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裕隆的危機：一堆失敗的東西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溝通過程冗長，內部互相指責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對策：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先確定裕隆的定位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強調重點，即品質、人事、經銷商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1995.7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月全部搬到三義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不能因虧錢就對顧客節流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995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裕隆的危機：獲利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1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0.4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億→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2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54.6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億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三義廠產能，只用一半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台灣市場萎縮，中國市場擴大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對策：裕隆分家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裕隆，要協助日產及其他汽車品牌的代工生產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裕隆日產，合作大陸市場開拓，新產品開發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420-DB72-468F-BF76-9446F0D387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未雨綢繆的危機意識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-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巨大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2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68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億，世界自行車龍頭。成績突出，卻有危機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每十年遇到轉型挑戰，成功模式也隨之調整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前十年以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OEM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為主，次十年則轉型品牌與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ODM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，再十年建立全球供應鏈與品牌行銷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過去追求製造最快、最輕的自行車消費者需要嗎？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對策：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將各自為政的經營模式，改為一套有系統能發揮整體戰力的組織運作流程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讓財務透明，防止為衝業績，呆帳暴增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成為全方位自行車解決方案的公司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57F-564C-4CEC-943D-9E06552BCB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271440"/>
            <a:ext cx="7105680" cy="648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1600" y="1646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1600" y="1646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30880" y="16462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1600" y="2695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1600" y="2695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13040" y="363384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13040" y="36306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13040" y="43480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3040" y="5429160"/>
            <a:ext cx="50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040" y="6145200"/>
            <a:ext cx="50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7000" y="614520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6280" y="6896160"/>
            <a:ext cx="3414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30880" y="6896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30880" y="68961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3040" y="722628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4880" y="92160"/>
            <a:ext cx="1460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何謂優良企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4560" y="595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優良企業之定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92560" y="1039680"/>
            <a:ext cx="2771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瞬息萬變的經營環境之下，仍能長久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持續地創造優良業績的企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11440" y="1852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優良企業之條件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60600" y="2271600"/>
            <a:ext cx="140328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60600" y="2976480"/>
            <a:ext cx="460368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對企業本身所處環境之變化趨勢有明確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的認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0360" y="2271600"/>
            <a:ext cx="23558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知   覺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(Perce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60600" y="3871800"/>
            <a:ext cx="140328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0600" y="4576680"/>
            <a:ext cx="4603680" cy="49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企業面對環境變化的基本因應構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360" y="3871800"/>
            <a:ext cx="23558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策    略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(Strate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41520" y="5276880"/>
            <a:ext cx="140328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41520" y="5981760"/>
            <a:ext cx="460368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實現策略之高度行動力</a:t>
            </a: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資源</a:t>
            </a: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締造優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實績</a:t>
            </a: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(ability re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5960" y="5276880"/>
            <a:ext cx="2355840" cy="70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實　   踐</a:t>
            </a:r>
            <a:br>
              <a:rPr sz="2000"/>
            </a:br>
            <a:r>
              <a:rPr b="1" lang="zh-TW" sz="20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(Implem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67480" y="63594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源自：</a:t>
            </a:r>
            <a:r>
              <a:rPr b="1" lang="zh-TW" sz="1400" spc="-1" strike="noStrike">
                <a:solidFill>
                  <a:srgbClr val="000000"/>
                </a:solidFill>
                <a:latin typeface="華康中黑體(P)"/>
                <a:ea typeface="華康中黑體(P)"/>
              </a:rPr>
              <a:t>J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B30-6B60-4E81-A602-944046818D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609480" y="609480"/>
            <a:ext cx="7696080" cy="5410440"/>
            <a:chOff x="609480" y="609480"/>
            <a:chExt cx="7696080" cy="5410440"/>
          </a:xfrm>
        </p:grpSpPr>
        <p:grpSp>
          <p:nvGrpSpPr>
            <p:cNvPr id="149" name=""/>
            <p:cNvGrpSpPr/>
            <p:nvPr/>
          </p:nvGrpSpPr>
          <p:grpSpPr>
            <a:xfrm>
              <a:off x="617400" y="613080"/>
              <a:ext cx="7679160" cy="5402520"/>
              <a:chOff x="617400" y="613080"/>
              <a:chExt cx="7679160" cy="54025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617400" y="613080"/>
                <a:ext cx="1744560" cy="540000"/>
                <a:chOff x="617400" y="613080"/>
                <a:chExt cx="1744560" cy="540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47280" y="61308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17400" y="61308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62320" y="613080"/>
                <a:ext cx="2352240" cy="540000"/>
                <a:chOff x="2362320" y="613080"/>
                <a:chExt cx="2352240" cy="540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391480" y="61308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經濟成長率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62320" y="61308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715280" y="613080"/>
                <a:ext cx="3581280" cy="540000"/>
                <a:chOff x="4715280" y="613080"/>
                <a:chExt cx="3581280" cy="540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744440" y="61308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工業生產指數成長率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(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％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715280" y="61308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17400" y="1153080"/>
                <a:ext cx="1744560" cy="540000"/>
                <a:chOff x="617400" y="1153080"/>
                <a:chExt cx="1744560" cy="540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47280" y="115308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中國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7400" y="115308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362320" y="1153080"/>
                <a:ext cx="2352240" cy="540000"/>
                <a:chOff x="2362320" y="1153080"/>
                <a:chExt cx="2352240" cy="540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391480" y="115308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9.9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362320" y="115308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715280" y="1153080"/>
                <a:ext cx="3581280" cy="540000"/>
                <a:chOff x="4715280" y="1153080"/>
                <a:chExt cx="3581280" cy="540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744440" y="115308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23.2(2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5280" y="115308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17400" y="1693440"/>
                <a:ext cx="1744560" cy="540000"/>
                <a:chOff x="617400" y="1693440"/>
                <a:chExt cx="1744560" cy="540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47280" y="169344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H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17400" y="169344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62320" y="1693440"/>
                <a:ext cx="2352240" cy="540000"/>
                <a:chOff x="2362320" y="1693440"/>
                <a:chExt cx="2352240" cy="540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391480" y="169344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(Q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62320" y="169344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715280" y="1693440"/>
                <a:ext cx="3581280" cy="540000"/>
                <a:chOff x="4715280" y="1693440"/>
                <a:chExt cx="3581280" cy="5400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744440" y="169344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-9.2(Q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15280" y="169344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17400" y="2233800"/>
                <a:ext cx="1744560" cy="540000"/>
                <a:chOff x="617400" y="2233800"/>
                <a:chExt cx="1744560" cy="540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47280" y="223380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印度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7400" y="223380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362320" y="2233800"/>
                <a:ext cx="2352240" cy="540000"/>
                <a:chOff x="2362320" y="2233800"/>
                <a:chExt cx="2352240" cy="5400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391480" y="223380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8.4(Q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362320" y="223380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4715280" y="2233800"/>
                <a:ext cx="3581280" cy="540000"/>
                <a:chOff x="4715280" y="2233800"/>
                <a:chExt cx="3581280" cy="5400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744440" y="223380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6.2(12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715280" y="223380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17400" y="2774160"/>
                <a:ext cx="1744560" cy="540000"/>
                <a:chOff x="617400" y="2774160"/>
                <a:chExt cx="1744560" cy="5400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47280" y="277416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印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17400" y="277416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62320" y="2774160"/>
                <a:ext cx="2352240" cy="540000"/>
                <a:chOff x="2362320" y="2774160"/>
                <a:chExt cx="2352240" cy="5400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391480" y="277416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.3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62320" y="277416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715280" y="2774160"/>
                <a:ext cx="3581280" cy="540000"/>
                <a:chOff x="4715280" y="2774160"/>
                <a:chExt cx="3581280" cy="5400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744440" y="277416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.7(7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15280" y="277416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17400" y="3314520"/>
                <a:ext cx="1744560" cy="540000"/>
                <a:chOff x="617400" y="3314520"/>
                <a:chExt cx="1744560" cy="540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47280" y="331452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馬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17400" y="331452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362320" y="3314520"/>
                <a:ext cx="2352240" cy="540000"/>
                <a:chOff x="2362320" y="3314520"/>
                <a:chExt cx="2352240" cy="5400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391480" y="331452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6.4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62320" y="331452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715280" y="3314520"/>
                <a:ext cx="3581280" cy="540000"/>
                <a:chOff x="4715280" y="3314520"/>
                <a:chExt cx="3581280" cy="540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744440" y="331452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16.7(1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15280" y="331452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7400" y="3854520"/>
                <a:ext cx="1744560" cy="540000"/>
                <a:chOff x="617400" y="3854520"/>
                <a:chExt cx="1744560" cy="5400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47280" y="385452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菲律賓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7400" y="385452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362320" y="3854520"/>
                <a:ext cx="2352240" cy="540000"/>
                <a:chOff x="2362320" y="3854520"/>
                <a:chExt cx="2352240" cy="540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391480" y="385452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.5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62320" y="385452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715280" y="3854520"/>
                <a:ext cx="3581280" cy="540000"/>
                <a:chOff x="4715280" y="3854520"/>
                <a:chExt cx="3581280" cy="540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44440" y="385452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-3.1(12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15280" y="385452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17400" y="4394880"/>
                <a:ext cx="1744560" cy="540000"/>
                <a:chOff x="617400" y="4394880"/>
                <a:chExt cx="1744560" cy="540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47280" y="439488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新加坡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17400" y="439488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362320" y="4394880"/>
                <a:ext cx="2352240" cy="540000"/>
                <a:chOff x="2362320" y="4394880"/>
                <a:chExt cx="2352240" cy="5400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391480" y="439488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.9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362320" y="439488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715280" y="4394880"/>
                <a:ext cx="3581280" cy="540000"/>
                <a:chOff x="4715280" y="4394880"/>
                <a:chExt cx="3581280" cy="5400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44440" y="439488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5.8(1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715280" y="439488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7400" y="4935240"/>
                <a:ext cx="1744560" cy="540000"/>
                <a:chOff x="617400" y="4935240"/>
                <a:chExt cx="1744560" cy="5400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47280" y="493524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南韓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7400" y="493524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362320" y="4935240"/>
                <a:ext cx="2352240" cy="540000"/>
                <a:chOff x="2362320" y="4935240"/>
                <a:chExt cx="2352240" cy="5400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391480" y="493524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2.3(Q3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362320" y="493524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715280" y="4935240"/>
                <a:ext cx="3581280" cy="540000"/>
                <a:chOff x="4715280" y="4935240"/>
                <a:chExt cx="3581280" cy="540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744440" y="493524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4.8(1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715280" y="493524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7400" y="5475600"/>
                <a:ext cx="1744560" cy="540000"/>
                <a:chOff x="617400" y="5475600"/>
                <a:chExt cx="1744560" cy="540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47280" y="5475600"/>
                  <a:ext cx="16844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台灣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7400" y="5475600"/>
                  <a:ext cx="174456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362320" y="5475600"/>
                <a:ext cx="2352240" cy="540000"/>
                <a:chOff x="2362320" y="5475600"/>
                <a:chExt cx="2352240" cy="5400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391480" y="5475600"/>
                  <a:ext cx="229284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5.2(Q4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62320" y="5475600"/>
                  <a:ext cx="235224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715280" y="5475600"/>
                <a:ext cx="3581280" cy="540000"/>
                <a:chOff x="4715280" y="5475600"/>
                <a:chExt cx="3581280" cy="540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744440" y="5475600"/>
                  <a:ext cx="352188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-1.1(1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月</a:t>
                  </a:r>
                  <a:r>
                    <a:rPr b="0" lang="zh-TW" sz="1400" spc="-1" strike="noStrike">
                      <a:solidFill>
                        <a:srgbClr val="000000"/>
                      </a:solidFill>
                      <a:latin typeface="Times New Roman"/>
                      <a:ea typeface="華康楷書體W5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15280" y="5475600"/>
                  <a:ext cx="3581280" cy="540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609480" y="609480"/>
              <a:ext cx="769608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F983-BCCA-40F0-94B4-E8923A6147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中黑體(P)"/>
              </a:rPr>
              <a:t>企業如球隊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企業如球隊：目標明確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行動一致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打造勝利的球隊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阪神虎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定下明確目標：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2002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訂下『奪聯盟冠軍』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思考達成目標的策略：戰鬥力改造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用自己語言灌輸給每位成員：不放過任何機會對球員灌輸『我想打贏』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散亂的更衣室要打掃乾淨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信賞必罰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不拿出全部實力參加練習的選手，不能視為戰力</a:t>
            </a: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紀律只要亂一點，選手就會精神鬆懈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中黑體(P)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(P)"/>
              </a:rPr>
              <a:t>整理自：天下雜誌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47E-60F3-47BB-AD7C-45F15397C4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王永慶經營哲學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賣米的經營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雜物撿除，改進米的品質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改變遊戲規則，主動送米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優質服務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先進先出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隨叫隨到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收帳於發薪日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瘦鵝沒東西吃，培養耐餓的生命力；企業經過艱困，會有強韌的競爭力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經營不善，問題在經營者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755-E93E-4674-9FDD-80F02934F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競爭力提升策略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創新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核心競爭優勢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企圖心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落實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(P)"/>
              </a:rPr>
              <a:t>經營環境急速的變化，企業除要有能力應付轉變，  還要預備轉變，再造企業，才能不斷成長。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(P)"/>
              </a:rPr>
              <a:t>無法因應經營環境變化，是阻礙企業生存與發展的絆腳石</a:t>
            </a:r>
            <a:endParaRPr b="0" lang="en-US" sz="20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r">
              <a:spcBef>
                <a:spcPts val="601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許勝雄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pic>
        <p:nvPicPr>
          <p:cNvPr id="245" name="PE01562_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ED3-B8CD-4AAA-A684-90377A7632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台塑集團紡織事業狀況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台化：過去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4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多萬錠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(470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)→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現在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2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多萬錠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(140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)→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               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最近未來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8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萬錠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(800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人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南亞膠布機：最多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82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部→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現在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45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部→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        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最近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28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部 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</p:txBody>
      </p:sp>
      <p:pic>
        <p:nvPicPr>
          <p:cNvPr id="90" name="IN00561_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1402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91B-718B-41C0-AA49-82F75FB157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東陽的改變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組織瘦身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推動優退計畫，員工從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80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人→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20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委外比重增加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千噸以下設備便宜賣給退休員工。外包從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5%→15%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提高危機意識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EPS 3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元以下，總經理不再打高爾夫球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優勢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與日方合作成立研發中心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模具多可應付補修市場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於大陸有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座廠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pic>
        <p:nvPicPr>
          <p:cNvPr id="93" name="BD05584_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562400" cy="208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B6F1-6681-4EFE-9931-B0CD10B5A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三星五金的改變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放棄普通螺帽→汽車螺帽研發、但接單期很長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營業額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億→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7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億元，毛利多出五千萬元，員工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卻沒信心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「重賞之下必有勇夫，利潤應該要共享」三節依績效 配股給員工，一年內打三次考績！    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利益績效掛鉤後，員工向心力提升，帶動轉型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讓員工瞭解轉型的必要，組成「出差團」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0267-DF58-4098-8EA8-3DAEE8536C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</a:rPr>
              <a:t>華碩的改變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衰退的真相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過去成功模式，如工程師的企業文化，引以為傲的高定價、毛利的產品定位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擅長電子領域、追求彈性、創意，欠缺專業代工最需要的「機電整合」人才，及強調紀律、制度的文化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對策：宣布「巨獅策略」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沒有洞的市場策略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以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C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為核心發展多角化產品「巨獅」與「銀豹」策略並用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從自有品牌、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ODM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OEM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，跨入專業代工。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4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深耕自有品牌，強化「獅」的定位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pic>
        <p:nvPicPr>
          <p:cNvPr id="98" name="BS00580_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9A9-D40C-469F-B6D2-9FB07E3CD3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華康中黑體(P)"/>
                <a:ea typeface="標楷體"/>
              </a:rPr>
              <a:t>統一</a:t>
            </a:r>
            <a:r>
              <a:rPr b="0" lang="zh-TW" sz="4400" spc="-1" strike="noStrike">
                <a:solidFill>
                  <a:srgbClr val="000000"/>
                </a:solidFill>
                <a:latin typeface="華康中黑體(P)"/>
                <a:ea typeface="標楷體"/>
              </a:rPr>
              <a:t>7-11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菲律賓兩年 轉虧為盈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開店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  <a:ea typeface="標楷體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家後成長停滯，因缺乏系統的管理，只是單一店面思考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統一進入後大舉進攻未開發的新市。敢去嚐試新機會點，成功的經驗才可以複製到其他地方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給員工清楚的目標要求嚴格，也不吝於鼓勵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利用週未巡視店面，週一就下許多條子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表現好的店隔天發獎金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  <a:ea typeface="華康楷書體W5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千披索鼓勵，不好的店部份則訂目標改善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溝通觀念的問題：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楷書體W5"/>
              </a:rPr>
              <a:t>菲律賓人樂天個性，台灣主管嚴謹急燥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─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改變員工觀念很難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9E9-A391-4EC3-9792-15067EE695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中黑體(P)"/>
              </a:rPr>
              <a:t>Canon</a:t>
            </a:r>
            <a:r>
              <a:rPr b="1" lang="zh-TW" sz="4400" spc="-1" strike="noStrike">
                <a:solidFill>
                  <a:srgbClr val="000000"/>
                </a:solidFill>
                <a:latin typeface="華康中黑體(P)"/>
              </a:rPr>
              <a:t>的變革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1995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，負債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9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千億日圓，弊病叢生如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各事業部間人力分派不均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統一商品碼未建立，庫存管理費時費力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母公司業績雖佳，但合併報表卻不斷惡化 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立刻訂下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1.1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年內打消借款，實施『零借款經營』目標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.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策略：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1)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設置跨部門的經營改革委員會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(P)"/>
              </a:rPr>
              <a:t>    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(2)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開發新產品增加營業額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壓低成本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提高獲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             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利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壓縮庫存保留現金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3.8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0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開朝會溝通，每年親赴各廠聆聽員工意見『用自己聲音直接傳達，員工才會當真』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8E3-0815-4DAD-A448-2839244DBC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華康中黑體(P)"/>
              </a:rPr>
              <a:t>晶華酒店</a:t>
            </a:r>
            <a:endParaRPr b="0" lang="en-US" sz="4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徹底執行先『節流』後『開源』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華康中黑體(P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快狠準文化：行動快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注重成本控制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華康中黑體(P)"/>
              </a:rPr>
              <a:t>追求效益</a:t>
            </a:r>
            <a:endParaRPr b="0" lang="en-US" sz="28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人員分派係以『淡旺日』分派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收集摩登家具造型圖，經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R/D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修改找國內廠代工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宴會廳裝潢只要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華康中黑體(P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SARS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期間與遠航合作，發想→企劃→執行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華康中黑體(P)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華康中黑體(P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109-3D4F-4BD2-8AE8-E323256F2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4:25:10Z</dcterms:created>
  <dc:creator>cpc</dc:creator>
  <dc:description/>
  <dc:language>en-US</dc:language>
  <cp:lastModifiedBy>user</cp:lastModifiedBy>
  <dcterms:modified xsi:type="dcterms:W3CDTF">2005-03-04T13:59:01Z</dcterms:modified>
  <cp:revision>157</cp:revision>
  <dc:subject/>
  <dc:title>王永慶經營哲學</dc:title>
</cp:coreProperties>
</file>