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9.png" ContentType="image/png"/>
  <Override PartName="/ppt/media/image16.wmf" ContentType="image/x-wmf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8.wmf" ContentType="image/x-wmf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71EC-BC38-492E-A79A-155BD83C2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B43E-3EB8-429E-816C-0CFAEB567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9FF1-1D87-4800-A952-94BF35C32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8198-61F1-4E77-B819-841AA0F34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27B52-EAA4-4B98-A939-769C3C093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459E4-4E58-408C-8719-ACB8D0B7F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4DF2E-8DE7-4907-BA95-ED5E1D5DC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83400-749A-4C03-BC05-7ACB03111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157C5-9F07-4702-B0DE-D65D710D7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181B6-FFB0-4761-B887-19F8864E2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EFCE7-C5E1-4F45-B53C-10339D2C1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4C70-A576-46CF-B138-8F0F95736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12E2B-3D49-4BE0-9D5F-A44CF1841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6F1EB-451D-470C-93B7-59D5836C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1D8EE-D07B-4254-9E79-27E5ADBCA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60FAE-647F-4158-81C1-FACFFB1C0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2640D-8239-46CF-AC73-42FD6CBF9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D371-2311-45FE-84DA-744ACE653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FA33-1A33-4411-A826-5313F54B9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67E5-157D-45AF-AE5A-DAB30F26E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87DA-7078-4D75-9291-800F887CA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5FD8-E67A-466E-9BB8-9AB141A4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97BE-FA6B-440B-B0C0-E8FF12513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B77C-43CC-4C20-8A8E-5776B6167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1" name="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4" name=""/>
              <p:cNvSpPr/>
              <p:nvPr/>
            </p:nvSpPr>
            <p:spPr>
              <a:xfrm rot="21092400">
                <a:off x="-23400" y="831600"/>
                <a:ext cx="1680840" cy="272880"/>
              </a:xfrm>
              <a:custGeom>
                <a:avLst/>
                <a:gdLst/>
                <a:ahLst/>
                <a:rect l="l" t="t" r="r" b="b"/>
                <a:pathLst>
                  <a:path w="1059" h="172">
                    <a:moveTo>
                      <a:pt x="1059" y="0"/>
                    </a:moveTo>
                    <a:cubicBezTo>
                      <a:pt x="543" y="45"/>
                      <a:pt x="291" y="112"/>
                      <a:pt x="147" y="144"/>
                    </a:cubicBezTo>
                    <a:cubicBezTo>
                      <a:pt x="0" y="172"/>
                      <a:pt x="153" y="147"/>
                      <a:pt x="177" y="171"/>
                    </a:cubicBezTo>
                    <a:cubicBezTo>
                      <a:pt x="329" y="151"/>
                      <a:pt x="339" y="99"/>
                      <a:pt x="1059" y="24"/>
                    </a:cubicBezTo>
                    <a:cubicBezTo>
                      <a:pt x="1059" y="24"/>
                      <a:pt x="1059" y="0"/>
                      <a:pt x="10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6600"/>
                  </a:gs>
                  <a:gs pos="100000">
                    <a:srgbClr val="f5ebc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rot="21092400">
                <a:off x="1838160" y="-141120"/>
                <a:ext cx="6543360" cy="1000080"/>
              </a:xfrm>
              <a:custGeom>
                <a:avLst/>
                <a:gdLst/>
                <a:ahLst/>
                <a:rect l="l" t="t" r="r" b="b"/>
                <a:pathLst>
                  <a:path w="4122" h="630">
                    <a:moveTo>
                      <a:pt x="0" y="204"/>
                    </a:moveTo>
                    <a:cubicBezTo>
                      <a:pt x="255" y="198"/>
                      <a:pt x="1686" y="0"/>
                      <a:pt x="3544" y="348"/>
                    </a:cubicBezTo>
                    <a:cubicBezTo>
                      <a:pt x="4122" y="464"/>
                      <a:pt x="3754" y="614"/>
                      <a:pt x="3680" y="630"/>
                    </a:cubicBezTo>
                    <a:cubicBezTo>
                      <a:pt x="3680" y="630"/>
                      <a:pt x="3642" y="626"/>
                      <a:pt x="3616" y="624"/>
                    </a:cubicBezTo>
                    <a:cubicBezTo>
                      <a:pt x="3678" y="612"/>
                      <a:pt x="4118" y="488"/>
                      <a:pt x="3534" y="368"/>
                    </a:cubicBezTo>
                    <a:cubicBezTo>
                      <a:pt x="2029" y="98"/>
                      <a:pt x="696" y="156"/>
                      <a:pt x="17" y="231"/>
                    </a:cubicBezTo>
                    <a:cubicBezTo>
                      <a:pt x="17" y="231"/>
                      <a:pt x="0" y="204"/>
                      <a:pt x="0" y="204"/>
                    </a:cubicBez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" name="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" name="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CB307-F65A-48F0-A7FE-3C4C7D9413EA}" type="slidenum">
              <a:rPr b="0" lang="zh-TW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9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60" name=""/>
              <p:cNvSpPr/>
              <p:nvPr/>
            </p:nvSpPr>
            <p:spPr>
              <a:xfrm>
                <a:off x="0" y="1981080"/>
                <a:ext cx="9144000" cy="1752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0"/>
                <a:ext cx="1776240" cy="6858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1295280" y="4114800"/>
              <a:ext cx="1113120" cy="2743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-10800" y="895680"/>
            <a:ext cx="8454600" cy="1951920"/>
            <a:chOff x="-10800" y="895680"/>
            <a:chExt cx="8454600" cy="1951920"/>
          </a:xfrm>
        </p:grpSpPr>
        <p:sp>
          <p:nvSpPr>
            <p:cNvPr id="64" name=""/>
            <p:cNvSpPr/>
            <p:nvPr/>
          </p:nvSpPr>
          <p:spPr>
            <a:xfrm rot="21092400">
              <a:off x="0" y="2344680"/>
              <a:ext cx="1681200" cy="273240"/>
            </a:xfrm>
            <a:custGeom>
              <a:avLst/>
              <a:gdLst/>
              <a:ahLst/>
              <a:rect l="l" t="t" r="r" b="b"/>
              <a:pathLst>
                <a:path w="1059" h="172">
                  <a:moveTo>
                    <a:pt x="1059" y="0"/>
                  </a:moveTo>
                  <a:cubicBezTo>
                    <a:pt x="543" y="45"/>
                    <a:pt x="291" y="112"/>
                    <a:pt x="147" y="144"/>
                  </a:cubicBezTo>
                  <a:cubicBezTo>
                    <a:pt x="0" y="172"/>
                    <a:pt x="153" y="147"/>
                    <a:pt x="177" y="171"/>
                  </a:cubicBezTo>
                  <a:cubicBezTo>
                    <a:pt x="329" y="151"/>
                    <a:pt x="339" y="99"/>
                    <a:pt x="1059" y="24"/>
                  </a:cubicBezTo>
                  <a:cubicBezTo>
                    <a:pt x="1059" y="24"/>
                    <a:pt x="1059" y="0"/>
                    <a:pt x="10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f5ebc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21092400">
              <a:off x="1862280" y="1371240"/>
              <a:ext cx="6543360" cy="1000080"/>
            </a:xfrm>
            <a:custGeom>
              <a:avLst/>
              <a:gdLst/>
              <a:ahLst/>
              <a:rect l="l" t="t" r="r" b="b"/>
              <a:pathLst>
                <a:path w="4122" h="630">
                  <a:moveTo>
                    <a:pt x="0" y="204"/>
                  </a:moveTo>
                  <a:cubicBezTo>
                    <a:pt x="255" y="198"/>
                    <a:pt x="1686" y="0"/>
                    <a:pt x="3544" y="348"/>
                  </a:cubicBezTo>
                  <a:cubicBezTo>
                    <a:pt x="4122" y="464"/>
                    <a:pt x="3754" y="614"/>
                    <a:pt x="3680" y="630"/>
                  </a:cubicBezTo>
                  <a:cubicBezTo>
                    <a:pt x="3680" y="630"/>
                    <a:pt x="3642" y="626"/>
                    <a:pt x="3616" y="624"/>
                  </a:cubicBezTo>
                  <a:cubicBezTo>
                    <a:pt x="3678" y="612"/>
                    <a:pt x="4118" y="488"/>
                    <a:pt x="3534" y="368"/>
                  </a:cubicBezTo>
                  <a:cubicBezTo>
                    <a:pt x="2029" y="98"/>
                    <a:pt x="696" y="156"/>
                    <a:pt x="17" y="231"/>
                  </a:cubicBezTo>
                  <a:cubicBezTo>
                    <a:pt x="17" y="231"/>
                    <a:pt x="0" y="204"/>
                    <a:pt x="0" y="204"/>
                  </a:cubicBez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1600200" y="1981080"/>
              <a:ext cx="456840" cy="456840"/>
              <a:chOff x="1600200" y="1981080"/>
              <a:chExt cx="456840" cy="456840"/>
            </a:xfrm>
          </p:grpSpPr>
          <p:sp>
            <p:nvSpPr>
              <p:cNvPr id="67" name=""/>
              <p:cNvSpPr/>
              <p:nvPr/>
            </p:nvSpPr>
            <p:spPr>
              <a:xfrm>
                <a:off x="1600200" y="1981080"/>
                <a:ext cx="456840" cy="45684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828800" y="210204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671840" y="2037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671840" y="216684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778760" y="22093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921680" y="21949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807200" y="23022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671840" y="2280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800360" y="198792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E78E9-C465-46DB-A43E-43BD6C22C736}" type="slidenum">
              <a:rPr b="0" lang="zh-TW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oating.com.tw/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oleObject" Target="../embeddings/oleObject1.bin"/><Relationship Id="rId12" Type="http://schemas.openxmlformats.org/officeDocument/2006/relationships/image" Target="../media/image8.wmf"/><Relationship Id="rId1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9.png"/><Relationship Id="rId1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28800" y="220932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Arial Narrow"/>
                <a:ea typeface="標楷體"/>
              </a:rPr>
              <a:t>人力資源看自我行銷</a:t>
            </a:r>
            <a:r>
              <a:rPr b="1" lang="zh-TW" sz="4800" spc="-1" strike="noStrike">
                <a:solidFill>
                  <a:srgbClr val="000000"/>
                </a:solidFill>
                <a:latin typeface="Arial Narrow"/>
                <a:ea typeface="標楷體"/>
              </a:rPr>
              <a:t>-----</a:t>
            </a:r>
            <a:br>
              <a:rPr sz="4800"/>
            </a:br>
            <a:r>
              <a:rPr b="1" lang="zh-TW" sz="4400" spc="-1" strike="noStrike">
                <a:solidFill>
                  <a:srgbClr val="000000"/>
                </a:solidFill>
                <a:latin typeface="Arial Narrow"/>
                <a:ea typeface="標楷體"/>
              </a:rPr>
              <a:t>塑造職場競爭力與形象魅力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　　　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　　主講人：</a:t>
            </a:r>
            <a:r>
              <a:rPr b="1" lang="zh-TW" sz="3200" spc="-1" strike="noStrike">
                <a:solidFill>
                  <a:srgbClr val="000000"/>
                </a:solidFill>
                <a:latin typeface="新細明體"/>
              </a:rPr>
              <a:t>林國仁  課長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                                   </a:t>
            </a:r>
            <a:r>
              <a:rPr b="1" lang="zh-TW" sz="2400" spc="-1" strike="noStrike">
                <a:solidFill>
                  <a:srgbClr val="000000"/>
                </a:solidFill>
                <a:latin typeface="Arial Narrow"/>
              </a:rPr>
              <a:t>高鼎化學工業</a:t>
            </a:r>
            <a:r>
              <a:rPr b="1" lang="zh-TW" sz="2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zh-TW" sz="2400" spc="-1" strike="noStrike">
                <a:solidFill>
                  <a:srgbClr val="000000"/>
                </a:solidFill>
                <a:latin typeface="Arial Narrow"/>
              </a:rPr>
              <a:t>股</a:t>
            </a:r>
            <a:r>
              <a:rPr b="1" lang="zh-TW" sz="2400" spc="-1" strike="noStrike">
                <a:solidFill>
                  <a:srgbClr val="000000"/>
                </a:solidFill>
                <a:latin typeface="Arial Narrow"/>
              </a:rPr>
              <a:t>)</a:t>
            </a:r>
            <a:r>
              <a:rPr b="1" lang="zh-TW" sz="2400" spc="-1" strike="noStrike">
                <a:solidFill>
                  <a:srgbClr val="000000"/>
                </a:solidFill>
                <a:latin typeface="Arial Narrow"/>
              </a:rPr>
              <a:t>公司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0" lang="zh-TW" sz="2800" spc="-1" strike="noStrike" u="sng">
                <a:solidFill>
                  <a:srgbClr val="d4876c"/>
                </a:solidFill>
                <a:uFillTx/>
                <a:latin typeface="Arial Narrow"/>
                <a:hlinkClick r:id="rId1"/>
              </a:rPr>
              <a:t>http://www.COATING.com.tw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　　</a:t>
            </a:r>
            <a:r>
              <a:rPr b="0" lang="zh-TW" sz="2400" spc="-1" strike="noStrike">
                <a:solidFill>
                  <a:srgbClr val="000000"/>
                </a:solidFill>
                <a:latin typeface="Arial Narrow"/>
              </a:rPr>
              <a:t>日期：</a:t>
            </a:r>
            <a:r>
              <a:rPr b="0" lang="zh-TW" sz="2400" spc="-1" strike="noStrike">
                <a:solidFill>
                  <a:srgbClr val="000000"/>
                </a:solidFill>
                <a:latin typeface="Arial Narrow"/>
              </a:rPr>
              <a:t>2004</a:t>
            </a:r>
            <a:r>
              <a:rPr b="0" lang="zh-TW" sz="2400" spc="-1" strike="noStrike">
                <a:solidFill>
                  <a:srgbClr val="000000"/>
                </a:solidFill>
                <a:latin typeface="Arial Narrow"/>
              </a:rPr>
              <a:t>年</a:t>
            </a:r>
            <a:r>
              <a:rPr b="0" lang="zh-TW" sz="2400" spc="-1" strike="noStrike">
                <a:solidFill>
                  <a:srgbClr val="000000"/>
                </a:solidFill>
                <a:latin typeface="Arial Narrow"/>
              </a:rPr>
              <a:t>11</a:t>
            </a:r>
            <a:r>
              <a:rPr b="0" lang="zh-TW" sz="2400" spc="-1" strike="noStrike">
                <a:solidFill>
                  <a:srgbClr val="000000"/>
                </a:solidFill>
                <a:latin typeface="Arial Narrow"/>
              </a:rPr>
              <a:t>月</a:t>
            </a:r>
            <a:r>
              <a:rPr b="0" lang="zh-TW" sz="2400" spc="-1" strike="noStrike">
                <a:solidFill>
                  <a:srgbClr val="000000"/>
                </a:solidFill>
                <a:latin typeface="Arial Narrow"/>
              </a:rPr>
              <a:t>23</a:t>
            </a:r>
            <a:r>
              <a:rPr b="0" lang="zh-TW" sz="2400" spc="-1" strike="noStrike">
                <a:solidFill>
                  <a:srgbClr val="000000"/>
                </a:solidFill>
                <a:latin typeface="Arial Narrow"/>
              </a:rPr>
              <a:t>日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rcRect l="0" t="42813" r="43617" b="41536"/>
          <a:stretch/>
        </p:blipFill>
        <p:spPr>
          <a:xfrm>
            <a:off x="2666880" y="4648320"/>
            <a:ext cx="19432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 Narrow"/>
                <a:ea typeface="標楷體"/>
              </a:rPr>
              <a:t>如何紓解老闆的壓力</a:t>
            </a:r>
            <a:r>
              <a:rPr b="0" lang="zh-TW" sz="4400" spc="-1" strike="noStrike">
                <a:solidFill>
                  <a:srgbClr val="000000"/>
                </a:solidFill>
                <a:latin typeface="Arial Narrow"/>
                <a:ea typeface="標楷體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1066680" y="1828800"/>
          <a:ext cx="7391520" cy="4749840"/>
        </p:xfrm>
        <a:graphic>
          <a:graphicData uri="http://schemas.openxmlformats.org/drawingml/2006/table">
            <a:tbl>
              <a:tblPr/>
              <a:tblGrid>
                <a:gridCol w="1447920"/>
                <a:gridCol w="1476360"/>
                <a:gridCol w="2108160"/>
                <a:gridCol w="235908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1115af"/>
                          </a:solidFill>
                          <a:latin typeface="Arial Narrow"/>
                        </a:rPr>
                        <a:t>上司性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1115af"/>
                          </a:solidFill>
                          <a:latin typeface="Arial Narrow"/>
                        </a:rPr>
                        <a:t>特         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1115af"/>
                          </a:solidFill>
                          <a:latin typeface="Arial Narrow"/>
                        </a:rPr>
                        <a:t>遇壓力的反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1115af"/>
                          </a:solidFill>
                          <a:latin typeface="Arial Narrow"/>
                        </a:rPr>
                        <a:t>應對之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　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　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　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　配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自信果斷、目標明確、凡事重結果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一觸即發，對於不合理的事會很快表明立場，態度直接毫不修飾，也不矯揉造作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退避三舍，靜待時機，同時給予明確的答覆，講重點不囉唆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7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　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　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　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　重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個性踏實、有耐性、善聆聽、配合度高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不喜歡有變化的工作，態度保守，會顧全大局，抗壓度低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給予絕對支持，默默付出，一舉一動上司心佑肚明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 Narrow"/>
                <a:ea typeface="標楷體"/>
              </a:rPr>
              <a:t>如何紓解老闆的壓力</a:t>
            </a:r>
            <a:r>
              <a:rPr b="0" lang="zh-TW" sz="4400" spc="-1" strike="noStrike">
                <a:solidFill>
                  <a:srgbClr val="000000"/>
                </a:solidFill>
                <a:latin typeface="Arial Narrow"/>
                <a:ea typeface="標楷體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066680" y="1828800"/>
          <a:ext cx="7391520" cy="4384800"/>
        </p:xfrm>
        <a:graphic>
          <a:graphicData uri="http://schemas.openxmlformats.org/drawingml/2006/table">
            <a:tbl>
              <a:tblPr/>
              <a:tblGrid>
                <a:gridCol w="1447920"/>
                <a:gridCol w="1476360"/>
                <a:gridCol w="2108160"/>
                <a:gridCol w="235908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1115af"/>
                          </a:solidFill>
                          <a:latin typeface="Arial Narrow"/>
                        </a:rPr>
                        <a:t>上司性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1115af"/>
                          </a:solidFill>
                          <a:latin typeface="Arial Narrow"/>
                        </a:rPr>
                        <a:t>特         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1115af"/>
                          </a:solidFill>
                          <a:latin typeface="Arial Narrow"/>
                        </a:rPr>
                        <a:t>遇壓力的反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1115af"/>
                          </a:solidFill>
                          <a:latin typeface="Arial Narrow"/>
                        </a:rPr>
                        <a:t>應對之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　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　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　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　交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熱情有活力、表逹能力強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情緖起伏大，注意自己的感覺勝於事實；也會顧及別人的感受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給予適度同情，絕對的支持；深表感同身受，三分鐘後保證雨過天情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7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　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　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　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　美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心思細膩無可救藥的完美主義者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對事極為敏感極易發覺別人的錯處，凡事要求高標準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按邏輯講步驟，凡事正確可靠，給予絕對的安全感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 Narrow"/>
              </a:rPr>
              <a:t>好用人才的十大條件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98108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行動力（持續力）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學習力強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吃苦耐勞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ＥＱ高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忍受挫折力強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穩定性高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服從性高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自我挑戰力強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身體健康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具有創新的能力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5486400" y="4038480"/>
          <a:ext cx="3174840" cy="2401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86400" y="4038480"/>
                    <a:ext cx="317484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 Narrow"/>
              </a:rPr>
              <a:t>成敗一念間人生從此分勝負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0574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 Narrow"/>
              </a:rPr>
              <a:t>放下身段學功夫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 Narrow"/>
              </a:rPr>
              <a:t>不要成為他人的負擔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 Narrow"/>
              </a:rPr>
              <a:t>天才也需要努力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 Narrow"/>
              </a:rPr>
              <a:t>成長總是在煎熬後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 Narrow"/>
              </a:rPr>
              <a:t>悲觀者永遠看不到希望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 Narrow"/>
              </a:rPr>
              <a:t>精誠所至，金石為開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 Narrow"/>
              </a:rPr>
              <a:t>有所為，有所不為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 Narrow"/>
              </a:rPr>
              <a:t>小地方大關鍵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 Narrow"/>
              </a:rPr>
              <a:t>永遠相信自己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 Narrow"/>
              </a:rPr>
              <a:t>懷抱惜緣惜福與感恩的心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 Narrow"/>
              </a:rPr>
              <a:t>工作是無怨無悔的天職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 Narrow"/>
              </a:rPr>
              <a:t>換工作不如換心情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 Narrow"/>
              </a:rPr>
              <a:t>隨時革新，隨時創新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 Narrow"/>
              </a:rPr>
              <a:t>嚴師出高徒，年少慎選師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 Narrow"/>
              </a:rPr>
              <a:t>不斷追求自我成長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6"/>
          <a:stretch/>
        </p:blipFill>
        <p:spPr>
          <a:xfrm>
            <a:off x="5867280" y="2286000"/>
            <a:ext cx="28195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 Narrow"/>
              </a:rPr>
              <a:t>提升職場人氣指數的十法則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98108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重塑自信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改變形象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運用智慧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辦公環境的青睞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人人皆我師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讓自己的知識為他人所用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適時獎勵自己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勇於面對問題，解決問題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擴大自己的工作舞台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施展你的人格魅力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1"/>
          <a:stretch/>
        </p:blipFill>
        <p:spPr>
          <a:xfrm>
            <a:off x="6477120" y="2895480"/>
            <a:ext cx="24382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 Narrow"/>
              </a:rPr>
              <a:t>專業形象魅力與養成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98108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形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氣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神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肢體風範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禮節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6"/>
          <a:stretch/>
        </p:blipFill>
        <p:spPr>
          <a:xfrm>
            <a:off x="4952880" y="1981080"/>
            <a:ext cx="32767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 Narrow"/>
              </a:rPr>
              <a:t>形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 Narrow"/>
              </a:rPr>
              <a:t>外表給人的訊息～代表身份、涵養、教育程度、                         企業形象的展現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 Narrow"/>
              </a:rPr>
              <a:t>配合時間、場合、身份的合宜穿著藝術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 Narrow"/>
              </a:rPr>
              <a:t>簡單、大方、整潔、明快的穿著原則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 Narrow"/>
              </a:rPr>
              <a:t>儀容與裝扮的美學藝術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 Narrow"/>
              </a:rPr>
              <a:t>基本配件～名牌、筆、名片夾、手錶…</a:t>
            </a:r>
            <a:r>
              <a:rPr b="1" lang="zh-TW" sz="2400" spc="-1" strike="noStrike">
                <a:solidFill>
                  <a:srgbClr val="000000"/>
                </a:solidFill>
                <a:latin typeface="Arial Narrow"/>
              </a:rPr>
              <a:t>.</a:t>
            </a:r>
            <a:r>
              <a:rPr b="1" lang="zh-TW" sz="2400" spc="-1" strike="noStrike">
                <a:solidFill>
                  <a:srgbClr val="000000"/>
                </a:solidFill>
                <a:latin typeface="Arial Narrow"/>
              </a:rPr>
              <a:t>等配戴                            方式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 Narrow"/>
              </a:rPr>
              <a:t>上班前自我檢視的要點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 Narrow"/>
              </a:rPr>
              <a:t>氣、神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『心』的禮儀培訓與養成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聲音、表情、動作、態度、禮節…</a:t>
            </a: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.</a:t>
            </a: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等基本養成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zh-TW" sz="2400" spc="-1" strike="noStrike">
                <a:solidFill>
                  <a:srgbClr val="000000"/>
                </a:solidFill>
                <a:latin typeface="Arial Narrow"/>
              </a:rPr>
              <a:t>優雅風範、迷人氣度…</a:t>
            </a:r>
            <a:r>
              <a:rPr b="1" lang="zh-TW" sz="24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zh-TW" sz="2400" spc="-1" strike="noStrike">
                <a:solidFill>
                  <a:srgbClr val="000000"/>
                </a:solidFill>
                <a:latin typeface="Arial Narrow"/>
              </a:rPr>
              <a:t>關愛的眼神、微笑魅力…</a:t>
            </a:r>
            <a:r>
              <a:rPr b="1" lang="zh-TW" sz="2400" spc="-1" strike="noStrike">
                <a:solidFill>
                  <a:srgbClr val="000000"/>
                </a:solidFill>
                <a:latin typeface="Arial Narrow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zh-TW" sz="2400" spc="-1" strike="noStrike">
                <a:solidFill>
                  <a:srgbClr val="000000"/>
                </a:solidFill>
                <a:latin typeface="Arial Narrow"/>
              </a:rPr>
              <a:t>口語蓮花、讚美鼓勵…</a:t>
            </a:r>
            <a:r>
              <a:rPr b="1" lang="zh-TW" sz="24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 Narrow"/>
              </a:rPr>
              <a:t>肢體風範與禮節</a:t>
            </a:r>
            <a:r>
              <a:rPr b="1" lang="zh-TW" sz="4400" spc="-1" strike="noStrike">
                <a:solidFill>
                  <a:srgbClr val="000000"/>
                </a:solidFill>
                <a:latin typeface="Arial Narrow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429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基本態度篇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1" lang="zh-TW" sz="2400" spc="-1" strike="noStrike">
                <a:solidFill>
                  <a:srgbClr val="000000"/>
                </a:solidFill>
                <a:latin typeface="Arial Narrow"/>
              </a:rPr>
              <a:t>微笑致祥和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1" lang="zh-TW" sz="2400" spc="-1" strike="noStrike">
                <a:solidFill>
                  <a:srgbClr val="000000"/>
                </a:solidFill>
                <a:latin typeface="Arial Narrow"/>
              </a:rPr>
              <a:t>關愛表敬意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1" lang="zh-TW" sz="2400" spc="-1" strike="noStrike">
                <a:solidFill>
                  <a:srgbClr val="000000"/>
                </a:solidFill>
                <a:latin typeface="Arial Narrow"/>
              </a:rPr>
              <a:t>動作求敏捷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1" lang="zh-TW" sz="2400" spc="-1" strike="noStrike">
                <a:solidFill>
                  <a:srgbClr val="000000"/>
                </a:solidFill>
                <a:latin typeface="Arial Narrow"/>
              </a:rPr>
              <a:t>奉物用雙手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1" lang="zh-TW" sz="2400" spc="-1" strike="noStrike">
                <a:solidFill>
                  <a:srgbClr val="000000"/>
                </a:solidFill>
                <a:latin typeface="Arial Narrow"/>
              </a:rPr>
              <a:t>相遇先問好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1" lang="zh-TW" sz="2400" spc="-1" strike="noStrike">
                <a:solidFill>
                  <a:srgbClr val="000000"/>
                </a:solidFill>
                <a:latin typeface="Arial Narrow"/>
              </a:rPr>
              <a:t>接物先道謝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1" lang="zh-TW" sz="2400" spc="-1" strike="noStrike">
                <a:solidFill>
                  <a:srgbClr val="000000"/>
                </a:solidFill>
                <a:latin typeface="Arial Narrow"/>
              </a:rPr>
              <a:t>答詢先起立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1" lang="zh-TW" sz="2400" spc="-1" strike="noStrike">
                <a:solidFill>
                  <a:srgbClr val="000000"/>
                </a:solidFill>
                <a:latin typeface="Arial Narrow"/>
              </a:rPr>
              <a:t>謙敬先讓行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2038320" cy="33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 Narrow"/>
              </a:rPr>
              <a:t>肢體風範與禮節</a:t>
            </a:r>
            <a:r>
              <a:rPr b="1" lang="zh-TW" sz="4400" spc="-1" strike="noStrike">
                <a:solidFill>
                  <a:srgbClr val="000000"/>
                </a:solidFill>
                <a:latin typeface="Arial Narrow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599840" y="1981080"/>
            <a:ext cx="6095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基本接待、服務、禮儀篇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zh-TW" sz="2400" spc="-1" strike="noStrike">
                <a:solidFill>
                  <a:srgbClr val="000000"/>
                </a:solidFill>
                <a:latin typeface="Arial Narrow"/>
              </a:rPr>
              <a:t>迎賓起身、微笑說您好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zh-TW" sz="2400" spc="-1" strike="noStrike">
                <a:solidFill>
                  <a:srgbClr val="000000"/>
                </a:solidFill>
                <a:latin typeface="Arial Narrow"/>
              </a:rPr>
              <a:t>接待要熱忱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zh-TW" sz="2400" spc="-1" strike="noStrike">
                <a:solidFill>
                  <a:srgbClr val="000000"/>
                </a:solidFill>
                <a:latin typeface="Arial Narrow"/>
              </a:rPr>
              <a:t>應對要和悅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zh-TW" sz="2400" spc="-1" strike="noStrike">
                <a:solidFill>
                  <a:srgbClr val="000000"/>
                </a:solidFill>
                <a:latin typeface="Arial Narrow"/>
              </a:rPr>
              <a:t>作業要精確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zh-TW" sz="2400" spc="-1" strike="noStrike">
                <a:solidFill>
                  <a:srgbClr val="000000"/>
                </a:solidFill>
                <a:latin typeface="Arial Narrow"/>
              </a:rPr>
              <a:t>糾紛要忍耐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zh-TW" sz="2400" spc="-1" strike="noStrike">
                <a:solidFill>
                  <a:srgbClr val="000000"/>
                </a:solidFill>
                <a:latin typeface="Arial Narrow"/>
              </a:rPr>
              <a:t>送客起身、微笑道再見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 Narrow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zh-TW" sz="4400" spc="-1" strike="noStrike">
                <a:solidFill>
                  <a:srgbClr val="000000"/>
                </a:solidFill>
                <a:latin typeface="Arial Narrow"/>
              </a:rPr>
              <a:t>企業永續經營與競爭策略</a:t>
            </a:r>
            <a:r>
              <a:rPr b="0" lang="zh-TW" sz="4400" spc="-1" strike="noStrike">
                <a:solidFill>
                  <a:srgbClr val="000000"/>
                </a:solidFill>
                <a:latin typeface="Arial Narrow"/>
              </a:rPr>
              <a:t>----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 Narrow"/>
              </a:rPr>
              <a:t>選對人，做對的事，把事做對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對的人</a:t>
            </a: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----</a:t>
            </a: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職場競爭力—學經歷與特質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做對的事</a:t>
            </a: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---</a:t>
            </a: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效能</a:t>
            </a: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----</a:t>
            </a: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特質與歷練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把事做對—效率—專業與知識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 Narrow"/>
              </a:rPr>
              <a:t>增強您的專業競爭力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98108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專業知識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行政管理的能力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企劃能力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整合資源的能力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語文能力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溝通協調的能力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傾聽的能力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國際觀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6477120" y="2286000"/>
          <a:ext cx="2057400" cy="3733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77120" y="2286000"/>
                    <a:ext cx="205740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 Narrow"/>
              </a:rPr>
              <a:t>增強您的個性競爭力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精明、細膩、認真的能力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隨環境變遷的自我成長驅策能力</a:t>
            </a: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---</a:t>
            </a: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終身學習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全力投入、熱愛你的工作、並傳染給別人</a:t>
            </a: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---</a:t>
            </a: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工作熱忱—樂於犧牲奉獻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人盡其才、物盡其用的能力—壓力忍受度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創新的思維</a:t>
            </a: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--</a:t>
            </a: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不換腦袋、將被淘汰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做個激勵高手—有自信、肯讚美—永不抱怨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傾聽顧客聲音</a:t>
            </a: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--</a:t>
            </a: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深得老闆心、贏得員工情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主動積極、旺盛企圖心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68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9600" spc="-1" strike="noStrike">
                <a:solidFill>
                  <a:srgbClr val="000000"/>
                </a:solidFill>
                <a:latin typeface="Lucida Handwriting"/>
              </a:rPr>
              <a:t>您準備好了</a:t>
            </a:r>
            <a:endParaRPr b="0" lang="en-US" sz="9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895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2819520" y="762120"/>
            <a:ext cx="40575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9080">
                  <a:solidFill>
                    <a:srgbClr val="99cc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Broadway BT"/>
              </a:rPr>
              <a:t>Q&amp;A</a:t>
            </a:r>
            <a:endParaRPr b="1" lang="en-US" sz="8000" spc="1" strike="noStrike">
              <a:ln w="19080">
                <a:solidFill>
                  <a:srgbClr val="99cc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Broadway BT"/>
              <a:ea typeface="Broadway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 Narrow"/>
              </a:rPr>
              <a:t>職涯理念的突破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Arial Narrow"/>
              </a:rPr>
              <a:t>改變思維，改變命運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22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Arial Narrow"/>
              </a:rPr>
              <a:t>快速學習，智慧資本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2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Arial Narrow"/>
              </a:rPr>
              <a:t>創造價值，競爭優勢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4"/>
          <a:stretch/>
        </p:blipFill>
        <p:spPr>
          <a:xfrm>
            <a:off x="6019920" y="2666880"/>
            <a:ext cx="251928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971800" y="0"/>
            <a:ext cx="4098960" cy="16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圖龍中隸書"/>
                <a:ea typeface="圖龍中隸書"/>
              </a:rPr>
              <a:t>      </a:t>
            </a:r>
            <a:r>
              <a:rPr b="1" lang="zh-TW" sz="2800" spc="-1" strike="noStrike" u="sng">
                <a:solidFill>
                  <a:srgbClr val="000000"/>
                </a:solidFill>
                <a:uFillTx/>
                <a:latin typeface=""/>
                <a:ea typeface="圖龍中隸書"/>
              </a:rPr>
              <a:t>組     織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"/>
                <a:ea typeface="圖龍中隸書"/>
              </a:rPr>
              <a:t> </a:t>
            </a:r>
            <a:r>
              <a:rPr b="1" lang="zh-TW" sz="2400" spc="-1" strike="noStrike">
                <a:solidFill>
                  <a:srgbClr val="ffffff"/>
                </a:solidFill>
                <a:latin typeface=""/>
                <a:ea typeface="圖龍中隸書"/>
              </a:rPr>
              <a:t>Respons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"/>
                <a:ea typeface="圖龍中隸書"/>
              </a:rPr>
              <a:t>永續經營、共同願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"/>
                <a:ea typeface="圖龍中隸書"/>
              </a:rPr>
              <a:t>經營理念、企業文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"/>
                <a:ea typeface="圖龍中隸書"/>
              </a:rPr>
              <a:t>組織發展、經營策略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4114800"/>
            <a:ext cx="3962520" cy="20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圖龍中隸書"/>
                <a:ea typeface="圖龍中隸書"/>
              </a:rPr>
              <a:t>       </a:t>
            </a:r>
            <a:r>
              <a:rPr b="1" lang="zh-TW" sz="2800" spc="-1" strike="noStrike" u="sng">
                <a:solidFill>
                  <a:srgbClr val="ff0000"/>
                </a:solidFill>
                <a:uFillTx/>
                <a:latin typeface="圖龍中隸書"/>
                <a:ea typeface="圖龍中隸書"/>
              </a:rPr>
              <a:t>主   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圖龍中隸書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圖龍中隸書"/>
                <a:ea typeface="圖龍中隸書"/>
              </a:rPr>
              <a:t>Consul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圖龍中隸書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圖龍中隸書"/>
                <a:ea typeface="圖龍中隸書"/>
              </a:rPr>
              <a:t>諮商輔導</a:t>
            </a:r>
            <a:r>
              <a:rPr b="1" lang="zh-TW" sz="2400" spc="-1" strike="noStrike">
                <a:solidFill>
                  <a:srgbClr val="ff0000"/>
                </a:solidFill>
                <a:latin typeface="圖龍中隸書"/>
                <a:ea typeface="圖龍中隸書"/>
              </a:rPr>
              <a:t>(E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圖龍中隸書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圖龍中隸書"/>
                <a:ea typeface="圖龍中隸書"/>
              </a:rPr>
              <a:t>授權賦能</a:t>
            </a:r>
            <a:r>
              <a:rPr b="1" lang="zh-TW" sz="2400" spc="-1" strike="noStrike">
                <a:solidFill>
                  <a:srgbClr val="ff0000"/>
                </a:solidFill>
                <a:latin typeface="圖龍中隸書"/>
                <a:ea typeface="圖龍中隸書"/>
              </a:rPr>
              <a:t>(Empowerment)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4038480"/>
            <a:ext cx="27432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 u="sng">
                <a:solidFill>
                  <a:srgbClr val="008000"/>
                </a:solidFill>
                <a:uFillTx/>
                <a:latin typeface="圖龍中隸書"/>
                <a:ea typeface="圖龍中隸書"/>
              </a:rPr>
              <a:t>  </a:t>
            </a:r>
            <a:r>
              <a:rPr b="1" lang="zh-TW" sz="2800" spc="-1" strike="noStrike" u="sng">
                <a:solidFill>
                  <a:srgbClr val="008000"/>
                </a:solidFill>
                <a:uFillTx/>
                <a:latin typeface="圖龍中隸書"/>
                <a:ea typeface="圖龍中隸書"/>
              </a:rPr>
              <a:t>員工本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圖龍中隸書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8000"/>
                </a:solidFill>
                <a:latin typeface="圖龍中隸書"/>
                <a:ea typeface="圖龍中隸書"/>
              </a:rPr>
              <a:t> </a:t>
            </a:r>
            <a:r>
              <a:rPr b="1" lang="zh-TW" sz="2400" spc="-1" strike="noStrike">
                <a:solidFill>
                  <a:srgbClr val="008000"/>
                </a:solidFill>
                <a:latin typeface="圖龍中隸書"/>
                <a:ea typeface="圖龍中隸書"/>
              </a:rPr>
              <a:t>Accoun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圖龍中隸書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8000"/>
                </a:solidFill>
                <a:latin typeface="圖龍中隸書"/>
                <a:ea typeface="圖龍中隸書"/>
              </a:rPr>
              <a:t>人格特質</a:t>
            </a:r>
            <a:r>
              <a:rPr b="1" lang="zh-TW" sz="2400" spc="-1" strike="noStrike">
                <a:solidFill>
                  <a:srgbClr val="008000"/>
                </a:solidFill>
                <a:latin typeface="圖龍中隸書"/>
                <a:ea typeface="圖龍中隸書"/>
              </a:rPr>
              <a:t>(PD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buClr>
                <a:srgbClr val="008000"/>
              </a:buClr>
              <a:buFont typeface="圖龍中隸書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8000"/>
                </a:solidFill>
                <a:latin typeface="圖龍中隸書"/>
                <a:ea typeface="圖龍中隸書"/>
              </a:rPr>
              <a:t> </a:t>
            </a:r>
            <a:r>
              <a:rPr b="1" lang="zh-TW" sz="2400" spc="-1" strike="noStrike">
                <a:solidFill>
                  <a:srgbClr val="008000"/>
                </a:solidFill>
                <a:latin typeface="圖龍中隸書"/>
                <a:ea typeface="圖龍中隸書"/>
              </a:rPr>
              <a:t>成就感．滿足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buClr>
                <a:srgbClr val="008000"/>
              </a:buClr>
              <a:buFont typeface="圖龍中隸書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8000"/>
                </a:solidFill>
                <a:latin typeface="圖龍中隸書"/>
                <a:ea typeface="圖龍中隸書"/>
              </a:rPr>
              <a:t> </a:t>
            </a:r>
            <a:r>
              <a:rPr b="1" lang="zh-TW" sz="2400" spc="-1" strike="noStrike">
                <a:solidFill>
                  <a:srgbClr val="008000"/>
                </a:solidFill>
                <a:latin typeface="圖龍中隸書"/>
                <a:ea typeface="圖龍中隸書"/>
              </a:rPr>
              <a:t>能力、態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46520" y="1440"/>
            <a:ext cx="3552840" cy="19036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  <a:effectLst>
            <a:outerShdw dist="107932" dir="189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87840" y="4038480"/>
            <a:ext cx="3656160" cy="1981440"/>
          </a:xfrm>
          <a:prstGeom prst="ellipse">
            <a:avLst/>
          </a:prstGeom>
          <a:noFill/>
          <a:ln w="31680">
            <a:solidFill>
              <a:srgbClr val="0000ff"/>
            </a:solidFill>
            <a:miter/>
          </a:ln>
          <a:effectLst>
            <a:outerShdw dist="107932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962520"/>
            <a:ext cx="3352680" cy="1941480"/>
          </a:xfrm>
          <a:prstGeom prst="ellipse">
            <a:avLst/>
          </a:prstGeom>
          <a:noFill/>
          <a:ln w="31680">
            <a:solidFill>
              <a:srgbClr val="00ff00"/>
            </a:solidFill>
            <a:miter/>
          </a:ln>
          <a:effectLst>
            <a:outerShdw dist="107932" dir="81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017720" y="1258920"/>
            <a:ext cx="2131920" cy="2855880"/>
          </a:xfrm>
          <a:prstGeom prst="line">
            <a:avLst/>
          </a:prstGeom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7680" y="1258920"/>
            <a:ext cx="2131920" cy="2798640"/>
          </a:xfrm>
          <a:prstGeom prst="line">
            <a:avLst/>
          </a:prstGeom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4876920"/>
            <a:ext cx="2210040" cy="0"/>
          </a:xfrm>
          <a:prstGeom prst="line">
            <a:avLst/>
          </a:prstGeom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1600200"/>
            <a:ext cx="15782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圖龍中粗黑"/>
                <a:ea typeface="圖龍中粗黑"/>
              </a:rPr>
              <a:t>           </a:t>
            </a:r>
            <a:r>
              <a:rPr b="1" lang="zh-TW" sz="2800" spc="-1" strike="noStrike">
                <a:solidFill>
                  <a:srgbClr val="000000"/>
                </a:solidFill>
                <a:latin typeface="圖龍中粗黑"/>
                <a:ea typeface="圖龍中粗黑"/>
              </a:rPr>
              <a:t>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圖龍中粗黑"/>
                <a:ea typeface="圖龍中粗黑"/>
              </a:rPr>
              <a:t>       </a:t>
            </a:r>
            <a:r>
              <a:rPr b="1" lang="zh-TW" sz="2800" spc="-1" strike="noStrike">
                <a:solidFill>
                  <a:srgbClr val="000000"/>
                </a:solidFill>
                <a:latin typeface="圖龍中粗黑"/>
                <a:ea typeface="圖龍中粗黑"/>
              </a:rPr>
              <a:t>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圖龍中粗黑"/>
                <a:ea typeface="圖龍中粗黑"/>
              </a:rPr>
              <a:t>   </a:t>
            </a:r>
            <a:r>
              <a:rPr b="1" lang="zh-TW" sz="2800" spc="-1" strike="noStrike">
                <a:solidFill>
                  <a:srgbClr val="000000"/>
                </a:solidFill>
                <a:latin typeface="圖龍中粗黑"/>
                <a:ea typeface="圖龍中粗黑"/>
              </a:rPr>
              <a:t>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圖龍中粗黑"/>
                <a:ea typeface="圖龍中粗黑"/>
              </a:rPr>
              <a:t>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07240" y="1886040"/>
            <a:ext cx="18032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圖龍中粗黑"/>
                <a:ea typeface="圖龍中粗黑"/>
              </a:rPr>
              <a:t>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圖龍中粗黑"/>
                <a:ea typeface="圖龍中粗黑"/>
              </a:rPr>
              <a:t>   </a:t>
            </a:r>
            <a:r>
              <a:rPr b="1" lang="zh-TW" sz="2800" spc="-1" strike="noStrike">
                <a:solidFill>
                  <a:srgbClr val="000000"/>
                </a:solidFill>
                <a:latin typeface="圖龍中粗黑"/>
                <a:ea typeface="圖龍中粗黑"/>
              </a:rPr>
              <a:t>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圖龍中粗黑"/>
                <a:ea typeface="圖龍中粗黑"/>
              </a:rPr>
              <a:t>      </a:t>
            </a:r>
            <a:r>
              <a:rPr b="1" lang="zh-TW" sz="2800" spc="-1" strike="noStrike">
                <a:solidFill>
                  <a:srgbClr val="000000"/>
                </a:solidFill>
                <a:latin typeface="圖龍中粗黑"/>
                <a:ea typeface="圖龍中粗黑"/>
              </a:rPr>
              <a:t>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圖龍中粗黑"/>
                <a:ea typeface="圖龍中粗黑"/>
              </a:rPr>
              <a:t>          </a:t>
            </a:r>
            <a:r>
              <a:rPr b="1" lang="zh-TW" sz="2800" spc="-1" strike="noStrike">
                <a:solidFill>
                  <a:srgbClr val="000000"/>
                </a:solidFill>
                <a:latin typeface="圖龍中粗黑"/>
                <a:ea typeface="圖龍中粗黑"/>
              </a:rPr>
              <a:t>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438280" y="2133720"/>
            <a:ext cx="2135160" cy="64080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圖龍中隸書"/>
                <a:ea typeface="圖龍中隸書"/>
              </a:rPr>
              <a:t> </a:t>
            </a:r>
            <a:r>
              <a:rPr b="1" lang="zh-TW" sz="1600" spc="-1" strike="noStrike">
                <a:solidFill>
                  <a:srgbClr val="993366"/>
                </a:solidFill>
                <a:latin typeface="圖龍中隸書"/>
                <a:ea typeface="圖龍中隸書"/>
              </a:rPr>
              <a:t>領導風格、諮商輔導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993366"/>
                </a:solidFill>
                <a:latin typeface="圖龍中隸書"/>
                <a:ea typeface="圖龍中隸書"/>
              </a:rPr>
              <a:t> </a:t>
            </a:r>
            <a:r>
              <a:rPr b="1" lang="zh-TW" sz="2000" spc="-1" strike="noStrike">
                <a:solidFill>
                  <a:srgbClr val="993366"/>
                </a:solidFill>
                <a:latin typeface="圖龍中隸書"/>
                <a:ea typeface="圖龍中隸書"/>
              </a:rPr>
              <a:t>目前</a:t>
            </a:r>
            <a:r>
              <a:rPr b="1" lang="zh-TW" sz="2000" spc="-1" strike="noStrike">
                <a:solidFill>
                  <a:srgbClr val="993366"/>
                </a:solidFill>
                <a:latin typeface="圖龍中隸書"/>
                <a:ea typeface="圖龍中隸書"/>
              </a:rPr>
              <a:t>cc+</a:t>
            </a:r>
            <a:r>
              <a:rPr b="1" lang="zh-TW" sz="2000" spc="-1" strike="noStrike">
                <a:solidFill>
                  <a:srgbClr val="993366"/>
                </a:solidFill>
                <a:latin typeface="圖龍中隸書"/>
                <a:ea typeface="圖龍中隸書"/>
              </a:rPr>
              <a:t>未來</a:t>
            </a:r>
            <a:r>
              <a:rPr b="1" lang="zh-TW" sz="2000" spc="-1" strike="noStrike">
                <a:solidFill>
                  <a:srgbClr val="993366"/>
                </a:solidFill>
                <a:latin typeface="圖龍中隸書"/>
                <a:ea typeface="圖龍中隸書"/>
              </a:rPr>
              <a:t>c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362320" y="2895480"/>
            <a:ext cx="2209680" cy="518760"/>
          </a:xfrm>
          <a:prstGeom prst="rect">
            <a:avLst/>
          </a:prstGeom>
          <a:solidFill>
            <a:srgbClr val="cc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圖龍中隸書"/>
                <a:ea typeface="圖龍中隸書"/>
              </a:rPr>
              <a:t> </a:t>
            </a:r>
            <a:r>
              <a:rPr b="1" lang="zh-TW" sz="2000" spc="-1" strike="noStrike">
                <a:solidFill>
                  <a:srgbClr val="993366"/>
                </a:solidFill>
                <a:latin typeface="圖龍中隸書"/>
                <a:ea typeface="圖龍中隸書"/>
              </a:rPr>
              <a:t>輪調 、 晉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993366"/>
                </a:solidFill>
                <a:latin typeface="圖龍中隸書"/>
                <a:ea typeface="圖龍中隸書"/>
              </a:rPr>
              <a:t> </a:t>
            </a:r>
            <a:r>
              <a:rPr b="1" lang="zh-TW" sz="2000" spc="-1" strike="noStrike">
                <a:solidFill>
                  <a:srgbClr val="993366"/>
                </a:solidFill>
                <a:latin typeface="圖龍中隸書"/>
                <a:ea typeface="圖龍中隸書"/>
              </a:rPr>
              <a:t>安置 、 退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00600" y="2057400"/>
            <a:ext cx="1905120" cy="702360"/>
          </a:xfrm>
          <a:prstGeom prst="rect">
            <a:avLst/>
          </a:prstGeom>
          <a:solidFill>
            <a:srgbClr val="ff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993366"/>
                </a:solidFill>
                <a:latin typeface="圖龍中隸書"/>
                <a:ea typeface="圖龍中隸書"/>
              </a:rPr>
              <a:t>人力資源規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993366"/>
                </a:solidFill>
                <a:latin typeface="圖龍中隸書"/>
                <a:ea typeface="圖龍中隸書"/>
              </a:rPr>
              <a:t> </a:t>
            </a:r>
            <a:r>
              <a:rPr b="1" lang="zh-TW" sz="2000" spc="-1" strike="noStrike">
                <a:solidFill>
                  <a:srgbClr val="993366"/>
                </a:solidFill>
                <a:latin typeface="圖龍中隸書"/>
                <a:ea typeface="圖龍中隸書"/>
              </a:rPr>
              <a:t>JA, JC, J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76920" y="2895480"/>
            <a:ext cx="1981080" cy="5187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993366"/>
                </a:solidFill>
                <a:latin typeface="圖龍中隸書"/>
                <a:ea typeface="圖龍中隸書"/>
              </a:rPr>
              <a:t>組 織 設 計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993366"/>
                </a:solidFill>
                <a:latin typeface="圖龍中隸書"/>
                <a:ea typeface="圖龍中隸書"/>
              </a:rPr>
              <a:t>職 務 設 計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362320" y="3600360"/>
            <a:ext cx="2209680" cy="5187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993366"/>
                </a:solidFill>
                <a:latin typeface="圖龍中隸書"/>
                <a:ea typeface="圖龍中隸書"/>
              </a:rPr>
              <a:t>  </a:t>
            </a:r>
            <a:r>
              <a:rPr b="1" lang="zh-TW" sz="2000" spc="-1" strike="noStrike">
                <a:solidFill>
                  <a:srgbClr val="993366"/>
                </a:solidFill>
                <a:latin typeface="圖龍中隸書"/>
                <a:ea typeface="圖龍中隸書"/>
              </a:rPr>
              <a:t>教 育 訓 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993366"/>
                </a:solidFill>
                <a:latin typeface="圖龍中隸書"/>
                <a:ea typeface="圖龍中隸書"/>
              </a:rPr>
              <a:t>  </a:t>
            </a:r>
            <a:r>
              <a:rPr b="1" lang="zh-TW" sz="2000" spc="-1" strike="noStrike">
                <a:solidFill>
                  <a:srgbClr val="993366"/>
                </a:solidFill>
                <a:latin typeface="圖龍中隸書"/>
                <a:ea typeface="圖龍中隸書"/>
              </a:rPr>
              <a:t>績 效 評 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581280"/>
            <a:ext cx="2082960" cy="51876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圖龍中隸書"/>
                <a:ea typeface="圖龍中隸書"/>
              </a:rPr>
              <a:t> </a:t>
            </a:r>
            <a:r>
              <a:rPr b="1" lang="zh-TW" sz="2000" spc="-1" strike="noStrike">
                <a:solidFill>
                  <a:srgbClr val="993366"/>
                </a:solidFill>
                <a:latin typeface="圖龍中隸書"/>
                <a:ea typeface="圖龍中隸書"/>
              </a:rPr>
              <a:t>激勵、 發 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993366"/>
                </a:solidFill>
                <a:latin typeface="圖龍中隸書"/>
                <a:ea typeface="圖龍中隸書"/>
              </a:rPr>
              <a:t> </a:t>
            </a:r>
            <a:r>
              <a:rPr b="1" lang="zh-TW" sz="2000" spc="-1" strike="noStrike">
                <a:solidFill>
                  <a:srgbClr val="993366"/>
                </a:solidFill>
                <a:latin typeface="圖龍中隸書"/>
                <a:ea typeface="圖龍中隸書"/>
              </a:rPr>
              <a:t>績 效 管 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438280" y="2057400"/>
            <a:ext cx="2208240" cy="685800"/>
          </a:xfrm>
          <a:prstGeom prst="cube">
            <a:avLst>
              <a:gd name="adj" fmla="val 1040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776840" y="2057400"/>
            <a:ext cx="2028600" cy="627120"/>
          </a:xfrm>
          <a:prstGeom prst="cube">
            <a:avLst>
              <a:gd name="adj" fmla="val 1040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338560" y="2859120"/>
            <a:ext cx="2309760" cy="569880"/>
          </a:xfrm>
          <a:prstGeom prst="cube">
            <a:avLst>
              <a:gd name="adj" fmla="val 1040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76840" y="2859120"/>
            <a:ext cx="2130480" cy="569880"/>
          </a:xfrm>
          <a:prstGeom prst="cube">
            <a:avLst>
              <a:gd name="adj" fmla="val 1040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338560" y="3487680"/>
            <a:ext cx="2309760" cy="627120"/>
          </a:xfrm>
          <a:prstGeom prst="cube">
            <a:avLst>
              <a:gd name="adj" fmla="val 1040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800600" y="3429000"/>
            <a:ext cx="2054160" cy="685800"/>
          </a:xfrm>
          <a:prstGeom prst="cube">
            <a:avLst>
              <a:gd name="adj" fmla="val 1040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29000" y="5029200"/>
            <a:ext cx="22352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6600"/>
                </a:solidFill>
                <a:latin typeface="圖龍中粗黑"/>
                <a:ea typeface="圖龍中粗黑"/>
              </a:rPr>
              <a:t>  </a:t>
            </a:r>
            <a:r>
              <a:rPr b="1" lang="zh-TW" sz="2400" spc="-1" strike="noStrike">
                <a:solidFill>
                  <a:srgbClr val="ff6600"/>
                </a:solidFill>
                <a:latin typeface="圖龍中粗黑"/>
                <a:ea typeface="圖龍中粗黑"/>
              </a:rPr>
              <a:t>CONSENS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6600"/>
                </a:solidFill>
                <a:latin typeface="圖龍中粗黑"/>
                <a:ea typeface="圖龍中粗黑"/>
              </a:rPr>
              <a:t>COMMI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5943600"/>
            <a:ext cx="9144000" cy="1006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Times New Roman"/>
                <a:ea typeface="標楷體"/>
              </a:rPr>
              <a:t>  </a:t>
            </a:r>
            <a:r>
              <a:rPr b="1" lang="zh-TW" sz="6000" spc="-1" strike="noStrike">
                <a:solidFill>
                  <a:srgbClr val="ffffff"/>
                </a:solidFill>
                <a:latin typeface="Times New Roman"/>
                <a:ea typeface="標楷體"/>
              </a:rPr>
              <a:t>入對行、跟對人、做對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352680" y="4336920"/>
            <a:ext cx="2252880" cy="581400"/>
          </a:xfrm>
          <a:prstGeom prst="rect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圖龍中粗黑"/>
                <a:ea typeface="圖龍中粗黑"/>
              </a:rPr>
              <a:t>職 涯 管 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 Narrow"/>
              </a:rPr>
              <a:t>就業市場現況與趨勢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18960" y="21337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低經濟成長，高失業率的年代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就業機會萎縮，但研發、</a:t>
            </a:r>
            <a:r>
              <a:rPr b="1" lang="zh-TW" sz="2800" spc="-1" strike="noStrike" u="sng">
                <a:solidFill>
                  <a:srgbClr val="000000"/>
                </a:solidFill>
                <a:uFillTx/>
                <a:latin typeface="Arial Narrow"/>
              </a:rPr>
              <a:t>行銷</a:t>
            </a: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、業務人才需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求居高不下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一流企業搶爭一流人才</a:t>
            </a:r>
            <a:r>
              <a:rPr b="1" lang="zh-TW" sz="2800" spc="-1" strike="noStrike">
                <a:solidFill>
                  <a:srgbClr val="d4876c"/>
                </a:solidFill>
                <a:latin typeface="Arial Narrow"/>
              </a:rPr>
              <a:t>(</a:t>
            </a:r>
            <a:r>
              <a:rPr b="1" lang="zh-TW" sz="2800" spc="-1" strike="noStrike">
                <a:solidFill>
                  <a:srgbClr val="d4876c"/>
                </a:solidFill>
                <a:latin typeface="Arial Narrow"/>
              </a:rPr>
              <a:t>找不到人才</a:t>
            </a:r>
            <a:r>
              <a:rPr b="1" lang="zh-TW" sz="2800" spc="-1" strike="noStrike">
                <a:solidFill>
                  <a:srgbClr val="d4876c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專業人才掛帥，薪資呈現兩極化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低學歷將成為長期的失業族</a:t>
            </a:r>
            <a:r>
              <a:rPr b="1" lang="zh-TW" sz="2800" spc="-1" strike="noStrike">
                <a:solidFill>
                  <a:srgbClr val="d4876c"/>
                </a:solidFill>
                <a:latin typeface="Arial Narrow"/>
              </a:rPr>
              <a:t>(</a:t>
            </a:r>
            <a:r>
              <a:rPr b="1" lang="zh-TW" sz="2800" spc="-1" strike="noStrike">
                <a:solidFill>
                  <a:srgbClr val="d4876c"/>
                </a:solidFill>
                <a:latin typeface="Arial Narrow"/>
              </a:rPr>
              <a:t>找不到工作</a:t>
            </a:r>
            <a:r>
              <a:rPr b="1" lang="zh-TW" sz="2800" spc="-1" strike="noStrike">
                <a:solidFill>
                  <a:srgbClr val="d4876c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基層人才過剩，人力派遣盛行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職場游牧族成形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學非所用，結構性失業長期存在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 Narrow"/>
              </a:rPr>
              <a:t>生涯規劃及職涯規劃的階段發展曲線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1676880" y="1863720"/>
            <a:ext cx="6933600" cy="5451480"/>
            <a:chOff x="1676880" y="1863720"/>
            <a:chExt cx="6933600" cy="5451480"/>
          </a:xfrm>
        </p:grpSpPr>
        <p:graphicFrame>
          <p:nvGraphicFramePr>
            <p:cNvPr id="152" name=""/>
            <p:cNvGraphicFramePr/>
            <p:nvPr/>
          </p:nvGraphicFramePr>
          <p:xfrm>
            <a:off x="2662200" y="2496960"/>
            <a:ext cx="4640400" cy="27036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5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662200" y="2496960"/>
                      <a:ext cx="4640400" cy="2703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4" name=""/>
            <p:cNvGraphicFramePr/>
            <p:nvPr/>
          </p:nvGraphicFramePr>
          <p:xfrm>
            <a:off x="2000160" y="2705040"/>
            <a:ext cx="6610320" cy="461016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15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000160" y="2705040"/>
                      <a:ext cx="6610320" cy="461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6" name=""/>
            <p:cNvSpPr/>
            <p:nvPr/>
          </p:nvSpPr>
          <p:spPr>
            <a:xfrm>
              <a:off x="2413440" y="26287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成長期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404160" y="26287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探索期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303080" y="2628720"/>
              <a:ext cx="683640" cy="93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成就與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進步期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217480" y="2628720"/>
              <a:ext cx="68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成熟期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131880" y="2628720"/>
              <a:ext cx="683640" cy="93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中年危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機期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914160" y="2628720"/>
              <a:ext cx="515880" cy="93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後生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涯期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655760" y="2552760"/>
              <a:ext cx="68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衰退期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76880" y="1863720"/>
              <a:ext cx="348480" cy="450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高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工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作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績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效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000000"/>
                  </a:solidFill>
                  <a:latin typeface="Tahoma"/>
                  <a:ea typeface="標楷體"/>
                </a:rPr>
                <a:t>低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1847880" y="2400120"/>
              <a:ext cx="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847880" y="5295960"/>
              <a:ext cx="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TW" sz="5400" spc="-1" strike="noStrike">
                <a:solidFill>
                  <a:srgbClr val="000099"/>
                </a:solidFill>
                <a:latin typeface="標楷體"/>
                <a:ea typeface="標楷體"/>
              </a:rPr>
              <a:t>用心走出職涯路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成功「</a:t>
            </a: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自我行銷</a:t>
            </a: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」與「</a:t>
            </a: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願景實現</a:t>
            </a: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」的前提，在於事先培育致勝的「</a:t>
            </a: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競爭價值</a:t>
            </a: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」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要有必備的「</a:t>
            </a: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核心價值</a:t>
            </a: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」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要有領先的「</a:t>
            </a: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附加價值</a:t>
            </a: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」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要有致勝的「</a:t>
            </a: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感覺價值」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 Narrow"/>
              </a:rPr>
              <a:t>職場兵法三部曲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752480" y="19051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知己知彼百戰百勝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職場倫理與工作革命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魅力行銷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800600" y="3733920"/>
          <a:ext cx="3314880" cy="2882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00600" y="3733920"/>
                    <a:ext cx="3314880" cy="28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 Narrow"/>
              </a:rPr>
              <a:t>知己知彼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371600" y="6095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 Narrow"/>
              </a:rPr>
              <a:t>內外檢視法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2209680" y="1600200"/>
            <a:ext cx="6324480" cy="4952880"/>
            <a:chOff x="2209680" y="1600200"/>
            <a:chExt cx="6324480" cy="4952880"/>
          </a:xfrm>
        </p:grpSpPr>
        <p:sp>
          <p:nvSpPr>
            <p:cNvPr id="175" name=""/>
            <p:cNvSpPr/>
            <p:nvPr/>
          </p:nvSpPr>
          <p:spPr>
            <a:xfrm>
              <a:off x="3638160" y="2573280"/>
              <a:ext cx="3570480" cy="2917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209680" y="1600200"/>
              <a:ext cx="6324480" cy="4952880"/>
            </a:xfrm>
            <a:prstGeom prst="flowChartSummingJunct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759200" y="2927160"/>
              <a:ext cx="1311120" cy="3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</a:rPr>
                <a:t>個人興趣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657240" y="3733560"/>
              <a:ext cx="14479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個人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人格傾向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881320" y="3900240"/>
              <a:ext cx="12240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</a:rPr>
                <a:t>個人能力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862160" y="4519440"/>
              <a:ext cx="1233720" cy="66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個人需求與價值觀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657320" y="5668920"/>
              <a:ext cx="196704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各職業薪資水準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742840" y="3352680"/>
              <a:ext cx="600120" cy="93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職業所需特質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467480" y="3352680"/>
              <a:ext cx="639720" cy="94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</a:rPr>
                <a:t>職位所需能力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267080" y="1904760"/>
              <a:ext cx="2286000" cy="57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職位分類及其內容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新知識經濟時代員工的角色轉換</a:t>
            </a:r>
            <a:r>
              <a:rPr b="0" lang="zh-TW" sz="4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74440" y="2249640"/>
            <a:ext cx="6476760" cy="38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7" name=""/>
          <p:cNvSpPr/>
          <p:nvPr/>
        </p:nvSpPr>
        <p:spPr>
          <a:xfrm>
            <a:off x="1523880" y="342900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23880" y="2990880"/>
            <a:ext cx="228600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‧</a:t>
            </a:r>
            <a:r>
              <a:rPr b="1" lang="zh-TW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體力工作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‧</a:t>
            </a:r>
            <a:r>
              <a:rPr b="1" lang="zh-TW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遵守標準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‧</a:t>
            </a:r>
            <a:r>
              <a:rPr b="1" lang="zh-TW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就業心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‧</a:t>
            </a:r>
            <a:r>
              <a:rPr b="1" lang="zh-TW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能力定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‧</a:t>
            </a:r>
            <a:r>
              <a:rPr b="1" lang="zh-TW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功能發揮者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48320" y="3048120"/>
            <a:ext cx="243828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‧</a:t>
            </a:r>
            <a:r>
              <a:rPr b="1" lang="zh-TW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腦力工作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‧</a:t>
            </a:r>
            <a:r>
              <a:rPr b="1" lang="zh-TW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超越標準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‧</a:t>
            </a:r>
            <a:r>
              <a:rPr b="1" lang="zh-TW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創業心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‧</a:t>
            </a:r>
            <a:r>
              <a:rPr b="1" lang="zh-TW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快速學習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‧</a:t>
            </a:r>
            <a:r>
              <a:rPr b="1" lang="zh-TW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價值創造者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2057400"/>
            <a:ext cx="236232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原有的角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495680" y="2133720"/>
            <a:ext cx="236232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期待的角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09880" y="3124080"/>
            <a:ext cx="609840" cy="304920"/>
          </a:xfrm>
          <a:prstGeom prst="rightArrow">
            <a:avLst>
              <a:gd name="adj1" fmla="val 50000"/>
              <a:gd name="adj2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4343400"/>
            <a:ext cx="609840" cy="304920"/>
          </a:xfrm>
          <a:prstGeom prst="rightArrow">
            <a:avLst>
              <a:gd name="adj1" fmla="val 50000"/>
              <a:gd name="adj2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09880" y="3657600"/>
            <a:ext cx="609840" cy="304920"/>
          </a:xfrm>
          <a:prstGeom prst="rightArrow">
            <a:avLst>
              <a:gd name="adj1" fmla="val 50000"/>
              <a:gd name="adj2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09880" y="4876920"/>
            <a:ext cx="609840" cy="304560"/>
          </a:xfrm>
          <a:prstGeom prst="rightArrow">
            <a:avLst>
              <a:gd name="adj1" fmla="val 50000"/>
              <a:gd name="adj2" fmla="val 5005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9880" y="5410080"/>
            <a:ext cx="609840" cy="304920"/>
          </a:xfrm>
          <a:prstGeom prst="rightArrow">
            <a:avLst>
              <a:gd name="adj1" fmla="val 50000"/>
              <a:gd name="adj2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7010280" y="2133720"/>
            <a:ext cx="17528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6T12:44:36Z</dcterms:created>
  <dc:creator>&amp;_@</dc:creator>
  <dc:description/>
  <dc:language>en-US</dc:language>
  <cp:lastModifiedBy>user</cp:lastModifiedBy>
  <dcterms:modified xsi:type="dcterms:W3CDTF">2005-03-03T15:23:31Z</dcterms:modified>
  <cp:revision>44</cp:revision>
  <dc:subject/>
  <dc:title>人力資源看自我行銷----- 塑造職場競爭力與形象魅力</dc:title>
</cp:coreProperties>
</file>