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6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EDAC-64FE-4E8F-9DA8-225F6796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7154-133C-4B56-BB0D-1ECD4A60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624-9C50-4295-B1D4-E9EA6C76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9D7-A024-4EEB-9381-59BEA0D5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7A03-AF94-432C-A2FD-78451F3B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8777-513C-46AD-BF3D-028E9851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DA07-2C8A-4C52-B28A-802E7A65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677A-B9E0-4F07-885C-682C154B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37CC-BC8E-427E-8E9B-3B2A41A7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0090-7797-4D33-B755-BC1F7710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B190-956E-4329-AD86-BFD2F89E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913-4107-44D8-BA31-E8247451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E787-C25E-455E-BD83-5BD6A47C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639F-B38F-419D-A264-0A40160A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0294-1551-4175-BE80-19DDF20D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B133-708A-4B88-9B75-640D2B78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D255-3136-4BFC-A2BB-893ED4D7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855-F9FE-4AD2-8CF9-03FCA308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78A-9997-4F7B-8B8C-5E430A91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54C-C525-4034-9B36-F32C6976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A8A-07EC-452F-8B09-B653461F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C95-FF2D-424C-9F38-690C47BC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80C-0B6E-4A5D-A7AE-801AE925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A38-AE60-4A7F-BED3-CFB0D592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9C01-FA4E-44F9-8F3D-A3AA548D40C1}" type="slidenum"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6E44-E883-4814-8F65-D10C377E831C}" type="slidenum"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ating.com.tw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 Narrow"/>
                <a:ea typeface="標楷體"/>
              </a:rPr>
              <a:t>人力資源看自我行銷</a:t>
            </a:r>
            <a:r>
              <a:rPr b="1" lang="zh-TW" sz="4800" spc="-1" strike="noStrike">
                <a:solidFill>
                  <a:srgbClr val="000000"/>
                </a:solidFill>
                <a:latin typeface="Arial Narrow"/>
                <a:ea typeface="標楷體"/>
              </a:rPr>
              <a:t>-----</a:t>
            </a:r>
            <a:br>
              <a:rPr sz="4800"/>
            </a:br>
            <a:r>
              <a:rPr b="1" lang="zh-TW" sz="4400" spc="-1" strike="noStrike">
                <a:solidFill>
                  <a:srgbClr val="000000"/>
                </a:solidFill>
                <a:latin typeface="Arial Narrow"/>
                <a:ea typeface="標楷體"/>
              </a:rPr>
              <a:t>塑造職場競爭力與形象魅力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　　主講人：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林國仁  課長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高鼎化學工業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股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公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zh-TW" sz="2800" spc="-1" strike="noStrike" u="sng">
                <a:solidFill>
                  <a:srgbClr val="d4876c"/>
                </a:solidFill>
                <a:uFillTx/>
                <a:latin typeface="Arial Narrow"/>
                <a:hlinkClick r:id="rId1"/>
              </a:rPr>
              <a:t>http://www.COATING.com.t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　　</a:t>
            </a:r>
            <a:r>
              <a:rPr b="0" lang="zh-TW" sz="2400" spc="-1" strike="noStrike">
                <a:solidFill>
                  <a:srgbClr val="000000"/>
                </a:solidFill>
                <a:latin typeface="Arial Narrow"/>
              </a:rPr>
              <a:t>日期：</a:t>
            </a:r>
            <a:r>
              <a:rPr b="0" lang="zh-TW" sz="2400" spc="-1" strike="noStrike">
                <a:solidFill>
                  <a:srgbClr val="000000"/>
                </a:solidFill>
                <a:latin typeface="Arial Narrow"/>
              </a:rPr>
              <a:t>2004</a:t>
            </a:r>
            <a:r>
              <a:rPr b="0" lang="zh-TW" sz="2400" spc="-1" strike="noStrike">
                <a:solidFill>
                  <a:srgbClr val="000000"/>
                </a:solidFill>
                <a:latin typeface="Arial Narrow"/>
              </a:rPr>
              <a:t>年</a:t>
            </a:r>
            <a:r>
              <a:rPr b="0" lang="zh-TW" sz="2400" spc="-1" strike="noStrike">
                <a:solidFill>
                  <a:srgbClr val="000000"/>
                </a:solidFill>
                <a:latin typeface="Arial Narrow"/>
              </a:rPr>
              <a:t>11</a:t>
            </a:r>
            <a:r>
              <a:rPr b="0" lang="zh-TW" sz="2400" spc="-1" strike="noStrike">
                <a:solidFill>
                  <a:srgbClr val="000000"/>
                </a:solidFill>
                <a:latin typeface="Arial Narrow"/>
              </a:rPr>
              <a:t>月</a:t>
            </a:r>
            <a:r>
              <a:rPr b="0" lang="zh-TW" sz="2400" spc="-1" strike="noStrike">
                <a:solidFill>
                  <a:srgbClr val="000000"/>
                </a:solidFill>
                <a:latin typeface="Arial Narrow"/>
              </a:rPr>
              <a:t>23</a:t>
            </a:r>
            <a:r>
              <a:rPr b="0" lang="zh-TW" sz="2400" spc="-1" strike="noStrike">
                <a:solidFill>
                  <a:srgbClr val="000000"/>
                </a:solidFill>
                <a:latin typeface="Arial Narrow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42813" r="43617" b="41536"/>
          <a:stretch/>
        </p:blipFill>
        <p:spPr>
          <a:xfrm>
            <a:off x="2666880" y="4648320"/>
            <a:ext cx="19432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  <a:ea typeface="標楷體"/>
              </a:rPr>
              <a:t>如何紓解老闆的壓力</a:t>
            </a:r>
            <a:r>
              <a:rPr b="0" lang="zh-TW" sz="4400" spc="-1" strike="noStrike">
                <a:solidFill>
                  <a:srgbClr val="000000"/>
                </a:solidFill>
                <a:latin typeface="Arial Narrow"/>
                <a:ea typeface="標楷體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6680" y="1828800"/>
          <a:ext cx="7391520" cy="4749840"/>
        </p:xfrm>
        <a:graphic>
          <a:graphicData uri="http://schemas.openxmlformats.org/drawingml/2006/table">
            <a:tbl>
              <a:tblPr/>
              <a:tblGrid>
                <a:gridCol w="1447920"/>
                <a:gridCol w="1476360"/>
                <a:gridCol w="2108160"/>
                <a:gridCol w="23590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1115af"/>
                          </a:solidFill>
                          <a:latin typeface="Arial Narrow"/>
                        </a:rPr>
                        <a:t>上司性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1115af"/>
                          </a:solidFill>
                          <a:latin typeface="Arial Narrow"/>
                        </a:rPr>
                        <a:t>特         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1115af"/>
                          </a:solidFill>
                          <a:latin typeface="Arial Narrow"/>
                        </a:rPr>
                        <a:t>遇壓力的反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1115af"/>
                          </a:solidFill>
                          <a:latin typeface="Arial Narrow"/>
                        </a:rPr>
                        <a:t>應對之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配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自信果斷、目標明確、凡事重結果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一觸即發，對於不合理的事會很快表明立場，態度直接毫不修飾，也不矯揉造作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退避三舍，靜待時機，同時給予明確的答覆，講重點不囉唆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重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個性踏實、有耐性、善聆聽、配合度高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不喜歡有變化的工作，態度保守，會顧全大局，抗壓度低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給予絕對支持，默默付出，一舉一動上司心佑肚明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  <a:ea typeface="標楷體"/>
              </a:rPr>
              <a:t>如何紓解老闆的壓力</a:t>
            </a:r>
            <a:r>
              <a:rPr b="0" lang="zh-TW" sz="4400" spc="-1" strike="noStrike">
                <a:solidFill>
                  <a:srgbClr val="000000"/>
                </a:solidFill>
                <a:latin typeface="Arial Narrow"/>
                <a:ea typeface="標楷體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066680" y="1828800"/>
          <a:ext cx="7391520" cy="4384800"/>
        </p:xfrm>
        <a:graphic>
          <a:graphicData uri="http://schemas.openxmlformats.org/drawingml/2006/table">
            <a:tbl>
              <a:tblPr/>
              <a:tblGrid>
                <a:gridCol w="1447920"/>
                <a:gridCol w="1476360"/>
                <a:gridCol w="2108160"/>
                <a:gridCol w="23590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1115af"/>
                          </a:solidFill>
                          <a:latin typeface="Arial Narrow"/>
                        </a:rPr>
                        <a:t>上司性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1115af"/>
                          </a:solidFill>
                          <a:latin typeface="Arial Narrow"/>
                        </a:rPr>
                        <a:t>特         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1115af"/>
                          </a:solidFill>
                          <a:latin typeface="Arial Narrow"/>
                        </a:rPr>
                        <a:t>遇壓力的反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1115af"/>
                          </a:solidFill>
                          <a:latin typeface="Arial Narrow"/>
                        </a:rPr>
                        <a:t>應對之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交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熱情有活力、表逹能力強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情緖起伏大，注意自己的感覺勝於事實；也會顧及別人的感受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給予適度同情，絕對的支持；深表感同身受，三分鐘後保證雨過天情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美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心思細膩無可救藥的完美主義者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對事極為敏感極易發覺別人的錯處，凡事要求高標準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按邏輯講步驟，凡事正確可靠，給予絕對的安全感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好用人才的十大條件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810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行動力（持續力）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學習力強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吃苦耐勞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ＥＱ高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忍受挫折力強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穩定性高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服從性高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自我挑戰力強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身體健康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具有創新的能力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86400" y="4038480"/>
          <a:ext cx="3174840" cy="2401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4038480"/>
                    <a:ext cx="31748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成敗一念間人生從此分勝負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放下身段學功夫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不要成為他人的負擔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天才也需要努力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成長總是在煎熬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悲觀者永遠看不到希望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精誠所至，金石為開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有所為，有所不為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小地方大關鍵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永遠相信自己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懷抱惜緣惜福與感恩的心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工作是無怨無悔的天職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換工作不如換心情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隨時革新，隨時創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嚴師出高徒，年少慎選師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不斷追求自我成長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6"/>
          <a:stretch/>
        </p:blipFill>
        <p:spPr>
          <a:xfrm>
            <a:off x="5867280" y="2286000"/>
            <a:ext cx="2819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提升職場人氣指數的十法則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810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重塑自信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改變形象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運用智慧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辦公環境的青睞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人人皆我師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讓自己的知識為他人所用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適時獎勵自己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勇於面對問題，解決問題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擴大自己的工作舞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施展你的人格魅力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6477120" y="2895480"/>
            <a:ext cx="2438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專業形象魅力與養成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810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形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氣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神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肢體風範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禮節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4952880" y="1981080"/>
            <a:ext cx="3276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形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外表給人的訊息～代表身份、涵養、教育程度、                         企業形象的展現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配合時間、場合、身份的合宜穿著藝術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簡單、大方、整潔、明快的穿著原則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儀容與裝扮的美學藝術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基本配件～名牌、筆、名片夾、手錶…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等配戴                            方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上班前自我檢視的要點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氣、神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『心』的禮儀培訓與養成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聲音、表情、動作、態度、禮節…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等基本養成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優雅風範、迷人氣度…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關愛的眼神、微笑魅力…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口語蓮花、讚美鼓勵…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肢體風範與禮節</a:t>
            </a: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429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基本態度篇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微笑致祥和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關愛表敬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動作求敏捷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奉物用雙手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相遇先問好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接物先道謝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答詢先起立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謙敬先讓行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3832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肢體風範與禮節</a:t>
            </a: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基本接待、服務、禮儀篇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迎賓起身、微笑說您好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接待要熱忱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應對要和悅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作業要精確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糾紛要忍耐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送客起身、微笑道再見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企業永續經營與競爭策略</a:t>
            </a: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----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選對人，做對的事，把事做對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對的人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----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職場競爭力—學經歷與特質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做對的事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---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效能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----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特質與歷練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把事做對—效率—專業與知識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增強您的專業競爭力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810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專業知識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行政管理的能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企劃能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整合資源的能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語文能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溝通協調的能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傾聽的能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國際觀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477120" y="2286000"/>
          <a:ext cx="2057400" cy="373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2286000"/>
                    <a:ext cx="20574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增強您的個性競爭力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精明、細膩、認真的能力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隨環境變遷的自我成長驅策能力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---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終身學習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全力投入、熱愛你的工作、並傳染給別人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---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工作熱忱—樂於犧牲奉獻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人盡其才、物盡其用的能力—壓力忍受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創新的思維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--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不換腦袋、將被淘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做個激勵高手—有自信、肯讚美—永不抱怨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傾聽顧客聲音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--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深得老闆心、贏得員工情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主動積極、旺盛企圖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000000"/>
                </a:solidFill>
                <a:latin typeface="Lucida Handwriting"/>
              </a:rPr>
              <a:t>您準備好了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819520" y="762120"/>
            <a:ext cx="4057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oadway BT"/>
              </a:rPr>
              <a:t>Q&amp;A</a:t>
            </a:r>
            <a:endParaRPr b="1" lang="en-US" sz="8000" spc="1" strike="noStrike">
              <a:ln w="19080">
                <a:solidFill>
                  <a:srgbClr val="99cc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roadway BT"/>
              <a:ea typeface="Broadway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職涯理念的突破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 Narrow"/>
              </a:rPr>
              <a:t>改變思維，改變命運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 Narrow"/>
              </a:rPr>
              <a:t>快速學習，智慧資本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 Narrow"/>
              </a:rPr>
              <a:t>創造價值，競爭優勢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019920" y="2666880"/>
            <a:ext cx="25192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971800" y="0"/>
            <a:ext cx="409896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圖龍中隸書"/>
                <a:ea typeface="圖龍中隸書"/>
              </a:rPr>
              <a:t>      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"/>
                <a:ea typeface="圖龍中隸書"/>
              </a:rPr>
              <a:t>組     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"/>
                <a:ea typeface="圖龍中隸書"/>
              </a:rPr>
              <a:t> </a:t>
            </a:r>
            <a:r>
              <a:rPr b="1" lang="zh-TW" sz="2400" spc="-1" strike="noStrike">
                <a:solidFill>
                  <a:srgbClr val="ffffff"/>
                </a:solidFill>
                <a:latin typeface=""/>
                <a:ea typeface="圖龍中隸書"/>
              </a:rPr>
              <a:t>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"/>
                <a:ea typeface="圖龍中隸書"/>
              </a:rPr>
              <a:t>永續經營、共同願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"/>
                <a:ea typeface="圖龍中隸書"/>
              </a:rPr>
              <a:t>經營理念、企業文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"/>
                <a:ea typeface="圖龍中隸書"/>
              </a:rPr>
              <a:t>組織發展、經營策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4114800"/>
            <a:ext cx="3962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圖龍中隸書"/>
                <a:ea typeface="圖龍中隸書"/>
              </a:rPr>
              <a:t>       </a:t>
            </a:r>
            <a:r>
              <a:rPr b="1" lang="zh-TW" sz="2800" spc="-1" strike="noStrike" u="sng">
                <a:solidFill>
                  <a:srgbClr val="ff0000"/>
                </a:solidFill>
                <a:uFillTx/>
                <a:latin typeface="圖龍中隸書"/>
                <a:ea typeface="圖龍中隸書"/>
              </a:rPr>
              <a:t>主   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圖龍中隸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圖龍中隸書"/>
                <a:ea typeface="圖龍中隸書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圖龍中隸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圖龍中隸書"/>
                <a:ea typeface="圖龍中隸書"/>
              </a:rPr>
              <a:t>諮商輔導</a:t>
            </a:r>
            <a:r>
              <a:rPr b="1" lang="zh-TW" sz="2400" spc="-1" strike="noStrike">
                <a:solidFill>
                  <a:srgbClr val="ff0000"/>
                </a:solidFill>
                <a:latin typeface="圖龍中隸書"/>
                <a:ea typeface="圖龍中隸書"/>
              </a:rPr>
              <a:t>(E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圖龍中隸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圖龍中隸書"/>
                <a:ea typeface="圖龍中隸書"/>
              </a:rPr>
              <a:t>授權賦能</a:t>
            </a:r>
            <a:r>
              <a:rPr b="1" lang="zh-TW" sz="2400" spc="-1" strike="noStrike">
                <a:solidFill>
                  <a:srgbClr val="ff0000"/>
                </a:solidFill>
                <a:latin typeface="圖龍中隸書"/>
                <a:ea typeface="圖龍中隸書"/>
              </a:rPr>
              <a:t>(Empowerment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403848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8000"/>
                </a:solidFill>
                <a:uFillTx/>
                <a:latin typeface="圖龍中隸書"/>
                <a:ea typeface="圖龍中隸書"/>
              </a:rPr>
              <a:t>  </a:t>
            </a:r>
            <a:r>
              <a:rPr b="1" lang="zh-TW" sz="2800" spc="-1" strike="noStrike" u="sng">
                <a:solidFill>
                  <a:srgbClr val="008000"/>
                </a:solidFill>
                <a:uFillTx/>
                <a:latin typeface="圖龍中隸書"/>
                <a:ea typeface="圖龍中隸書"/>
              </a:rPr>
              <a:t>員工本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圖龍中隸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圖龍中隸書"/>
                <a:ea typeface="圖龍中隸書"/>
              </a:rPr>
              <a:t> </a:t>
            </a:r>
            <a:r>
              <a:rPr b="1" lang="zh-TW" sz="2400" spc="-1" strike="noStrike">
                <a:solidFill>
                  <a:srgbClr val="008000"/>
                </a:solidFill>
                <a:latin typeface="圖龍中隸書"/>
                <a:ea typeface="圖龍中隸書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圖龍中隸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圖龍中隸書"/>
                <a:ea typeface="圖龍中隸書"/>
              </a:rPr>
              <a:t>人格特質</a:t>
            </a:r>
            <a:r>
              <a:rPr b="1" lang="zh-TW" sz="2400" spc="-1" strike="noStrike">
                <a:solidFill>
                  <a:srgbClr val="008000"/>
                </a:solidFill>
                <a:latin typeface="圖龍中隸書"/>
                <a:ea typeface="圖龍中隸書"/>
              </a:rPr>
              <a:t>(P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8000"/>
              </a:buClr>
              <a:buFont typeface="圖龍中隸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圖龍中隸書"/>
                <a:ea typeface="圖龍中隸書"/>
              </a:rPr>
              <a:t> </a:t>
            </a:r>
            <a:r>
              <a:rPr b="1" lang="zh-TW" sz="2400" spc="-1" strike="noStrike">
                <a:solidFill>
                  <a:srgbClr val="008000"/>
                </a:solidFill>
                <a:latin typeface="圖龍中隸書"/>
                <a:ea typeface="圖龍中隸書"/>
              </a:rPr>
              <a:t>成就感．滿足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8000"/>
              </a:buClr>
              <a:buFont typeface="圖龍中隸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圖龍中隸書"/>
                <a:ea typeface="圖龍中隸書"/>
              </a:rPr>
              <a:t> </a:t>
            </a:r>
            <a:r>
              <a:rPr b="1" lang="zh-TW" sz="2400" spc="-1" strike="noStrike">
                <a:solidFill>
                  <a:srgbClr val="008000"/>
                </a:solidFill>
                <a:latin typeface="圖龍中隸書"/>
                <a:ea typeface="圖龍中隸書"/>
              </a:rPr>
              <a:t>能力、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46520" y="1440"/>
            <a:ext cx="3552840" cy="1903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  <a:effectLst>
            <a:outerShdw dist="107932" dir="189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7840" y="4038480"/>
            <a:ext cx="3656160" cy="198144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62520"/>
            <a:ext cx="3352680" cy="194148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  <a:effectLst>
            <a:outerShdw dist="107932" dir="81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017720" y="1258920"/>
            <a:ext cx="2131920" cy="285588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7680" y="1258920"/>
            <a:ext cx="2131920" cy="279864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876920"/>
            <a:ext cx="221004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600200"/>
            <a:ext cx="1578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       </a:t>
            </a: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07240" y="1886040"/>
            <a:ext cx="1803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2133720"/>
            <a:ext cx="2135160" cy="6408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圖龍中隸書"/>
                <a:ea typeface="圖龍中隸書"/>
              </a:rPr>
              <a:t> </a:t>
            </a:r>
            <a:r>
              <a:rPr b="1" lang="zh-TW" sz="16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領導風格、諮商輔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 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目前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cc+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未來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2895480"/>
            <a:ext cx="2209680" cy="51876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圖龍中隸書"/>
                <a:ea typeface="圖龍中隸書"/>
              </a:rPr>
              <a:t> 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輪調 、 晉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 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安置 、 退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057400"/>
            <a:ext cx="1905120" cy="70236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人力資源規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 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JA, JC, J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2895480"/>
            <a:ext cx="1981080" cy="518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組 織 設 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職 務 設 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3600360"/>
            <a:ext cx="2209680" cy="5187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  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教 育 訓 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  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績 效 評 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581280"/>
            <a:ext cx="2082960" cy="5187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圖龍中隸書"/>
                <a:ea typeface="圖龍中隸書"/>
              </a:rPr>
              <a:t> 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激勵、 發 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 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績 效 管 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2057400"/>
            <a:ext cx="2208240" cy="685800"/>
          </a:xfrm>
          <a:prstGeom prst="cube">
            <a:avLst>
              <a:gd name="adj" fmla="val 104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76840" y="2057400"/>
            <a:ext cx="2028600" cy="627120"/>
          </a:xfrm>
          <a:prstGeom prst="cube">
            <a:avLst>
              <a:gd name="adj" fmla="val 104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38560" y="2859120"/>
            <a:ext cx="2309760" cy="569880"/>
          </a:xfrm>
          <a:prstGeom prst="cube">
            <a:avLst>
              <a:gd name="adj" fmla="val 104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76840" y="2859120"/>
            <a:ext cx="2130480" cy="569880"/>
          </a:xfrm>
          <a:prstGeom prst="cube">
            <a:avLst>
              <a:gd name="adj" fmla="val 104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38560" y="3487680"/>
            <a:ext cx="2309760" cy="627120"/>
          </a:xfrm>
          <a:prstGeom prst="cube">
            <a:avLst>
              <a:gd name="adj" fmla="val 104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3429000"/>
            <a:ext cx="2054160" cy="685800"/>
          </a:xfrm>
          <a:prstGeom prst="cube">
            <a:avLst>
              <a:gd name="adj" fmla="val 104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5029200"/>
            <a:ext cx="22352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圖龍中粗黑"/>
                <a:ea typeface="圖龍中粗黑"/>
              </a:rPr>
              <a:t>  </a:t>
            </a:r>
            <a:r>
              <a:rPr b="1" lang="zh-TW" sz="2400" spc="-1" strike="noStrike">
                <a:solidFill>
                  <a:srgbClr val="ff6600"/>
                </a:solidFill>
                <a:latin typeface="圖龍中粗黑"/>
                <a:ea typeface="圖龍中粗黑"/>
              </a:rPr>
              <a:t>CONSEN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圖龍中粗黑"/>
                <a:ea typeface="圖龍中粗黑"/>
              </a:rPr>
              <a:t>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943600"/>
            <a:ext cx="9144000" cy="100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入對行、跟對人、做對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4336920"/>
            <a:ext cx="2252880" cy="581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圖龍中粗黑"/>
                <a:ea typeface="圖龍中粗黑"/>
              </a:rPr>
              <a:t>職 涯 管 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就業市場現況與趨勢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低經濟成長，高失業率的年代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就業機會萎縮，但研發、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Arial Narrow"/>
              </a:rPr>
              <a:t>行銷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、業務人才需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求居高不下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一流企業搶爭一流人才</a:t>
            </a:r>
            <a:r>
              <a:rPr b="1" lang="zh-TW" sz="2800" spc="-1" strike="noStrike">
                <a:solidFill>
                  <a:srgbClr val="d4876c"/>
                </a:solidFill>
                <a:latin typeface="Arial Narrow"/>
              </a:rPr>
              <a:t>(</a:t>
            </a:r>
            <a:r>
              <a:rPr b="1" lang="zh-TW" sz="2800" spc="-1" strike="noStrike">
                <a:solidFill>
                  <a:srgbClr val="d4876c"/>
                </a:solidFill>
                <a:latin typeface="Arial Narrow"/>
              </a:rPr>
              <a:t>找不到人才</a:t>
            </a:r>
            <a:r>
              <a:rPr b="1" lang="zh-TW" sz="2800" spc="-1" strike="noStrike">
                <a:solidFill>
                  <a:srgbClr val="d4876c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專業人才掛帥，薪資呈現兩極化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低學歷將成為長期的失業族</a:t>
            </a:r>
            <a:r>
              <a:rPr b="1" lang="zh-TW" sz="2800" spc="-1" strike="noStrike">
                <a:solidFill>
                  <a:srgbClr val="d4876c"/>
                </a:solidFill>
                <a:latin typeface="Arial Narrow"/>
              </a:rPr>
              <a:t>(</a:t>
            </a:r>
            <a:r>
              <a:rPr b="1" lang="zh-TW" sz="2800" spc="-1" strike="noStrike">
                <a:solidFill>
                  <a:srgbClr val="d4876c"/>
                </a:solidFill>
                <a:latin typeface="Arial Narrow"/>
              </a:rPr>
              <a:t>找不到工作</a:t>
            </a:r>
            <a:r>
              <a:rPr b="1" lang="zh-TW" sz="2800" spc="-1" strike="noStrike">
                <a:solidFill>
                  <a:srgbClr val="d4876c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基層人才過剩，人力派遣盛行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職場游牧族成形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學非所用，結構性失業長期存在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 Narrow"/>
              </a:rPr>
              <a:t>生涯規劃及職涯規劃的階段發展曲線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676880" y="1863720"/>
            <a:ext cx="6933600" cy="5451480"/>
            <a:chOff x="1676880" y="1863720"/>
            <a:chExt cx="6933600" cy="5451480"/>
          </a:xfrm>
        </p:grpSpPr>
        <p:graphicFrame>
          <p:nvGraphicFramePr>
            <p:cNvPr id="152" name=""/>
            <p:cNvGraphicFramePr/>
            <p:nvPr/>
          </p:nvGraphicFramePr>
          <p:xfrm>
            <a:off x="2662200" y="2496960"/>
            <a:ext cx="4640400" cy="2703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2200" y="2496960"/>
                      <a:ext cx="4640400" cy="270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"/>
            <p:cNvGraphicFramePr/>
            <p:nvPr/>
          </p:nvGraphicFramePr>
          <p:xfrm>
            <a:off x="2000160" y="2705040"/>
            <a:ext cx="6610320" cy="46101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0160" y="2705040"/>
                      <a:ext cx="6610320" cy="46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>
              <a:off x="2413440" y="2628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成長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04160" y="2628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探索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03080" y="2628720"/>
              <a:ext cx="68364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成就與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進步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480" y="262872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成熟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31880" y="2628720"/>
              <a:ext cx="68364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中年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機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14160" y="2628720"/>
              <a:ext cx="51588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後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涯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55760" y="25527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衰退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76880" y="1863720"/>
              <a:ext cx="348480" cy="450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高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工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作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績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效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低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847880" y="240012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47880" y="52959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TW" sz="5400" spc="-1" strike="noStrike">
                <a:solidFill>
                  <a:srgbClr val="000099"/>
                </a:solidFill>
                <a:latin typeface="標楷體"/>
                <a:ea typeface="標楷體"/>
              </a:rPr>
              <a:t>用心走出職涯路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成功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自我行銷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」與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願景實現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」的前提，在於事先培育致勝的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競爭價值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要有必備的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核心價值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要有領先的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附加價值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要有致勝的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感覺價值」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職場兵法三部曲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知己知彼百戰百勝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職場倫理與工作革命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魅力行銷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800600" y="3733920"/>
          <a:ext cx="3314880" cy="288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3733920"/>
                    <a:ext cx="331488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知己知彼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6095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內外檢視法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09680" y="1600200"/>
            <a:ext cx="6324480" cy="4952880"/>
            <a:chOff x="2209680" y="1600200"/>
            <a:chExt cx="6324480" cy="4952880"/>
          </a:xfrm>
        </p:grpSpPr>
        <p:sp>
          <p:nvSpPr>
            <p:cNvPr id="175" name=""/>
            <p:cNvSpPr/>
            <p:nvPr/>
          </p:nvSpPr>
          <p:spPr>
            <a:xfrm>
              <a:off x="3638160" y="2573280"/>
              <a:ext cx="3570480" cy="2917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09680" y="1600200"/>
              <a:ext cx="6324480" cy="495288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59200" y="2927160"/>
              <a:ext cx="1311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個人興趣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7240" y="3733560"/>
              <a:ext cx="1447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個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人格傾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81320" y="3900240"/>
              <a:ext cx="122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個人能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2160" y="4519440"/>
              <a:ext cx="123372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個人需求與價值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57320" y="5668920"/>
              <a:ext cx="196704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各職業薪資水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2840" y="3352680"/>
              <a:ext cx="60012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職業所需特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67480" y="3352680"/>
              <a:ext cx="63972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職位所需能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67080" y="1904760"/>
              <a:ext cx="228600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職位分類及其內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新知識經濟時代員工的角色轉換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74440" y="2249640"/>
            <a:ext cx="6476760" cy="38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3429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2990880"/>
            <a:ext cx="22860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體力工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遵守標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就業心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能力定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功能發揮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3048120"/>
            <a:ext cx="24382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腦力工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超越標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創業心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快速學習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價值創造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057400"/>
            <a:ext cx="23623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原有的角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2133720"/>
            <a:ext cx="23623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期待的角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31240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43434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36576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48769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54100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010280" y="2133720"/>
            <a:ext cx="1752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6T12:44:36Z</dcterms:created>
  <dc:creator>&amp;_@</dc:creator>
  <dc:description/>
  <dc:language>en-US</dc:language>
  <cp:lastModifiedBy>user</cp:lastModifiedBy>
  <dcterms:modified xsi:type="dcterms:W3CDTF">2005-03-03T15:23:31Z</dcterms:modified>
  <cp:revision>44</cp:revision>
  <dc:subject/>
  <dc:title>人力資源看自我行銷----- 塑造職場競爭力與形象魅力</dc:title>
</cp:coreProperties>
</file>