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1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20.jpeg" ContentType="image/jpeg"/>
  <Override PartName="/ppt/media/image7.wmf" ContentType="image/x-wmf"/>
  <Override PartName="/ppt/media/image8.jpeg" ContentType="image/jpeg"/>
  <Override PartName="/ppt/media/image38.png" ContentType="image/png"/>
  <Override PartName="/ppt/media/image9.wmf" ContentType="image/x-wmf"/>
  <Override PartName="/ppt/media/image34.png" ContentType="image/png"/>
  <Override PartName="/ppt/media/image35.png" ContentType="image/png"/>
  <Override PartName="/ppt/media/image11.wmf" ContentType="image/x-wmf"/>
  <Override PartName="/ppt/media/image3.png" ContentType="image/png"/>
  <Override PartName="/ppt/media/image36.png" ContentType="image/png"/>
  <Override PartName="/ppt/media/image33.gif" ContentType="image/gif"/>
  <Override PartName="/ppt/media/image12.wmf" ContentType="image/x-wmf"/>
  <Override PartName="/ppt/media/image13.png" ContentType="image/png"/>
  <Override PartName="/ppt/media/image37.png" ContentType="image/png"/>
  <Override PartName="/ppt/media/image6.wmf" ContentType="image/x-wmf"/>
  <Override PartName="/ppt/media/image32.gif" ContentType="image/gif"/>
  <Override PartName="/ppt/media/image19.jpeg" ContentType="image/jpeg"/>
  <Override PartName="/ppt/media/image29.wmf" ContentType="image/x-wmf"/>
  <Override PartName="/ppt/media/image31.jpeg" ContentType="image/jpeg"/>
  <Override PartName="/ppt/media/image10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6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3933-4884-4579-9D42-2E080DA4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20ED-E91A-47D4-ACE1-D62BE35A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074-1F92-4BF0-AF30-E20417BC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B71-62D2-42B7-BD6E-3B8FDA68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33C2-F0FC-421B-96EB-007F8890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0385-03C0-4DC3-AB3A-24D666F9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7723-3424-4F28-94AB-E3413341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1C34-CEF7-4AA7-A90F-E9AE32DE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9A29-7AB1-46B6-9585-A485CE01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18A0-9FA8-4A87-9E06-3A0D8CA2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BC7A-966C-495A-A2CA-D769B6C6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DA0-64FB-488F-8A1D-A4771FFB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829A-AFF0-417B-9F75-8FB0D5B2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65E6-FC61-4262-91A2-4F51FE09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5093-26EC-4E8D-A48D-38640935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CFC9-0869-4397-8B7B-BAAA0CBA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3307-F517-4040-845E-13653459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05D96-06FD-400B-BF02-239073E7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A9D1C-650C-4D91-AC07-0F1CCF6D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29F7B-70F2-476E-9B71-7DE7772F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BFD73-377B-4FB5-ADE1-0293FD19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13D5A-2BC0-4AAC-8546-F42A7D2A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BE2-163E-43CD-BF9E-0CFC8A5E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C98B4-F306-4486-AAD7-DAFEE3BD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A632B-7DAF-402F-A116-61BC6C38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58318-F1BE-4CAA-B2E7-56072F7E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59840-0267-47D1-85F3-01F1565B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06EA0-8025-4FA0-A37A-1B529F5B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73B82-C01C-4445-BBA6-B0A53A7F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F3215-23B2-4BC3-9234-A3B96752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10787-759B-40AC-82A9-88135BCE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8A2FC-1BB9-49ED-8248-4C6AC11B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8E813-9D48-4C92-9705-700E7F3E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695D-CABB-4C6C-9B37-0BE70C3E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738D6-67F2-4BDA-A8A7-62B46D23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C0E14-E393-44F6-AFB3-C0325E87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C8792-D263-4A74-B820-2FA0A569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71D57-8557-4C3A-87EE-05B8E5B9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1FA79-86B7-4F13-ACA1-11D313B9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944C3-7EE7-449C-B112-4745622E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3694C-5212-43A2-A453-BADAB9BF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E1F58-7136-468F-B99C-505A3775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6F06E-9F83-42CD-A836-CCF67A81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ECCB6-A234-41B3-BB26-DF9B66EC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A8D5-8254-4F0B-A1F9-70D14145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238E3-D920-4C64-B694-5890F33B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9ABA6-093E-4FBE-AC15-96DB3D9E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D7E02-1913-4566-BC9F-1C46F5A3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FCFC2-EA6F-4D05-A262-12B7A9DE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ABCCF-A4F7-4257-B108-7B097BF5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1EC8B-CF61-45F0-A588-935EBD76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19734-5F9F-434D-AECA-AFDF12F3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E09EE-7BB6-469A-B26D-90AB71F2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ECC46-D103-423F-AA02-BBBE8503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CAE80-3234-414E-A141-119C4E7C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430-F62C-4775-A4A1-43B3B7EB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4FE8E-2207-4CF8-B1E0-ADA03B2F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8E736-B72A-443E-8580-8EEA7BF6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6720F-EF8C-4563-A563-A1A863FD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84703-93DB-4A95-BFB9-1A1B138A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8960B-B820-4230-A5A6-D52D9B07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39DD3-4CDB-480D-9587-DFC196DE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8C150-623C-4D77-A1CB-A19BB896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0BFD5-FF74-47C9-A967-0E252624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ABBCE-455E-48A1-A797-339F2D91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02380-D82D-4B36-819D-85161122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7F2-A1BE-4792-9890-818D7B49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5DD8E-0172-4ED1-9450-C7FCE945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F142A-094C-4A7A-8901-C8364051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301C8-2BA9-4E2D-BFDC-DAA1F0B3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5567-AB75-4421-B52E-BD4DD9A9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E6E-76B2-4508-9D63-529CA056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1550-2259-4636-B2A7-B273C579B5A4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446C-A59E-44B5-BDA3-A756B19F05B7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2C72-DA99-4EB9-A704-05200EECA51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3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5A9A-48FA-46B4-9B62-98CF8533978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bf9555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72960" y="5943600"/>
              <a:ext cx="8399520" cy="763560"/>
              <a:chOff x="372960" y="5943600"/>
              <a:chExt cx="8399520" cy="763560"/>
            </a:xfrm>
          </p:grpSpPr>
          <p:sp>
            <p:nvSpPr>
              <p:cNvPr id="187" name=""/>
              <p:cNvSpPr/>
              <p:nvPr/>
            </p:nvSpPr>
            <p:spPr>
              <a:xfrm>
                <a:off x="372960" y="5943600"/>
                <a:ext cx="58284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084320" y="5943600"/>
                <a:ext cx="58248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793880" y="5943600"/>
                <a:ext cx="58248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505240" y="5943600"/>
                <a:ext cx="58248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214800" y="5943600"/>
                <a:ext cx="58248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927600" y="5943600"/>
                <a:ext cx="581040" cy="763560"/>
              </a:xfrm>
              <a:custGeom>
                <a:avLst/>
                <a:gdLst/>
                <a:ahLst/>
                <a:rect l="l" t="t" r="r" b="b"/>
                <a:pathLst>
                  <a:path w="366" h="481">
                    <a:moveTo>
                      <a:pt x="0" y="0"/>
                    </a:moveTo>
                    <a:lnTo>
                      <a:pt x="365" y="0"/>
                    </a:lnTo>
                    <a:lnTo>
                      <a:pt x="365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4" y="120"/>
                    </a:lnTo>
                    <a:lnTo>
                      <a:pt x="274" y="360"/>
                    </a:lnTo>
                    <a:lnTo>
                      <a:pt x="91" y="360"/>
                    </a:lnTo>
                    <a:lnTo>
                      <a:pt x="91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8" y="300"/>
                    </a:lnTo>
                    <a:lnTo>
                      <a:pt x="228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19" y="420"/>
                    </a:lnTo>
                    <a:lnTo>
                      <a:pt x="319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637160" y="5943600"/>
                <a:ext cx="581040" cy="763560"/>
              </a:xfrm>
              <a:custGeom>
                <a:avLst/>
                <a:gdLst/>
                <a:ahLst/>
                <a:rect l="l" t="t" r="r" b="b"/>
                <a:pathLst>
                  <a:path w="366" h="481">
                    <a:moveTo>
                      <a:pt x="0" y="0"/>
                    </a:moveTo>
                    <a:lnTo>
                      <a:pt x="365" y="0"/>
                    </a:lnTo>
                    <a:lnTo>
                      <a:pt x="365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4" y="120"/>
                    </a:lnTo>
                    <a:lnTo>
                      <a:pt x="274" y="360"/>
                    </a:lnTo>
                    <a:lnTo>
                      <a:pt x="91" y="360"/>
                    </a:lnTo>
                    <a:lnTo>
                      <a:pt x="91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8" y="300"/>
                    </a:lnTo>
                    <a:lnTo>
                      <a:pt x="228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19" y="420"/>
                    </a:lnTo>
                    <a:lnTo>
                      <a:pt x="319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48160" y="5943600"/>
                <a:ext cx="58284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058080" y="5943600"/>
                <a:ext cx="58248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69080" y="5943600"/>
                <a:ext cx="58248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478640" y="5943600"/>
                <a:ext cx="58284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190000" y="5943600"/>
                <a:ext cx="58248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361800" y="6480"/>
              <a:ext cx="8420400" cy="5816520"/>
            </a:xfrm>
            <a:prstGeom prst="rect">
              <a:avLst/>
            </a:prstGeom>
            <a:noFill/>
            <a:ln w="12600">
              <a:solidFill>
                <a:srgbClr val="ffcc99"/>
              </a:solidFill>
              <a:miter/>
            </a:ln>
            <a:effectLst>
              <a:outerShdw dist="53966" dir="2700000" blurRad="0" rotWithShape="0">
                <a:srgbClr val="26201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99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bf95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bf95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bf95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bf95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D38F-5E54-48B0-B65E-717D9BBBA30F}" type="slidenum">
              <a:rPr b="0" lang="zh-TW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371600"/>
            <a:ext cx="5029200" cy="0"/>
          </a:xfrm>
          <a:prstGeom prst="line">
            <a:avLst/>
          </a:prstGeom>
          <a:ln w="57240">
            <a:solidFill>
              <a:srgbClr val="bf9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f9555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372960" y="5816520"/>
              <a:ext cx="8399520" cy="763560"/>
              <a:chOff x="372960" y="5816520"/>
              <a:chExt cx="8399520" cy="763560"/>
            </a:xfrm>
          </p:grpSpPr>
          <p:sp>
            <p:nvSpPr>
              <p:cNvPr id="245" name=""/>
              <p:cNvSpPr/>
              <p:nvPr/>
            </p:nvSpPr>
            <p:spPr>
              <a:xfrm>
                <a:off x="372960" y="5816520"/>
                <a:ext cx="58284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084320" y="5816520"/>
                <a:ext cx="58248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93880" y="5816520"/>
                <a:ext cx="58248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505240" y="5816520"/>
                <a:ext cx="58248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14800" y="5816520"/>
                <a:ext cx="58248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927600" y="5816520"/>
                <a:ext cx="581040" cy="763560"/>
              </a:xfrm>
              <a:custGeom>
                <a:avLst/>
                <a:gdLst/>
                <a:ahLst/>
                <a:rect l="l" t="t" r="r" b="b"/>
                <a:pathLst>
                  <a:path w="366" h="481">
                    <a:moveTo>
                      <a:pt x="0" y="0"/>
                    </a:moveTo>
                    <a:lnTo>
                      <a:pt x="365" y="0"/>
                    </a:lnTo>
                    <a:lnTo>
                      <a:pt x="365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4" y="120"/>
                    </a:lnTo>
                    <a:lnTo>
                      <a:pt x="274" y="360"/>
                    </a:lnTo>
                    <a:lnTo>
                      <a:pt x="91" y="360"/>
                    </a:lnTo>
                    <a:lnTo>
                      <a:pt x="91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8" y="300"/>
                    </a:lnTo>
                    <a:lnTo>
                      <a:pt x="228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19" y="420"/>
                    </a:lnTo>
                    <a:lnTo>
                      <a:pt x="319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37160" y="5816520"/>
                <a:ext cx="581040" cy="763560"/>
              </a:xfrm>
              <a:custGeom>
                <a:avLst/>
                <a:gdLst/>
                <a:ahLst/>
                <a:rect l="l" t="t" r="r" b="b"/>
                <a:pathLst>
                  <a:path w="366" h="481">
                    <a:moveTo>
                      <a:pt x="0" y="0"/>
                    </a:moveTo>
                    <a:lnTo>
                      <a:pt x="365" y="0"/>
                    </a:lnTo>
                    <a:lnTo>
                      <a:pt x="365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4" y="120"/>
                    </a:lnTo>
                    <a:lnTo>
                      <a:pt x="274" y="360"/>
                    </a:lnTo>
                    <a:lnTo>
                      <a:pt x="91" y="360"/>
                    </a:lnTo>
                    <a:lnTo>
                      <a:pt x="91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8" y="300"/>
                    </a:lnTo>
                    <a:lnTo>
                      <a:pt x="228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19" y="420"/>
                    </a:lnTo>
                    <a:lnTo>
                      <a:pt x="319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348160" y="5816520"/>
                <a:ext cx="58284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058080" y="5816520"/>
                <a:ext cx="58248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769080" y="5816520"/>
                <a:ext cx="58248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78640" y="5816520"/>
                <a:ext cx="58284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190000" y="5816520"/>
                <a:ext cx="58248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361800" y="1073160"/>
              <a:ext cx="8420400" cy="4597560"/>
            </a:xfrm>
            <a:prstGeom prst="rect">
              <a:avLst/>
            </a:prstGeom>
            <a:noFill/>
            <a:ln w="12600">
              <a:solidFill>
                <a:srgbClr val="ffcc99"/>
              </a:solidFill>
              <a:miter/>
            </a:ln>
            <a:effectLst>
              <a:outerShdw dist="53966" dir="2700000" blurRad="0" rotWithShape="0">
                <a:srgbClr val="26201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72960" y="152280"/>
              <a:ext cx="8399520" cy="763560"/>
              <a:chOff x="372960" y="152280"/>
              <a:chExt cx="8399520" cy="76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372960" y="152280"/>
                <a:ext cx="58284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084320" y="152280"/>
                <a:ext cx="58248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793880" y="152280"/>
                <a:ext cx="58248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505240" y="152280"/>
                <a:ext cx="58248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214800" y="152280"/>
                <a:ext cx="58248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27600" y="152280"/>
                <a:ext cx="581040" cy="763560"/>
              </a:xfrm>
              <a:custGeom>
                <a:avLst/>
                <a:gdLst/>
                <a:ahLst/>
                <a:rect l="l" t="t" r="r" b="b"/>
                <a:pathLst>
                  <a:path w="366" h="481">
                    <a:moveTo>
                      <a:pt x="0" y="0"/>
                    </a:moveTo>
                    <a:lnTo>
                      <a:pt x="365" y="0"/>
                    </a:lnTo>
                    <a:lnTo>
                      <a:pt x="365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4" y="120"/>
                    </a:lnTo>
                    <a:lnTo>
                      <a:pt x="274" y="360"/>
                    </a:lnTo>
                    <a:lnTo>
                      <a:pt x="91" y="360"/>
                    </a:lnTo>
                    <a:lnTo>
                      <a:pt x="91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8" y="300"/>
                    </a:lnTo>
                    <a:lnTo>
                      <a:pt x="228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19" y="420"/>
                    </a:lnTo>
                    <a:lnTo>
                      <a:pt x="319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637160" y="152280"/>
                <a:ext cx="581040" cy="763560"/>
              </a:xfrm>
              <a:custGeom>
                <a:avLst/>
                <a:gdLst/>
                <a:ahLst/>
                <a:rect l="l" t="t" r="r" b="b"/>
                <a:pathLst>
                  <a:path w="366" h="481">
                    <a:moveTo>
                      <a:pt x="0" y="0"/>
                    </a:moveTo>
                    <a:lnTo>
                      <a:pt x="365" y="0"/>
                    </a:lnTo>
                    <a:lnTo>
                      <a:pt x="365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4" y="120"/>
                    </a:lnTo>
                    <a:lnTo>
                      <a:pt x="274" y="360"/>
                    </a:lnTo>
                    <a:lnTo>
                      <a:pt x="91" y="360"/>
                    </a:lnTo>
                    <a:lnTo>
                      <a:pt x="91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8" y="300"/>
                    </a:lnTo>
                    <a:lnTo>
                      <a:pt x="228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19" y="420"/>
                    </a:lnTo>
                    <a:lnTo>
                      <a:pt x="319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348160" y="152280"/>
                <a:ext cx="58284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58080" y="152280"/>
                <a:ext cx="58248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69080" y="152280"/>
                <a:ext cx="58248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478640" y="152280"/>
                <a:ext cx="58284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190000" y="152280"/>
                <a:ext cx="582480" cy="763560"/>
              </a:xfrm>
              <a:custGeom>
                <a:avLst/>
                <a:gdLst/>
                <a:ahLst/>
                <a:rect l="l" t="t" r="r" b="b"/>
                <a:pathLst>
                  <a:path w="367" h="481">
                    <a:moveTo>
                      <a:pt x="0" y="0"/>
                    </a:moveTo>
                    <a:lnTo>
                      <a:pt x="366" y="0"/>
                    </a:lnTo>
                    <a:lnTo>
                      <a:pt x="366" y="480"/>
                    </a:lnTo>
                    <a:lnTo>
                      <a:pt x="0" y="480"/>
                    </a:lnTo>
                    <a:lnTo>
                      <a:pt x="0" y="120"/>
                    </a:lnTo>
                    <a:lnTo>
                      <a:pt x="275" y="120"/>
                    </a:lnTo>
                    <a:lnTo>
                      <a:pt x="275" y="360"/>
                    </a:lnTo>
                    <a:lnTo>
                      <a:pt x="92" y="360"/>
                    </a:lnTo>
                    <a:lnTo>
                      <a:pt x="92" y="240"/>
                    </a:lnTo>
                    <a:lnTo>
                      <a:pt x="137" y="240"/>
                    </a:lnTo>
                    <a:lnTo>
                      <a:pt x="137" y="300"/>
                    </a:lnTo>
                    <a:lnTo>
                      <a:pt x="229" y="300"/>
                    </a:lnTo>
                    <a:lnTo>
                      <a:pt x="229" y="180"/>
                    </a:lnTo>
                    <a:lnTo>
                      <a:pt x="46" y="180"/>
                    </a:lnTo>
                    <a:lnTo>
                      <a:pt x="46" y="420"/>
                    </a:lnTo>
                    <a:lnTo>
                      <a:pt x="320" y="420"/>
                    </a:lnTo>
                    <a:lnTo>
                      <a:pt x="320" y="60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9555">
                  <a:alpha val="50000"/>
                </a:srgbClr>
              </a:solidFill>
              <a:ln w="0">
                <a:noFill/>
              </a:ln>
              <a:effectLst>
                <a:outerShdw dist="53966" dir="2700000" blurRad="0" rotWithShape="0">
                  <a:srgbClr val="26201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6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bf95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bf95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bf95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bf955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8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bf95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65B6-5DFE-46B1-9980-F10E5729FEB2}" type="slidenum">
              <a:rPr b="0" lang="zh-TW" sz="1400" spc="-1" strike="noStrike">
                <a:solidFill>
                  <a:srgbClr val="bf95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99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99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images.google.de/imgres?imgurl=http://www.volldasgute.de/Images/smileys/Smiley%2520Face%2520(flat).jpg&amp;imgrefurl=http://www.volldasgute.de/Images/smileys/&amp;h=1800&amp;w=1800&amp;sz=143&amp;tbnid=I3skWD-ElU0J:&amp;tbnh=150&amp;tbnw=150&amp;start=7&amp;prev=/images%3Fq%3DSmiley%26hl%3Dde%26lr%3D%26ie%3DUTF-8" TargetMode="External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8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80720" y="2209680"/>
            <a:ext cx="5257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簡報技巧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國立中正大學企管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曾光華副教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簡報架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61000" y="2168640"/>
            <a:ext cx="668520" cy="5814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開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77760" y="2168640"/>
            <a:ext cx="1155960" cy="5814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簡報重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94920" y="2168640"/>
            <a:ext cx="668520" cy="5814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結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505200" y="2168640"/>
            <a:ext cx="1155960" cy="5814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接應問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81080" y="230364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230364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15000" y="230364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53800" y="2836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興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982600" y="2836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衝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68280" y="2836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回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697080" y="2836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釐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447920" y="3522600"/>
            <a:ext cx="6095880" cy="1495800"/>
            <a:chOff x="1447920" y="3522600"/>
            <a:chExt cx="6095880" cy="1495800"/>
          </a:xfrm>
        </p:grpSpPr>
        <p:sp>
          <p:nvSpPr>
            <p:cNvPr id="367" name=""/>
            <p:cNvSpPr/>
            <p:nvPr/>
          </p:nvSpPr>
          <p:spPr>
            <a:xfrm>
              <a:off x="1780920" y="4437000"/>
              <a:ext cx="1155960" cy="58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口語表達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20760" y="4437000"/>
              <a:ext cx="1155960" cy="58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肢體表達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48000" y="4437000"/>
              <a:ext cx="1155960" cy="58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輔助工具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7920" y="4284360"/>
              <a:ext cx="6095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981080" y="3522600"/>
              <a:ext cx="685800" cy="761760"/>
            </a:xfrm>
            <a:prstGeom prst="upArrow">
              <a:avLst>
                <a:gd name="adj1" fmla="val 50000"/>
                <a:gd name="adj2" fmla="val 27769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91120" y="3522600"/>
              <a:ext cx="685800" cy="761760"/>
            </a:xfrm>
            <a:prstGeom prst="upArrow">
              <a:avLst>
                <a:gd name="adj1" fmla="val 50000"/>
                <a:gd name="adj2" fmla="val 27769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24480" y="3522600"/>
              <a:ext cx="685800" cy="761760"/>
            </a:xfrm>
            <a:prstGeom prst="upArrow">
              <a:avLst>
                <a:gd name="adj1" fmla="val 50000"/>
                <a:gd name="adj2" fmla="val 27769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7D16A-4E8D-44F1-88EE-F2C2BB4171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關鍵的開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69343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主菜上桌前，先來一道開胃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先掌握</a:t>
            </a:r>
            <a:r>
              <a:rPr b="0" lang="zh-TW" sz="3200" spc="-1" strike="noStrike" u="sng">
                <a:solidFill>
                  <a:srgbClr val="ffffff"/>
                </a:solidFill>
                <a:uFillTx/>
                <a:latin typeface="Times New Roman"/>
              </a:rPr>
              <a:t>前幾分鐘的聽眾注意力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/</a:t>
            </a:r>
            <a:r>
              <a:rPr b="0" lang="zh-TW" sz="3200" spc="-1" strike="noStrike" u="sng">
                <a:solidFill>
                  <a:srgbClr val="ffffff"/>
                </a:solidFill>
                <a:uFillTx/>
                <a:latin typeface="Times New Roman"/>
              </a:rPr>
              <a:t>興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方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個人吸引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有吸引力內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858000" y="4038480"/>
            <a:ext cx="1219320" cy="15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DF599-6920-42A5-A715-9BC2C2DE91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關鍵的開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個人吸引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誠懇、熱情、親和力、</a:t>
            </a:r>
            <a:r>
              <a:rPr b="0" lang="zh-TW" sz="2800" spc="-1" strike="noStrike" u="sng">
                <a:solidFill>
                  <a:srgbClr val="ffffff"/>
                </a:solidFill>
                <a:uFillTx/>
                <a:latin typeface="Times New Roman"/>
              </a:rPr>
              <a:t>或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信賴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介紹人引言、肢體語言、穿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4986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D5227-1534-4D2C-929B-42517B77CE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關鍵的開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59436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有吸引力的內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個人際遇、生活小故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具體事實、證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引發好奇、提出問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讚美、鼓勵或感謝聽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26668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f9555">
              <a:alpha val="50000"/>
            </a:srgbClr>
          </a:solidFill>
          <a:ln w="93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19720" y="3276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bf9555">
              <a:alpha val="50000"/>
            </a:srgbClr>
          </a:solidFill>
          <a:ln w="93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9625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f9555">
              <a:alpha val="50000"/>
            </a:srgbClr>
          </a:solidFill>
          <a:ln w="93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44956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f9555">
              <a:alpha val="50000"/>
            </a:srgbClr>
          </a:solidFill>
          <a:ln w="93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05920" y="54864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7010280" y="2666880"/>
            <a:ext cx="114948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82BE8-39DE-4F97-B3F2-EA528B2500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696080" cy="4038480"/>
          </a:xfrm>
          <a:prstGeom prst="rect">
            <a:avLst/>
          </a:prstGeom>
          <a:solidFill>
            <a:srgbClr val="ffcc99"/>
          </a:solidFill>
          <a:ln w="9360">
            <a:solidFill>
              <a:srgbClr val="96969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「前幾個月有一則轟動社會的新聞：有一對男女朋友在西螺橋上吵架，結果男的一時盛怒，將交往多年的女朋友從橋上推下濁水溪。這則新聞讓我想起。。。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「去年，中正大學畢業舞會上發生鋼管女郎跳舞事件，。。。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「我有一位朋友結婚了二十多年，經常稱呼另一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親愛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』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。。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58200" y="5486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f955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6633"/>
                </a:solidFill>
                <a:latin typeface="Times New Roman"/>
              </a:rPr>
              <a:t>個人際遇、生活小故事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C15E6-AC4A-4004-8268-03061B6451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514600" y="5181480"/>
            <a:ext cx="43434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315200" cy="990360"/>
          </a:xfrm>
          <a:prstGeom prst="rect">
            <a:avLst/>
          </a:prstGeom>
          <a:solidFill>
            <a:srgbClr val="ffcc99"/>
          </a:solidFill>
          <a:ln w="9360">
            <a:solidFill>
              <a:srgbClr val="96969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「在進入主題之前，讓我們先來看看資訊與知識爆炸的情況。。。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458200" y="55627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bf955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6633"/>
                </a:solidFill>
                <a:latin typeface="Times New Roman"/>
              </a:rPr>
              <a:t>具體事實、證據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143000" y="2563920"/>
            <a:ext cx="594360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cc99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近三十年的資訊比過去五千年還要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cc99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每五年，發表的知識量增加一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cc99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全世界平均每天出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4000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本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ffcc99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17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世紀英國人一輩子的資訊量等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現代人一份報紙的資訊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7238880" y="3429000"/>
            <a:ext cx="995400" cy="13716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4433400" y="52578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忌：繁瑣、冗長、雜亂的資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A7181-00B5-4AAF-B792-24C1C8BC77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438280" y="5029200"/>
            <a:ext cx="43434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696080" cy="3124080"/>
          </a:xfrm>
          <a:prstGeom prst="rect">
            <a:avLst/>
          </a:prstGeom>
          <a:solidFill>
            <a:srgbClr val="ffcc99"/>
          </a:solidFill>
          <a:ln w="9360">
            <a:solidFill>
              <a:srgbClr val="96969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「請問，阿姆斯壯登陸月球的第一句話是。。。？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「經濟不景氣，很多公司都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開ㄩㄢ</a:t>
            </a:r>
            <a:r>
              <a:rPr b="1" lang="zh-TW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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節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』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請問，什麼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開ㄩㄢ</a:t>
            </a:r>
            <a:r>
              <a:rPr b="1" lang="zh-TW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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節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』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？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「半年前，訐瞧龍紅到發紫。可是，想一想，你已經多久沒收到朋友寄來的訐瞧龍動畫？為什麼？難道電腦動畫是一種潮流嗎？電腦動畫沒有長久的生命嗎？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458200" y="55627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bf955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6633"/>
                </a:solidFill>
                <a:latin typeface="Times New Roman"/>
              </a:rPr>
              <a:t>引發好奇、提出問題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27280" y="51055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忌：引起過度好奇、現場失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3126B-0501-40C0-918F-B123DB0294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362320" y="5029200"/>
            <a:ext cx="4572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666880"/>
          </a:xfrm>
          <a:prstGeom prst="rect">
            <a:avLst/>
          </a:prstGeom>
          <a:solidFill>
            <a:srgbClr val="ffcc99"/>
          </a:solidFill>
          <a:ln w="9360">
            <a:solidFill>
              <a:srgbClr val="96969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「我第一次到貴公司訓練所時，在通往圖書館的走道上看到一張吸引人的小海報，上面寫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此處光線不足，為了保護您的眼睛，請到圖書室內閱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』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。。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「前年中旬，我在寫生平的第一本書行銷學，經常隨身帶著照相機。。。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458200" y="55627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bf955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6633"/>
                </a:solidFill>
                <a:latin typeface="Times New Roman"/>
              </a:rPr>
              <a:t>讚美、鼓勵或感謝聽眾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33400" y="510552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忌：造作、肉麻、不斷重複恭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152D6-C66A-4BC5-AEAB-8A69F0F75B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動人的內容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8080" y="1600200"/>
            <a:ext cx="7696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精心鋪設背景，以凸顯主題或重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例：以前有一位瞎子乞丐，在公園內。。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2133720" y="3352680"/>
            <a:ext cx="2114280" cy="2286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5029200" y="3781440"/>
            <a:ext cx="53352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我看不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24480" y="3200400"/>
            <a:ext cx="533520" cy="302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秋天來了，我看不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5E896-E253-4856-980B-766FC74F24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動人的內容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38080" y="1600200"/>
            <a:ext cx="7696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精心鋪設背景，凸顯主題或重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2209680" y="3800520"/>
            <a:ext cx="4953240" cy="29163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1981080" y="3218040"/>
            <a:ext cx="541044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413960" y="259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 Narrow"/>
                <a:ea typeface="標楷體"/>
              </a:rPr>
              <a:t>電影「鐵達尼號」最有名的鏡頭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A2922-4EBC-4322-85B4-5DF076F27F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Times New Roman"/>
              </a:rPr>
              <a:t>事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中高級主管的上班時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14400" y="160020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群體溝通（會議、簡報、聽簡報）佔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個別溝通（電話、面對面）佔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5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962520" y="4273560"/>
            <a:ext cx="1143000" cy="10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E237A-E9AF-4E38-BB62-8280777371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動人的內容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38080" y="1371600"/>
            <a:ext cx="7696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例：如何鋪設「生涯規劃」、「知識管理」的背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676520" y="2133720"/>
            <a:ext cx="5257800" cy="21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背景一：科技倍速發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背景二：資訊與知識爆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背景三：競爭高度自由化與國際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91120" y="42670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43000" y="4800600"/>
            <a:ext cx="60199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生涯規劃、知識管理、培養正確心態。。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FDFE1-70F9-48ED-AABE-4BDBDCA0CF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D1E33-B77A-4D9E-86BF-BAB449198D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49086-7944-4F75-9ED6-E9BA7A3877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74321-8AF9-4308-8650-237A393AC9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動人的內容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利用「三段式架構」引導聽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6320" y="2133720"/>
            <a:ext cx="84582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故事：陳述有趣的、重要的或感人的故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事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重點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引申：詮釋故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事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重點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衝擊：結合簡報目標，刺激聽眾的思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情緒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4366D-2BD5-4D34-86A1-B02BEBE2C3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動人的內容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例：王永慶與油品競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故事：王永慶的生活習慣與經營管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引申：這些生活習慣的意義？與經營管理的關係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衝擊： 對中油公司的影響、警惕？中油怎麼辦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6629400" y="1523880"/>
            <a:ext cx="1876320" cy="22766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2992320" y="1828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三段式架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EB92F-FFAF-447B-9E82-E0C64778EE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動人的內容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6960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例：業務人員激勵（正面思考、積極態度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故事：大腦結構         正面思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引伸：正面思考與日常生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衝擊：你有正面思考嗎？有注重內心世界嗎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33920" y="3581280"/>
            <a:ext cx="6094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44600" y="1676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三段式架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BCE5F-1644-44CA-90E4-3BC3C97F12E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1FC8A-E75D-43BD-B91D-49BBE2AEB72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5837040" y="3352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累得要死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58520" y="46483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好忙！每分鐘都填滿了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651CA-BED7-40EA-BF5A-CD6EAAC0E62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052AC-FFA5-4454-9BD1-C7AE35DD73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Times New Roman"/>
              </a:rPr>
              <a:t>事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口頭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s.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文字溝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1523880"/>
            <a:ext cx="533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小時口頭報告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頁文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比起文字，口頭報告更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快速接觸一群人（效率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增進說服力（效果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934320" y="411480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1A6C5-254D-4756-8107-EE1F2B3F89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動人的內容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簡單、具體、生活化、切身、感動的例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內容圖像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ffcc99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他們的廠房有多大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ffcc99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如何形容疲倦、快速、危險、。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ffcc99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蔡永和的至親最愛。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ffcc99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黃瑞鵬的大死與大愛。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0F7E7-0027-445A-BB2C-1C77A0EED82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</a:rPr>
              <a:t>蔡永和的至親最愛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高雄義消   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</a:rPr>
              <a:t>60%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灼傷   中秋節早上去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強忍悲傷的三姐弟、白髮送黑髮的父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妻子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</a:rPr>
              <a:t>70%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灼傷，仍在危險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6633"/>
                </a:solidFill>
                <a:latin typeface="標楷體"/>
              </a:rPr>
              <a:t>「爸爸很好，在隔壁病房，請你放心。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66680" y="304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動人的內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A3457-9A5A-4E87-9A8B-6A039409FB4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</a:rPr>
              <a:t>黃瑞鵬的大死與大愛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華康細圓體"/>
              </a:rPr>
              <a:t>台中衛爾康大火義勇救人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華康細圓體"/>
              </a:rPr>
              <a:t>五歲過繼黃家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華康細圓體"/>
              </a:rPr>
              <a:t>自掏腰包添購消防器材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華康細圓體"/>
              </a:rPr>
              <a:t>與死神搏鬥三個多月，在最心愛的工作上作了最大的犧牲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6633"/>
                </a:solidFill>
                <a:latin typeface="標楷體"/>
              </a:rPr>
              <a:t>賠償金捐出買救護車：「瑞鵬號」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66680" y="304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標楷體"/>
              </a:rPr>
              <a:t>動人的內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341BF-FDA4-4A3A-B8EE-FF735B6488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令人回味的結束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lvl="1" marL="609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重點摘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刺激動機與行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幽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籠絡人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引人深思與迴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505320" y="2133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bf9555">
              <a:alpha val="50000"/>
            </a:srgbClr>
          </a:solidFill>
          <a:ln w="93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0" y="28954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f9555">
              <a:alpha val="50000"/>
            </a:srgbClr>
          </a:solidFill>
          <a:ln w="93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81280" y="4343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f9555">
              <a:alpha val="50000"/>
            </a:srgbClr>
          </a:solidFill>
          <a:ln w="93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305920" y="55627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50292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f9555">
              <a:alpha val="50000"/>
            </a:srgbClr>
          </a:solidFill>
          <a:ln w="93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2209680" cy="14684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895480" y="35812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f9555">
              <a:alpha val="50000"/>
            </a:srgbClr>
          </a:solidFill>
          <a:ln w="93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850C4-E4C1-463F-8ADF-C8AA686ED5F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514600" y="5029200"/>
            <a:ext cx="396252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1066680" y="1828440"/>
            <a:ext cx="7315200" cy="2514600"/>
          </a:xfrm>
          <a:prstGeom prst="rect">
            <a:avLst/>
          </a:prstGeom>
          <a:solidFill>
            <a:srgbClr val="ffcc99"/>
          </a:solidFill>
          <a:ln w="9360">
            <a:solidFill>
              <a:srgbClr val="96969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「這場簡報主要是探討三個問題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為什麼。。。？怎麼。。。？以及，如何。。。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總結而言，我們的結論有三點：第一，。。。；第二，。。。；第三，。。。」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458200" y="5486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f955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6633"/>
                </a:solidFill>
                <a:latin typeface="Times New Roman"/>
              </a:rPr>
              <a:t>重點摘要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281120" y="510552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忌：細節、冗長、過多補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427A0-7A7B-4AF0-B253-B2B2D28612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696080" cy="2362320"/>
          </a:xfrm>
          <a:prstGeom prst="rect">
            <a:avLst/>
          </a:prstGeom>
          <a:solidFill>
            <a:srgbClr val="ffcc99"/>
          </a:solidFill>
          <a:ln w="9360">
            <a:solidFill>
              <a:srgbClr val="96969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「以前有兩個人在森林中露營，突然他們都發現了營區不遠處出現一隻老虎正走向他們。甲趕快穿起運動鞋，但乙不屑的問甲。。。」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458200" y="5486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f955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6633"/>
                </a:solidFill>
                <a:latin typeface="Times New Roman"/>
              </a:rPr>
              <a:t>刺激動機與行動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A16FA-F9D6-4D7D-A2DC-E30C3DB25C2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657600" y="4800600"/>
            <a:ext cx="152388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838080" y="1523520"/>
            <a:ext cx="7391520" cy="2133720"/>
          </a:xfrm>
          <a:prstGeom prst="rect">
            <a:avLst/>
          </a:prstGeom>
          <a:solidFill>
            <a:srgbClr val="ffcc99"/>
          </a:solidFill>
          <a:ln w="9360">
            <a:solidFill>
              <a:srgbClr val="96969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「幾十年前，有一位精神病患成天幻想他自己是蔣中正，還上街頭不斷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『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我是蔣中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』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。。。」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458200" y="5486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f955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6633"/>
                </a:solidFill>
                <a:latin typeface="Times New Roman"/>
              </a:rPr>
              <a:t>幽默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79440" y="48639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忌：離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37D50-CCE9-4DA9-821A-A4424964D8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7696440" cy="4190760"/>
          </a:xfrm>
          <a:prstGeom prst="rect">
            <a:avLst/>
          </a:prstGeom>
          <a:solidFill>
            <a:srgbClr val="ffcc99"/>
          </a:solidFill>
          <a:ln w="9360">
            <a:solidFill>
              <a:srgbClr val="96969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「剛剛才發現連校長、副校長也坐在下面聽，而校長、副校長的學術成就我早有所聞。這不能不使我又想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班門弄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』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這個成語，更何況還有一位大魯班正坐在我身邊。這情景再往下想連我結束的語言也找不到了，那就只能乾脆不想，趕快結束。下面有一點時間請大家提問。謝謝。」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「今天我們有機會見面，相當有緣。然而，。。。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458200" y="5486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f955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6633"/>
                </a:solidFill>
                <a:latin typeface="Times New Roman"/>
              </a:rPr>
              <a:t>籠絡人心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A1B99-7C00-4D8A-8987-BA7F499F39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837720" y="1828800"/>
            <a:ext cx="7543800" cy="2666880"/>
          </a:xfrm>
          <a:prstGeom prst="rect">
            <a:avLst/>
          </a:prstGeom>
          <a:solidFill>
            <a:srgbClr val="ffcc99"/>
          </a:solidFill>
          <a:ln w="9360">
            <a:solidFill>
              <a:srgbClr val="96969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「最後，我提出愛因斯坦的名言：想像比知識更重要。為什麼呢？因為知識定義了我們目前已知與了解的一切，而想像卻帶領我們去發現未知與創造未來。因此，希望這場簡報的結束，就是各位想像的開始。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458200" y="5486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f955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6633"/>
                </a:solidFill>
                <a:latin typeface="Times New Roman"/>
              </a:rPr>
              <a:t>引人深思與迴響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AFC01-3FDB-4F79-AB9F-616ECF61A7B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如何接應問題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面對不完整問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二分法問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啟發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s.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硬梆梆答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1744560" cy="110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35893-11A0-4D1C-A652-AF4A4129F3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Times New Roman"/>
              </a:rPr>
              <a:t>事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68580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新一代人類的資訊來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電視、電影、網路、廣播、漫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視覺＋聽覺＋娛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6629400" y="4343400"/>
            <a:ext cx="1447920" cy="11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A79CE-F569-4CC1-94C2-6B86D239B0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口語表達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Times New Roman"/>
              </a:rPr>
              <a:t>音量、音調與速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Times New Roman"/>
              </a:rPr>
              <a:t>避免專門、艱澀用字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Times New Roman"/>
              </a:rPr>
              <a:t>不要多餘的「噪音字眼」與廢話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Times New Roman"/>
              </a:rPr>
              <a:t>比喻、排比、對比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6629400" y="2057400"/>
            <a:ext cx="1371600" cy="12034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7010280" y="38098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00600" y="45720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55DEA-94D3-4838-A85A-7C47C73CA95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33"/>
                </a:solidFill>
                <a:latin typeface="Times New Roman"/>
              </a:rPr>
              <a:t>噪音字眼與廢話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586764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句首：那、基本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句中：ㄟ、可能、大概、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句尾：呢、的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美式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l, you know, anyway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66680" y="4038480"/>
            <a:ext cx="6782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位在東部的花蓮、的情形、現在目前、進行。。。的動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>
            <a:hlinkClick r:id="" action="ppaction://hlinkshowjump?jump=previousslide"/>
          </p:cNvPr>
          <p:cNvSpPr/>
          <p:nvPr/>
        </p:nvSpPr>
        <p:spPr>
          <a:xfrm>
            <a:off x="8305920" y="5410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3CD6B-8657-40FE-A621-F8630252CFD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33"/>
                </a:solidFill>
                <a:latin typeface="Times New Roman"/>
              </a:rPr>
              <a:t>比喻、排比、對比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14400" y="1523880"/>
            <a:ext cx="731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「一上台演講，我的胃就有如在暴風雨中橫渡太平洋般的翻滾。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895480"/>
            <a:ext cx="7315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「台北縣的山滿目瘡疤，像一身都長了癬，爛了毛的癩皮狗。。。台灣，是生我育我的母親；骯髒、醜陋、道德敗壞的台灣是我生了梅毒的母親。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14400" y="4648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「我認識的人越多，我越喜歡狗。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F40A6-3B82-43DF-9D95-D64C702F8B7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33"/>
                </a:solidFill>
                <a:latin typeface="Times New Roman"/>
              </a:rPr>
              <a:t>比喻、排比、對比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1523880"/>
            <a:ext cx="7925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「我在台上八個小時，煽動三十位學員的七情六慾，他們的好奇、企盼、微笑、大笑、讚賞、傷感、內省，一張又一張的畫像，現在還刻在我腦海中。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9480" y="32767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「李光耀有連戰的國際觀、宋楚瑜的謀略、陳水扁的魄力，以及對政敵毫不留情的攻擊力。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4648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「面對這次考試，我焦慮、退縮、無助。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89D63-A2BA-43EC-ACB9-FD812866CF6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33"/>
                </a:solidFill>
                <a:latin typeface="Times New Roman"/>
              </a:rPr>
              <a:t>比喻、排比、對比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523880"/>
            <a:ext cx="7315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「他左眼失明、雙手殘缺，自小以撿破爛為生，但他每年捐助三十萬給慈濟醫院。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29718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「當他的競爭對手在瘋狂的燒錢大打電視廣告時，他卻全省走透透拜訪傳統菜市場。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44197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「古人不見今月，今月照古人。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02F1F-8721-4365-B2C8-834270E3408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肢體語言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45720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眼神接觸個人際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平均接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手勢運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緊張處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剛、柔手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6248520" y="3276720"/>
            <a:ext cx="1542960" cy="154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8A860-9828-4394-8757-58031C1827F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ccff"/>
                </a:solidFill>
                <a:latin typeface="Times New Roman"/>
              </a:rPr>
              <a:t>插播：過度緊張的後果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1981080"/>
            <a:ext cx="7315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以前有一位年輕牧師，經常緊張兮兮的，尤其是上台佈道時更是容易身體僵硬、腦筋空白。於是，他想向資深牧師多多學習。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46E79-41A8-47CE-9C17-A15EEE221F0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肢體語言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124080" y="1447920"/>
            <a:ext cx="5486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腳步與身體移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減少聽眾眼睛疲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考慮音量擴散、眼神接觸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服裝、儀容、舉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考慮場合、身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忌不雅動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190512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47D06-FDA4-428E-BFCB-348EEB055CE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輔助工具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投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重點、明瞭、美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實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考慮肢體語言與現場效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聽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口頭技巧、眼神、手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問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肢體回應帶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6248520" y="2514600"/>
            <a:ext cx="1600200" cy="15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C9F11-F5A2-4D8F-94D0-79F6AAF19AD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台上三分鐘，台下十年功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知識境界：樹與林、廣與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知識來源：無所不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蒐集知識：隨時停看聽、動腦動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3962520" y="4343400"/>
            <a:ext cx="128592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6F32B-A847-41ED-A0ED-F695037DAB7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371600" y="3124080"/>
            <a:ext cx="2057400" cy="8384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Times New Roman"/>
              </a:rPr>
              <a:t>事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18960" y="3048120"/>
            <a:ext cx="236196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簡報溝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91120" y="1752480"/>
            <a:ext cx="533160" cy="3733920"/>
          </a:xfrm>
          <a:custGeom>
            <a:avLst/>
            <a:gdLst>
              <a:gd name="textAreaLeft" fmla="*/ 340560 w 533160"/>
              <a:gd name="textAreaRight" fmla="*/ 533520 w 53316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16765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上司賞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22096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下屬信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顧客觀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33526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領導能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39625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管理效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45720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工作資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51055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。。。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086600" y="2438280"/>
            <a:ext cx="1020600" cy="19814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8839080" y="62485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20369-53E9-4D50-BDEB-3DA76FB81B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Times New Roman"/>
              </a:rPr>
              <a:t>結語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5530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問：「打得那麼好！為什麼還苦練？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「對我而言，少一桿相當於多賺二十萬美金。如果你是我，要不要苦練？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1362240" cy="137160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2103480" y="1447920"/>
            <a:ext cx="1477800" cy="22860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3276720" y="2971800"/>
            <a:ext cx="1752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高球名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Arnold Palm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4B891-080D-4D7F-8E7F-5316081C011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276720" y="1844280"/>
            <a:ext cx="510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口語報告 </a:t>
            </a: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(</a:t>
            </a: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專業演講</a:t>
            </a: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)</a:t>
            </a:r>
            <a:r>
              <a:rPr b="0" lang="zh-TW" sz="4200" spc="-1" strike="noStrike">
                <a:solidFill>
                  <a:srgbClr val="ffffff"/>
                </a:solidFill>
                <a:latin typeface="Arial"/>
                <a:ea typeface="華康中明體"/>
              </a:rPr>
              <a:t> 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355640" y="3429000"/>
            <a:ext cx="64407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ffffff"/>
                </a:solidFill>
                <a:latin typeface="Arial"/>
              </a:rPr>
              <a:t>鄭先祐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Arial"/>
              </a:rPr>
              <a:t>靜宜大學 生態系教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5640" y="6021360"/>
            <a:ext cx="6480360" cy="459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yo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靜宜站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1.pu.edu.tw/~hyche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900000" y="4365720"/>
            <a:ext cx="1257480" cy="13604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564000" y="333000"/>
            <a:ext cx="495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口語報告 </a:t>
            </a: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(</a:t>
            </a: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專業演講</a:t>
            </a: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)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「溝通」是相互的「告之」和「被告知」的過程；同時亦有「相互瞭解」的含意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假若沒有「瞭解」，就沒有「溝通」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「口頭報告」往往可有較好的「溝通」，比「寫作」更好。因為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第一，「講者」通常可以接受到「聽眾」的立即反應。「聽眾」亦可獲得「講者」的第一手回應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第二，許多事情的決定，往往都要取決於一次的「口頭報告」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02A-1454-4DDD-B138-B3D41F59CE4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980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§ </a:t>
            </a: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講者的「可信度」</a:t>
            </a: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(</a:t>
            </a: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credibility)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4000" y="2276280"/>
            <a:ext cx="7986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華康中明體"/>
              </a:rPr>
              <a:t>第一，對主題的「認知」程度，是最重要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華康中明體"/>
              </a:rPr>
              <a:t>第二，是「信任」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華康中明體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華康中明體"/>
              </a:rPr>
              <a:t>trust)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華康中明體"/>
              </a:rPr>
              <a:t>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華康中明體"/>
              </a:rPr>
              <a:t>第三，是「互動」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華康中明體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華康中明體"/>
              </a:rPr>
              <a:t>dynamism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華康中明體"/>
              </a:rPr>
              <a:t>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4BD2-B06F-47B3-9132-C22F510F61CB}" type="slidenum">
              <a:t>53</a:t>
            </a:fld>
          </a:p>
        </p:txBody>
      </p:sp>
    </p:spTree>
  </p:cSld>
  <p:transition>
    <p:cover dir="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692000" y="549000"/>
            <a:ext cx="66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1b60f"/>
                </a:solidFill>
                <a:latin typeface="Arial"/>
              </a:rPr>
              <a:t>演講者的重要特質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83432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1b60f"/>
                </a:solidFill>
                <a:latin typeface="Arial"/>
              </a:rPr>
              <a:t>專精：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對主題的了解程度、保握核心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重點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1b60f"/>
                </a:solidFill>
                <a:latin typeface="Arial"/>
              </a:rPr>
              <a:t>可信：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如何建立可信度？主持人的轉移，   自己真誠的表達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1b60f"/>
                </a:solidFill>
                <a:latin typeface="Arial"/>
              </a:rPr>
              <a:t>活力：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熱忱、接受訊息、反應訊息、自然互動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1b60f"/>
                </a:solidFill>
                <a:latin typeface="Arial"/>
              </a:rPr>
              <a:t>魅力：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專業的程度、自然的程度、舒適的程度 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順眼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98F-C5D8-4654-87BB-0BE430A03B14}" type="slidenum">
              <a:t>54</a:t>
            </a:fld>
          </a:p>
        </p:txBody>
      </p:sp>
    </p:spTree>
  </p:cSld>
  <p:transition>
    <p:cover dir="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211640" y="-360"/>
            <a:ext cx="442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1b60f"/>
                </a:solidFill>
                <a:latin typeface="Arial"/>
              </a:rPr>
              <a:t>口語表達的原則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55640" y="119664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buClr>
                <a:srgbClr val="f1b6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1b60f"/>
                </a:solidFill>
                <a:latin typeface="Arial"/>
              </a:rPr>
              <a:t>目光 </a:t>
            </a:r>
            <a:r>
              <a:rPr b="1" lang="en-US" sz="2800" spc="-1" strike="noStrike">
                <a:solidFill>
                  <a:srgbClr val="f1b60f"/>
                </a:solidFill>
                <a:latin typeface="Arial"/>
              </a:rPr>
              <a:t>(eye contact)</a:t>
            </a:r>
            <a:r>
              <a:rPr b="1" lang="zh-TW" sz="2800" spc="-1" strike="noStrike">
                <a:solidFill>
                  <a:srgbClr val="f1b60f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均勻分配、短暫停留、涵蓋全體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buClr>
                <a:srgbClr val="f1b6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1b60f"/>
                </a:solidFill>
                <a:latin typeface="Arial"/>
              </a:rPr>
              <a:t>聲音：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快慢強弱，具有適當的變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buClr>
                <a:srgbClr val="f1b6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1b60f"/>
                </a:solidFill>
                <a:latin typeface="Arial"/>
              </a:rPr>
              <a:t>身體與手勢：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自然、不要退卻，也不要造成壓力。不要懦弱，但也不要有優越感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buClr>
                <a:srgbClr val="f1b6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1b60f"/>
                </a:solidFill>
                <a:latin typeface="Arial"/>
              </a:rPr>
              <a:t>重複：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時間只能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%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新的知識，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0%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做說明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buClr>
                <a:srgbClr val="f1b6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1b60f"/>
                </a:solidFill>
                <a:latin typeface="Arial"/>
              </a:rPr>
              <a:t>停頓：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善用停頓，可有吸引力的效果。每個新的開始，會有新的吸引力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buClr>
                <a:srgbClr val="f1b6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1b60f"/>
                </a:solidFill>
                <a:latin typeface="Arial"/>
              </a:rPr>
              <a:t>互動：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活力的表現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673-08B0-4F4E-AFEB-8BF5A3F42C7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1b60f"/>
                </a:solidFill>
                <a:latin typeface="Arial"/>
              </a:rPr>
              <a:t>克服溝通的恐懼：</a:t>
            </a: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PIE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7043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b60f"/>
                </a:solidFill>
                <a:latin typeface="Arial"/>
              </a:rPr>
              <a:t>Prepare</a:t>
            </a:r>
            <a:r>
              <a:rPr b="1" lang="en-US" sz="3200" spc="-1" strike="noStrike">
                <a:solidFill>
                  <a:srgbClr val="f1b60f"/>
                </a:solidFill>
                <a:latin typeface="Arial"/>
              </a:rPr>
              <a:t>：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充分的準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b60f"/>
                </a:solidFill>
                <a:latin typeface="Arial"/>
              </a:rPr>
              <a:t>Idea</a:t>
            </a:r>
            <a:r>
              <a:rPr b="1" lang="en-US" sz="3200" spc="-1" strike="noStrike">
                <a:solidFill>
                  <a:srgbClr val="f1b60f"/>
                </a:solidFill>
                <a:latin typeface="Arial"/>
              </a:rPr>
              <a:t>：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專注意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b60f"/>
                </a:solidFill>
                <a:latin typeface="Arial"/>
              </a:rPr>
              <a:t>Experience</a:t>
            </a:r>
            <a:r>
              <a:rPr b="1" lang="en-US" sz="3200" spc="-1" strike="noStrike">
                <a:solidFill>
                  <a:srgbClr val="f1b60f"/>
                </a:solidFill>
                <a:latin typeface="Arial"/>
              </a:rPr>
              <a:t>：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增加經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b60f"/>
                </a:solidFill>
                <a:latin typeface="Arial"/>
              </a:rPr>
              <a:t>Relax</a:t>
            </a:r>
            <a:r>
              <a:rPr b="1" lang="en-US" sz="3200" spc="-1" strike="noStrike">
                <a:solidFill>
                  <a:srgbClr val="f1b60f"/>
                </a:solidFill>
                <a:latin typeface="Arial"/>
              </a:rPr>
              <a:t>：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放鬆身心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收縮放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有依靠，有保握，舒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自我對話：最壞的情況，緊張的最高點 </a:t>
            </a: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接近演講的開頭</a:t>
            </a: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將會過去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C44-2533-4D70-9085-67F9891D4C1B}" type="slidenum">
              <a:t>56</a:t>
            </a:fld>
          </a:p>
        </p:txBody>
      </p:sp>
    </p:spTree>
  </p:cSld>
  <p:transition>
    <p:cover dir="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1b60f"/>
                </a:solidFill>
                <a:latin typeface="Arial"/>
              </a:rPr>
              <a:t>克服溝通恐懼的撇步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99640" y="2205000"/>
            <a:ext cx="79059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找到友善的臉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使用視覺輔助品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建立親善關係：表達友善、讚許、同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發展自己表達的順序：思考的順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時空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按時間順序、按空間的順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升降、因果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動機順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注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需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滿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想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行動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CAD-E5CB-44BF-A12D-4F7B4FB1F2DA}" type="slidenum">
              <a:t>57</a:t>
            </a:fld>
          </a:p>
        </p:txBody>
      </p:sp>
    </p:spTree>
  </p:cSld>
  <p:transition>
    <p:cover dir="u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§ </a:t>
            </a: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溝通的「障礙」</a:t>
            </a: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(</a:t>
            </a: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barriers)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華康中明體"/>
              </a:rPr>
              <a:t>使用「專門術語」是許多專家常犯的毛病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華康中明體"/>
              </a:rPr>
              <a:t>使用一些可能對不同人有不同含意的名詞，這是另一個溝通上的障礙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華康中明體"/>
              </a:rPr>
              <a:t>譬如說：「</a:t>
            </a:r>
            <a:r>
              <a:rPr b="1" lang="zh-TW" sz="2400" spc="-1" strike="noStrike">
                <a:solidFill>
                  <a:srgbClr val="f1b60f"/>
                </a:solidFill>
                <a:latin typeface="Arial"/>
                <a:ea typeface="華康中明體"/>
              </a:rPr>
              <a:t>........</a:t>
            </a:r>
            <a:r>
              <a:rPr b="1" lang="zh-TW" sz="2400" spc="-1" strike="noStrike">
                <a:solidFill>
                  <a:srgbClr val="f1b60f"/>
                </a:solidFill>
                <a:latin typeface="Arial"/>
                <a:ea typeface="華康中明體"/>
              </a:rPr>
              <a:t>當國會沒有給我們經濟資源，讓我們有資源可作事的情況下，我們有困難去管理你們的資源。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華康中明體"/>
              </a:rPr>
              <a:t>」 這裡的「資源」到底是什麼？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華康中明體"/>
              </a:rPr>
              <a:t>演講地點的環境亦是相當重要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華康中明體"/>
              </a:rPr>
              <a:t>聽眾的注意力是重要的因素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華康中明體"/>
              </a:rPr>
              <a:t>聽眾的文化，社會，和受教育的情況，亦是須要考慮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41D-A436-4E88-BCC5-9DDA9F713024}" type="slidenum">
              <a:t>58</a:t>
            </a:fld>
          </a:p>
        </p:txBody>
      </p:sp>
    </p:spTree>
  </p:cSld>
  <p:transition>
    <p:cover dir="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419280" y="1052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§ </a:t>
            </a: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演講的階段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779640" y="2133360"/>
            <a:ext cx="665460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華康中明體"/>
              </a:rPr>
              <a:t>可分為四個階段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華康中明體"/>
              </a:rPr>
              <a:t>規劃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華康中明體"/>
              </a:rPr>
              <a:t>準備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華康中明體"/>
              </a:rPr>
              <a:t>演講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華康中明體"/>
              </a:rPr>
              <a:t>評價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2C8E-CD5D-4620-A8F2-8C058B2324EF}" type="slidenum">
              <a:t>59</a:t>
            </a:fld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成功簡報的基礎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正確的心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單純的</a:t>
            </a:r>
            <a:r>
              <a:rPr b="0" lang="zh-TW" sz="2800" spc="-1" strike="noStrike" u="sng">
                <a:solidFill>
                  <a:srgbClr val="ffffff"/>
                </a:solidFill>
                <a:uFillTx/>
                <a:latin typeface="Times New Roman"/>
              </a:rPr>
              <a:t>報告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 會發音的機器人、行屍走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責任：說服聽眾！衝擊聽眾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需要：自我驅動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324480" y="4648320"/>
            <a:ext cx="1600200" cy="84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F4E13-F33B-479D-9A60-FD00A1A0BD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一、規劃 </a:t>
            </a: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(</a:t>
            </a: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planning)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844280"/>
            <a:ext cx="806292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選擇適當的「題目」，寫出貼切的一段敘述，說明這個「目的」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瞭解聽眾的性質。包含：教育程度、相關知識、職業，等等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及早整理出綱要，匯整和製作圖表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選擇，並列出演講所須的視聽設備，以及準備「講義」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必要記得排定演講的日期，且要有充足的時間作準備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B76A-DE7F-43E6-B51E-CAEA5E9B80C2}" type="slidenum">
              <a:t>60</a:t>
            </a:fld>
          </a:p>
        </p:txBody>
      </p:sp>
    </p:spTree>
  </p:cSld>
  <p:transition>
    <p:cover dir="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123640" y="1267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1b60f"/>
                </a:solidFill>
                <a:latin typeface="Arial"/>
              </a:rPr>
              <a:t>演講的目的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76360" y="2349000"/>
            <a:ext cx="719784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告知：講五遍了，怎麼還是不懂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說服：知道了，怎麼不去做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娛樂：笑完了，然後呢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1EFA-4D5E-4B3F-A07D-A4553AD3EABE}" type="slidenum">
              <a:t>61</a:t>
            </a:fld>
          </a:p>
        </p:txBody>
      </p:sp>
    </p:spTree>
  </p:cSld>
  <p:transition>
    <p:cover dir="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284360" y="60912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1b60f"/>
                </a:solidFill>
                <a:latin typeface="Arial"/>
              </a:rPr>
              <a:t>聽眾的分析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背景分析：年齡、性別、教育程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心理分析：主動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s. 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被動，友善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s. 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不友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聽眾順應：多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s. 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全部，使用主線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s. 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副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主線的溝通：理性的、知性的，與大腦打交道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副線的溝通：感性的、自然的，與感覺打交道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4AEE-53CF-4B81-9139-7F44EBC058E2}" type="slidenum">
              <a:t>62</a:t>
            </a:fld>
          </a:p>
        </p:txBody>
      </p:sp>
    </p:spTree>
  </p:cSld>
  <p:transition>
    <p:cover dir="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二、準備 </a:t>
            </a: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(</a:t>
            </a: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preparation)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813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製作一個演講大綱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準備「簡歷」，讓主持者對你，可有較正確和完整的介紹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準備適當有效的視聽教材，而且應事先練習使用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圖表要簡單，字與圖都要夠大，且清晰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須要一再「排演」練習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於正式演講之前，必要先確定這些「設備」已有準備好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372-6631-4166-BD2D-16C250241892}" type="slidenum">
              <a:t>63</a:t>
            </a:fld>
          </a:p>
        </p:txBody>
      </p:sp>
    </p:spTree>
  </p:cSld>
  <p:transition>
    <p:cover dir="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三、演講 </a:t>
            </a: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(</a:t>
            </a: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presentation)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檢查自己的外表。必要有「專家」的外表。這是聽眾對你的第一印象。保持「輕鬆」，才是「專家」的表現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必要在「燈光」關掉看「幻燈片」前，先作「前言」的說明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幻燈片，最好是由自己控制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於演講前，最好請主持人對聽眾作介紹，特別是對新的聽眾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必要維持自己的眼光在聽眾上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A58-E1B1-4AF6-A185-ABD15862E33F}" type="slidenum">
              <a:t>64</a:t>
            </a:fld>
          </a:p>
        </p:txBody>
      </p:sp>
    </p:spTree>
  </p:cSld>
  <p:transition>
    <p:cover dir="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三、演講 </a:t>
            </a:r>
            <a:r>
              <a:rPr b="0" lang="zh-TW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(</a:t>
            </a:r>
            <a:r>
              <a:rPr b="0" lang="en-US" sz="4200" spc="-1" strike="noStrike">
                <a:solidFill>
                  <a:srgbClr val="f1b60f"/>
                </a:solidFill>
                <a:latin typeface="Arial"/>
                <a:ea typeface="華康中明體"/>
              </a:rPr>
              <a:t>presentation)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040" y="1699920"/>
            <a:ext cx="76899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當使用「指點棒</a:t>
            </a: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(</a:t>
            </a: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器</a:t>
            </a: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)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pointer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」</a:t>
            </a: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時，不要一直握在手上，更不能亂揮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避免一些習慣性的怪動作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維持「熱忱」。不要有「沉悶」的態度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注視聽眾的反應。「幽默」的運用，是消除「緊張」的有效方法。然而，幽默應要貼切，且不可「太過」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華康中明體"/>
              </a:rPr>
              <a:t>保持講演的「時程」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FD4-C60C-4F69-B994-C5A716B9A862}" type="slidenum">
              <a:t>65</a:t>
            </a:fld>
          </a:p>
        </p:txBody>
      </p:sp>
    </p:spTree>
  </p:cSld>
  <p:transition>
    <p:cover dir="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284360" y="836280"/>
            <a:ext cx="41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1b60f"/>
                </a:solidFill>
                <a:latin typeface="Arial"/>
              </a:rPr>
              <a:t>演講的開頭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引起注意：幽默、故事、懸疑、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建立關聯：跟你有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建立信度：我值得你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預告重點：建立了解的架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8DC-C5B7-4BC5-ADA6-4A13E217083C}" type="slidenum">
              <a:t>66</a:t>
            </a:fld>
          </a:p>
        </p:txBody>
      </p:sp>
    </p:spTree>
  </p:cSld>
  <p:transition>
    <p:cover dir="u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355640" y="609120"/>
            <a:ext cx="41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1b60f"/>
                </a:solidFill>
                <a:latin typeface="Arial"/>
              </a:rPr>
              <a:t>演講的結尾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4360" y="205740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buClr>
                <a:srgbClr val="f1b6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1b60f"/>
                </a:solidFill>
                <a:latin typeface="Arial"/>
              </a:rPr>
              <a:t>提示即將結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「最後」，這有提神的吸引力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Clr>
                <a:srgbClr val="f1b6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1b60f"/>
                </a:solidFill>
                <a:latin typeface="Arial"/>
              </a:rPr>
              <a:t>摘要與複習重點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彙整，顯現專業的能力與傳達的成效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Clr>
                <a:srgbClr val="f1b6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1b60f"/>
                </a:solidFill>
                <a:latin typeface="Arial"/>
              </a:rPr>
              <a:t>留下餘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值得品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302-9DEB-49B8-AE6E-A3E681AAB85E}" type="slidenum">
              <a:t>67</a:t>
            </a:fld>
          </a:p>
        </p:txBody>
      </p:sp>
    </p:spTree>
  </p:cSld>
  <p:transition>
    <p:cover dir="u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76360" y="3933360"/>
            <a:ext cx="300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1b60f"/>
                </a:solidFill>
                <a:latin typeface="Arial"/>
              </a:rPr>
              <a:t>問題與討論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2951280" cy="286884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5292720" y="1773360"/>
            <a:ext cx="33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嗨！時間到了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23F-E407-4BB6-A736-B04E8A6C24D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Cont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w to make a pres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rganizing a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lephoning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 current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mall talk topic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gotiating – Useful ph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rsuasive Negotiatin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9C561-F832-4BD7-909F-E0FC21F3A4A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9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9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9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9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9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成功簡報的基礎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67053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瞭解聽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? Why? What? How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根據聽眾特性，設計內容與呈現方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038480" y="4343400"/>
            <a:ext cx="1451160" cy="125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EE434-293E-4877-A932-DFA74C8750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How to make a presentation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actise the presentation a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n‘t look at anyone particular in the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nd while you are spe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ak loudly and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4876920" y="2170080"/>
            <a:ext cx="4016160" cy="34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B461C-5D01-495D-B7C4-16662B97D74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Organizing a present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1978920" y="1557360"/>
            <a:ext cx="5259240" cy="5262840"/>
            <a:chOff x="1978920" y="1557360"/>
            <a:chExt cx="5259240" cy="5262840"/>
          </a:xfrm>
        </p:grpSpPr>
        <p:sp>
          <p:nvSpPr>
            <p:cNvPr id="571" name="_s53253"/>
            <p:cNvSpPr/>
            <p:nvPr/>
          </p:nvSpPr>
          <p:spPr>
            <a:xfrm flipH="1">
              <a:off x="3288600" y="4188600"/>
              <a:ext cx="66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_s53254"/>
            <p:cNvSpPr/>
            <p:nvPr/>
          </p:nvSpPr>
          <p:spPr>
            <a:xfrm>
              <a:off x="1978920" y="3499560"/>
              <a:ext cx="1315800" cy="1313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3040" rIns="113040" tIns="56520" bIns="56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Point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Point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Point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_s53255"/>
            <p:cNvSpPr/>
            <p:nvPr/>
          </p:nvSpPr>
          <p:spPr>
            <a:xfrm>
              <a:off x="4606920" y="4844520"/>
              <a:ext cx="0" cy="66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_s53256"/>
            <p:cNvSpPr/>
            <p:nvPr/>
          </p:nvSpPr>
          <p:spPr>
            <a:xfrm>
              <a:off x="3950640" y="5506560"/>
              <a:ext cx="1313640" cy="1313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Summariz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Ques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_s53257"/>
            <p:cNvSpPr/>
            <p:nvPr/>
          </p:nvSpPr>
          <p:spPr>
            <a:xfrm>
              <a:off x="5262480" y="4188600"/>
              <a:ext cx="66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_s53258"/>
            <p:cNvSpPr/>
            <p:nvPr/>
          </p:nvSpPr>
          <p:spPr>
            <a:xfrm>
              <a:off x="5924520" y="3533040"/>
              <a:ext cx="1313640" cy="1313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3040" rIns="113040" tIns="56520" bIns="56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Posi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Proble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Possibil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Propos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_s53259"/>
            <p:cNvSpPr/>
            <p:nvPr/>
          </p:nvSpPr>
          <p:spPr>
            <a:xfrm flipV="1">
              <a:off x="4606920" y="2871000"/>
              <a:ext cx="0" cy="66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_s53260"/>
            <p:cNvSpPr/>
            <p:nvPr/>
          </p:nvSpPr>
          <p:spPr>
            <a:xfrm>
              <a:off x="3635640" y="1557360"/>
              <a:ext cx="1973160" cy="17092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3040" rIns="113040" tIns="56520" bIns="56520" anchor="ctr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Gree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Wh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How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How lo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When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_s53261"/>
            <p:cNvSpPr/>
            <p:nvPr/>
          </p:nvSpPr>
          <p:spPr>
            <a:xfrm>
              <a:off x="3950640" y="3533040"/>
              <a:ext cx="1313640" cy="1313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3040" rIns="113040" tIns="56520" bIns="56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Presen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E50AF-387A-4A65-ADBC-434FD5BC2C2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Telephoning</a:t>
            </a: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on‘t panic when the phone ring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ep smil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 friend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member the name of your telephone partner and use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 rot="1423200">
            <a:off x="4284360" y="333000"/>
            <a:ext cx="1295280" cy="91296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35280" y="2205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3BCF2-8712-4AFF-A852-F14803F9529B}" type="slidenum">
              <a:t>72</a:t>
            </a:fld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8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A current situ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You are the secretary of Mr. Wackenstein from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tzbold and a business partner arrives at your office. Unfortunately Mr. Wackenstein from Witzbold isn‘t available at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, what could you do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LUTION: Small talk to bridgeover the tim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79C21-282F-4204-8405-0AAF5B19BD2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8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8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8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Small talk topics</a:t>
            </a: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ou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l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K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GET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1112760" cy="1157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58A05-6EBB-4DD8-B135-FE5B999E4C1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Negotiating – Useful phr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ng clear about your 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cusing on 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peating info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king it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utting on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laining the reality of the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rgaining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losing and celeb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73270-AF0F-4995-83CE-1AB3B5982E8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5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5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0033"/>
                </a:solidFill>
                <a:latin typeface="Times New Roman"/>
              </a:rPr>
              <a:t>Persuasive Negotiating 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speak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 you see what I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rry, I should stop t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at‘s a good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d that answer your ques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liste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 see. That‘s interes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ou mean that…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t me ask a  question about t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 ag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‘m  not 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6659640" y="198360"/>
            <a:ext cx="1346040" cy="1236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78F7E-0BA4-4B70-AC45-37A549C299E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1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1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1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成功簡報的基礎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6858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瞭解簡報情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時間、空間、設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根據簡報情境，設計內容與呈現方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962520" y="4114800"/>
            <a:ext cx="120960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77583-8901-4F62-879E-4997BC58C0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</a:rPr>
              <a:t>成功簡報的基礎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充分準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熟悉內容：開始、重點、結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熟悉架構與流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0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絕對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38862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Times New Roman"/>
              </a:rPr>
              <a:t>冥想、冥想、冥想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839080" y="62485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6629400" y="4343400"/>
            <a:ext cx="1828800" cy="12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口頭報告的方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F4AF8-AD63-4068-813A-BCB6D41D8D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6T12:49:22Z</dcterms:created>
  <dc:creator>ecoedu</dc:creator>
  <dc:description/>
  <dc:language>en-US</dc:language>
  <cp:lastModifiedBy>user</cp:lastModifiedBy>
  <dcterms:modified xsi:type="dcterms:W3CDTF">2004-12-21T11:47:14Z</dcterms:modified>
  <cp:revision>59</cp:revision>
  <dc:subject/>
  <dc:title>口頭報告(演講) </dc:title>
</cp:coreProperties>
</file>