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A90C4-FCBD-4140-ADAA-A0E908673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13FA1-1015-4E0F-89FA-E66FFA5114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EBFE5-475F-4DCE-B10F-128B69686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E6B85-C460-456E-9BF0-B64E7D8C5C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C817E-D7B7-4628-96C2-8F2EC46FB4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51150-6D4F-469A-8F70-AF2D96F52A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07787-DF07-476E-8306-9B08A25A42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46D76-62FA-4F02-8851-5C7FDE405D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05F93-E25D-4503-A790-B293D9AC6C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009DD-F0BE-4780-905F-A276610D2E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F3179-44DD-4562-9587-8ADA1468D2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454A1-125D-4687-AE94-E61F6B74D5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D2989-28AC-421D-8709-6C5019EE5B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50A7E-11FF-4EC4-A3A7-81FDB98EAD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FAD03-AC6A-4652-B8BD-9333161989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5AFC0-9B82-469C-A3C9-E9D9B66578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C7CEB-60B0-4FBA-8555-9741B96ABF7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D49A4-9468-4331-AA01-8614896D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44C32-6EE6-47A1-A056-D2584494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911F6-135F-488C-ADE2-5B7828E8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E4F8C-B3E7-4DB9-9E27-6EBCA9E0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4B5A5-52E8-42A9-A9FD-E692BF93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1C1B7-3F97-4B83-857E-47872D5447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4FF6C-713C-463E-9589-4D21CEDA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DCC29-2580-446D-9255-D1E709FC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355F4-51B3-4F26-A3A2-651287C2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967E8-F7E2-4422-81B2-7A478841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F7D91-A10B-4E88-A987-F060D321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B7C41-D94A-4BFB-ADF9-F2954766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FD6DC-DB52-4DCF-82F3-841A6DEA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BF605-E71F-4542-8590-7E2C0C4D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9515B3-F4AE-468E-B064-FB950BEB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62CCE-F505-46EE-96F9-7DF99B8A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9A6D4-A7C5-4BAD-8630-80089AE1134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73BC1E-03ED-41A5-ABB9-8A2A5081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7D318D-BE0E-463D-B509-BC52DC8F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E2824-01D2-4F48-80ED-0F232B2B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8DD39A-AE40-406F-B402-CC875CBC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E1B9D-6EE2-4F35-852A-3BC7824A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3A321D-7140-4E09-A995-AD288428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E9705E-5800-4B9D-963D-E9F06406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098788-A71B-489C-BA1B-C46C8D61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A0EA49-6BAD-4872-85B1-472C8726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35BB4-DF19-4F39-AE97-558B29D22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5FED9-0F16-47DB-8585-38CFB7D65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12329-BA75-4868-9716-6FE573A22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A2089-247F-4045-B5EF-2246A2B53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3179-140B-41B3-8C05-EE872D001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560" y="169560"/>
            <a:ext cx="809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4560" y="1558800"/>
            <a:ext cx="809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lvl="1"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Wingdings 2" charset="2"/>
              <a:buChar char="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lvl="2"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lvl="3"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lvl="4"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ff"/>
              </a:buClr>
              <a:buSzPct val="4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lvl="5"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lvl="6"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86320" y="6448320"/>
            <a:ext cx="105732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Times New Roman"/>
              </a:rPr>
              <a:t>1-</a:t>
            </a:r>
            <a:fld id="{6FB965ED-CC39-4FAE-A05A-99DDC3626274}" type="slidenum">
              <a:rPr b="1" lang="en-US" sz="1400" spc="-1" strike="noStrike">
                <a:solidFill>
                  <a:srgbClr val="00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0480" y="6276960"/>
            <a:ext cx="380880" cy="4953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42840" y="1722600"/>
            <a:ext cx="42372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ff00"/>
                </a:solidFill>
                <a:latin typeface="Arial"/>
              </a:rPr>
              <a:t>管理學 </a:t>
            </a:r>
            <a:r>
              <a:rPr b="1" lang="zh-TW" sz="1600" spc="-1" strike="noStrike">
                <a:solidFill>
                  <a:srgbClr val="ff00ff"/>
                </a:solidFill>
                <a:latin typeface="Wingdings 2"/>
                <a:ea typeface="Wingdings 2"/>
              </a:rPr>
              <a:t></a:t>
            </a:r>
            <a:r>
              <a:rPr b="0" lang="zh-TW" sz="1600" spc="-1" strike="noStrike">
                <a:solidFill>
                  <a:srgbClr val="00ff00"/>
                </a:solidFill>
                <a:latin typeface="Arial"/>
              </a:rPr>
              <a:t> 第一章　管理與組織概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2862" t="6022" r="4175" b="3925"/>
          <a:stretch/>
        </p:blipFill>
        <p:spPr>
          <a:xfrm>
            <a:off x="0" y="0"/>
            <a:ext cx="3583080" cy="4844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30880" y="2413080"/>
            <a:ext cx="152388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</a:t>
            </a:r>
            <a:endParaRPr b="1" i="1" lang="en-US" sz="1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337440" y="1744560"/>
            <a:ext cx="51408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0">
                  <a:noFill/>
                </a:ln>
                <a:solidFill>
                  <a:srgbClr val="d60093"/>
                </a:solidFill>
                <a:effectLst>
                  <a:outerShdw dist="153753" dir="2700000" blurRad="0" rotWithShape="0">
                    <a:srgbClr val="ffffff">
                      <a:alpha val="50000"/>
                    </a:srgbClr>
                  </a:outerShdw>
                </a:effectLst>
                <a:latin typeface="Times New Roman"/>
              </a:rPr>
              <a:t>1</a:t>
            </a:r>
            <a:endParaRPr b="1" i="1" lang="en-US" sz="8000" spc="1" strike="noStrike">
              <a:ln w="0">
                <a:noFill/>
              </a:ln>
              <a:solidFill>
                <a:srgbClr val="d60093"/>
              </a:solidFill>
              <a:effectLst>
                <a:outerShdw dist="153753" dir="2700000" blurRad="0" rotWithShape="0">
                  <a:srgbClr val="fffff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8086320" y="6448320"/>
            <a:ext cx="105732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Times New Roman"/>
              </a:rPr>
              <a:t>1-</a:t>
            </a:r>
            <a:fld id="{BD2B66A6-C208-4605-94CA-E7F81B19E597}" type="slidenum">
              <a:rPr b="1" lang="en-US" sz="1400" spc="-1" strike="noStrike">
                <a:solidFill>
                  <a:srgbClr val="00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794800" y="0"/>
            <a:ext cx="349200" cy="6206760"/>
            <a:chOff x="8794800" y="0"/>
            <a:chExt cx="349200" cy="6206760"/>
          </a:xfrm>
        </p:grpSpPr>
        <p:pic>
          <p:nvPicPr>
            <p:cNvPr id="47" name="" descr=""/>
            <p:cNvPicPr/>
            <p:nvPr/>
          </p:nvPicPr>
          <p:blipFill>
            <a:blip r:embed="rId3"/>
            <a:srcRect l="2876" t="6011" r="4175" b="3933"/>
            <a:stretch/>
          </p:blipFill>
          <p:spPr>
            <a:xfrm>
              <a:off x="8794800" y="0"/>
              <a:ext cx="349200" cy="5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4"/>
            <a:srcRect l="2876" t="6011" r="4175" b="3933"/>
            <a:stretch/>
          </p:blipFill>
          <p:spPr>
            <a:xfrm>
              <a:off x="8794800" y="561240"/>
              <a:ext cx="349200" cy="5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5"/>
            <a:srcRect l="2876" t="6011" r="4175" b="3933"/>
            <a:stretch/>
          </p:blipFill>
          <p:spPr>
            <a:xfrm>
              <a:off x="8794800" y="1126800"/>
              <a:ext cx="349200" cy="5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6"/>
            <a:srcRect l="2876" t="6011" r="4175" b="3933"/>
            <a:stretch/>
          </p:blipFill>
          <p:spPr>
            <a:xfrm>
              <a:off x="8794800" y="1688040"/>
              <a:ext cx="349200" cy="5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7"/>
            <a:srcRect l="2876" t="6011" r="4175" b="3933"/>
            <a:stretch/>
          </p:blipFill>
          <p:spPr>
            <a:xfrm>
              <a:off x="8794800" y="2249280"/>
              <a:ext cx="349200" cy="5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8"/>
            <a:srcRect l="2876" t="6011" r="4175" b="3933"/>
            <a:stretch/>
          </p:blipFill>
          <p:spPr>
            <a:xfrm>
              <a:off x="8794800" y="2815200"/>
              <a:ext cx="349200" cy="5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9"/>
            <a:srcRect l="2876" t="6011" r="4175" b="3933"/>
            <a:stretch/>
          </p:blipFill>
          <p:spPr>
            <a:xfrm>
              <a:off x="8794800" y="3385440"/>
              <a:ext cx="349200" cy="5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10"/>
            <a:srcRect l="2876" t="6011" r="4175" b="3933"/>
            <a:stretch/>
          </p:blipFill>
          <p:spPr>
            <a:xfrm>
              <a:off x="8794800" y="3946680"/>
              <a:ext cx="349200" cy="5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11"/>
            <a:srcRect l="2876" t="6011" r="4175" b="3933"/>
            <a:stretch/>
          </p:blipFill>
          <p:spPr>
            <a:xfrm>
              <a:off x="8794800" y="4507920"/>
              <a:ext cx="349200" cy="5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2"/>
            <a:srcRect l="2876" t="6011" r="4175" b="3933"/>
            <a:stretch/>
          </p:blipFill>
          <p:spPr>
            <a:xfrm>
              <a:off x="8794800" y="5073840"/>
              <a:ext cx="349200" cy="5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3"/>
            <a:srcRect l="2876" t="6011" r="4175" b="3933"/>
            <a:stretch/>
          </p:blipFill>
          <p:spPr>
            <a:xfrm>
              <a:off x="8794800" y="5644440"/>
              <a:ext cx="349200" cy="56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outlin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  <a:p>
            <a:pPr lvl="1" marL="457200" indent="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lnSpc>
                <a:spcPct val="110000"/>
              </a:lnSpc>
              <a:spcBef>
                <a:spcPts val="601"/>
              </a:spcBef>
              <a:buClr>
                <a:srgbClr val="ff3399"/>
              </a:buClr>
              <a:buFont typeface="Wingdings" charset="2"/>
              <a:buChar char="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4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4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4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1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0AD7-7D15-4E01-8146-09AA36C421B9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0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0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3612-72A5-4A2C-98F5-3420766CC0C0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dyu.edu.tw/~so2100/image/logo.jpg&amp;imgrefurl=http://www.dyu.edu.tw/~so2100/&amp;h=143&amp;w=152&amp;sz=11&amp;tbnid=MoLo_2euPXEJ:&amp;tbnh=84&amp;tbnw=89&amp;start=2&amp;prev=/images%3Fq%3D%25E5%25A4%25A7%25E8%2591%2589%25E5%25A4%25A7%25E5%25AD%25B8%2Blogo%26hl%3Dzh-TW%26lr%3D%26ie%3DUTF-8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8026200" cy="41785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343480" y="9079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新細明體"/>
              </a:rPr>
              <a:t>嗨</a:t>
            </a:r>
            <a:r>
              <a:rPr b="0" lang="zh-TW" sz="4800" spc="-1" strike="noStrike">
                <a:solidFill>
                  <a:srgbClr val="000000"/>
                </a:solidFill>
                <a:latin typeface="新細明體"/>
              </a:rPr>
              <a:t>! </a:t>
            </a:r>
            <a:r>
              <a:rPr b="0" lang="zh-TW" sz="4800" spc="-1" strike="noStrike">
                <a:solidFill>
                  <a:srgbClr val="000000"/>
                </a:solidFill>
                <a:latin typeface="新細明體"/>
              </a:rPr>
              <a:t>歡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74560" y="169560"/>
            <a:ext cx="809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9900"/>
                </a:solidFill>
                <a:latin typeface="Times New Roman"/>
              </a:rPr>
              <a:t>管理學與企業管理概論</a:t>
            </a:r>
            <a:endParaRPr b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534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560" y="169560"/>
            <a:ext cx="809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9900"/>
                </a:solidFill>
                <a:latin typeface="Times New Roman"/>
              </a:rPr>
              <a:t>管理學與企業管理概論與其它科目間的關係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96472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99ccff"/>
                </a:solidFill>
                <a:latin typeface="標楷體"/>
                <a:ea typeface="標楷體"/>
              </a:rPr>
              <a:t>所以</a:t>
            </a:r>
            <a:r>
              <a:rPr b="0" lang="zh-TW" sz="4800" spc="-1" strike="noStrike">
                <a:solidFill>
                  <a:srgbClr val="99ccff"/>
                </a:solidFill>
                <a:latin typeface="標楷體"/>
                <a:ea typeface="標楷體"/>
              </a:rPr>
              <a:t>, </a:t>
            </a:r>
            <a:r>
              <a:rPr b="0" lang="zh-TW" sz="4800" spc="-1" strike="noStrike">
                <a:solidFill>
                  <a:srgbClr val="99ccff"/>
                </a:solidFill>
                <a:latin typeface="標楷體"/>
                <a:ea typeface="標楷體"/>
              </a:rPr>
              <a:t>企業管理概論就是把</a:t>
            </a:r>
            <a:endParaRPr b="1" lang="en-US" sz="4800" spc="-1" strike="noStrike">
              <a:solidFill>
                <a:srgbClr val="99ccff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99ccff"/>
                </a:solidFill>
                <a:latin typeface="標楷體"/>
                <a:ea typeface="標楷體"/>
              </a:rPr>
              <a:t>企業管理課本蓋起來</a:t>
            </a:r>
            <a:r>
              <a:rPr b="0" lang="zh-TW" sz="4800" spc="-1" strike="noStrike">
                <a:solidFill>
                  <a:srgbClr val="99ccff"/>
                </a:solidFill>
                <a:latin typeface="標楷體"/>
                <a:ea typeface="標楷體"/>
              </a:rPr>
              <a:t>, </a:t>
            </a:r>
            <a:r>
              <a:rPr b="0" lang="zh-TW" sz="4800" spc="-1" strike="noStrike">
                <a:solidFill>
                  <a:srgbClr val="99ccff"/>
                </a:solidFill>
                <a:latin typeface="標楷體"/>
                <a:ea typeface="標楷體"/>
              </a:rPr>
              <a:t>隨便</a:t>
            </a:r>
            <a:endParaRPr b="1" lang="en-US" sz="4800" spc="-1" strike="noStrike">
              <a:solidFill>
                <a:srgbClr val="99ccff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99ccff"/>
                </a:solidFill>
                <a:latin typeface="標楷體"/>
                <a:ea typeface="標楷體"/>
              </a:rPr>
              <a:t>論… ”企業管理蓋論”…呃</a:t>
            </a:r>
            <a:r>
              <a:rPr b="0" lang="zh-TW" sz="4800" spc="-1" strike="noStrike">
                <a:solidFill>
                  <a:srgbClr val="99ccff"/>
                </a:solidFill>
                <a:latin typeface="標楷體"/>
                <a:ea typeface="標楷體"/>
              </a:rPr>
              <a:t>?</a:t>
            </a:r>
            <a:endParaRPr b="1" lang="en-US" sz="4800" spc="-1" strike="noStrike">
              <a:solidFill>
                <a:srgbClr val="99cc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9cc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4560" y="169560"/>
            <a:ext cx="809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9900"/>
                </a:solidFill>
                <a:latin typeface="Times New Roman"/>
              </a:rPr>
              <a:t>管理學與企業管理概論與其它科目間的關係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560" y="169560"/>
            <a:ext cx="809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9900"/>
                </a:solidFill>
                <a:latin typeface="Times New Roman"/>
                <a:ea typeface="細明體"/>
              </a:rPr>
              <a:t>指定參考書籍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1413000"/>
            <a:ext cx="8569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 u="sng">
                <a:solidFill>
                  <a:srgbClr val="ffffff"/>
                </a:solidFill>
                <a:uFillTx/>
                <a:latin typeface="新細明體"/>
              </a:rPr>
              <a:t>Management</a:t>
            </a:r>
            <a:r>
              <a:rPr b="0" lang="zh-TW" sz="3600" spc="-1" strike="noStrike">
                <a:solidFill>
                  <a:srgbClr val="ffffff"/>
                </a:solidFill>
                <a:latin typeface="新細明體"/>
              </a:rPr>
              <a:t> by Robbins, S. P. &amp; M. Coul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新細明體"/>
              </a:rPr>
              <a:t>本書版本甚多，本課程將選用其</a:t>
            </a:r>
            <a:r>
              <a:rPr b="0" lang="zh-TW" sz="3600" spc="-1" strike="noStrike">
                <a:solidFill>
                  <a:srgbClr val="ffffff"/>
                </a:solidFill>
                <a:latin typeface="新細明體"/>
              </a:rPr>
              <a:t>2003 updated </a:t>
            </a:r>
            <a:r>
              <a:rPr b="0" lang="en-US" sz="3600" spc="-1" strike="noStrike">
                <a:solidFill>
                  <a:srgbClr val="ffffff"/>
                </a:solidFill>
                <a:latin typeface="新細明體"/>
              </a:rPr>
              <a:t>或</a:t>
            </a:r>
            <a:r>
              <a:rPr b="0" lang="zh-TW" sz="3600" spc="-1" strike="noStrike">
                <a:solidFill>
                  <a:srgbClr val="ffffff"/>
                </a:solidFill>
                <a:latin typeface="新細明體"/>
              </a:rPr>
              <a:t> </a:t>
            </a:r>
            <a:r>
              <a:rPr b="0" lang="zh-TW" sz="3600" spc="-1" strike="noStrike">
                <a:solidFill>
                  <a:srgbClr val="ffffff"/>
                </a:solidFill>
                <a:latin typeface="新細明體"/>
              </a:rPr>
              <a:t>2005 Edition (</a:t>
            </a:r>
            <a:r>
              <a:rPr b="0" lang="zh-TW" sz="3600" spc="-1" strike="noStrike">
                <a:solidFill>
                  <a:srgbClr val="ffffff"/>
                </a:solidFill>
                <a:latin typeface="新細明體"/>
              </a:rPr>
              <a:t>原文版</a:t>
            </a:r>
            <a:r>
              <a:rPr b="0" lang="zh-TW" sz="3600" spc="-1" strike="noStrike">
                <a:solidFill>
                  <a:srgbClr val="ffffff"/>
                </a:solidFill>
                <a:latin typeface="新細明體"/>
              </a:rPr>
              <a:t>)</a:t>
            </a:r>
            <a:r>
              <a:rPr b="0" lang="zh-TW" sz="3600" spc="-1" strike="noStrike">
                <a:solidFill>
                  <a:srgbClr val="ffffff"/>
                </a:solidFill>
                <a:latin typeface="新細明體"/>
              </a:rPr>
              <a:t>。本書雖有中譯版，且古有銘訓：條條道路通羅馬</a:t>
            </a:r>
            <a:r>
              <a:rPr b="0" lang="zh-TW" sz="3600" spc="-1" strike="noStrike">
                <a:solidFill>
                  <a:srgbClr val="ffffff"/>
                </a:solidFill>
                <a:latin typeface="新細明體"/>
              </a:rPr>
              <a:t>(</a:t>
            </a:r>
            <a:r>
              <a:rPr b="0" lang="zh-TW" sz="3600" spc="-1" strike="noStrike">
                <a:solidFill>
                  <a:srgbClr val="ffffff"/>
                </a:solidFill>
                <a:latin typeface="新細明體"/>
              </a:rPr>
              <a:t>真理</a:t>
            </a:r>
            <a:r>
              <a:rPr b="0" lang="zh-TW" sz="3600" spc="-1" strike="noStrike">
                <a:solidFill>
                  <a:srgbClr val="ffffff"/>
                </a:solidFill>
                <a:latin typeface="新細明體"/>
              </a:rPr>
              <a:t>)</a:t>
            </a:r>
            <a:r>
              <a:rPr b="0" lang="zh-TW" sz="3600" spc="-1" strike="noStrike">
                <a:solidFill>
                  <a:srgbClr val="ffffff"/>
                </a:solidFill>
                <a:latin typeface="新細明體"/>
              </a:rPr>
              <a:t>；然在此仍鼓勵修習者選用英文原版。雖說條條道路通羅馬，但有些路</a:t>
            </a:r>
            <a:r>
              <a:rPr b="0" lang="zh-TW" sz="3600" spc="-1" strike="noStrike">
                <a:solidFill>
                  <a:srgbClr val="ffffff"/>
                </a:solidFill>
                <a:latin typeface="新細明體"/>
              </a:rPr>
              <a:t>(</a:t>
            </a:r>
            <a:r>
              <a:rPr b="0" lang="zh-TW" sz="3600" spc="-1" strike="noStrike">
                <a:solidFill>
                  <a:srgbClr val="ffffff"/>
                </a:solidFill>
                <a:latin typeface="新細明體"/>
              </a:rPr>
              <a:t>選用英文原版</a:t>
            </a:r>
            <a:r>
              <a:rPr b="0" lang="zh-TW" sz="3600" spc="-1" strike="noStrike">
                <a:solidFill>
                  <a:srgbClr val="ffffff"/>
                </a:solidFill>
                <a:latin typeface="新細明體"/>
              </a:rPr>
              <a:t>)</a:t>
            </a:r>
            <a:r>
              <a:rPr b="0" lang="zh-TW" sz="3600" spc="-1" strike="noStrike">
                <a:solidFill>
                  <a:srgbClr val="ffffff"/>
                </a:solidFill>
                <a:latin typeface="新細明體"/>
              </a:rPr>
              <a:t>，就是會比其它的路更容易到達目的地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851040" y="260280"/>
            <a:ext cx="7199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99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9900"/>
                </a:solidFill>
                <a:latin typeface="Times New Roman"/>
                <a:ea typeface="細明體"/>
              </a:rPr>
              <a:t>指定參考書籍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2960640" cy="41054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large image"/>
          <p:cNvPicPr/>
          <p:nvPr/>
        </p:nvPicPr>
        <p:blipFill>
          <a:blip r:embed="rId2"/>
          <a:stretch/>
        </p:blipFill>
        <p:spPr>
          <a:xfrm>
            <a:off x="6084720" y="1844640"/>
            <a:ext cx="2625840" cy="35845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3708360" y="1844640"/>
            <a:ext cx="1967040" cy="26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692360" y="1068480"/>
            <a:ext cx="626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新細明體"/>
              </a:rPr>
              <a:t>企業管理概論</a:t>
            </a:r>
            <a:r>
              <a:rPr b="1" lang="zh-TW" sz="4800" spc="-1" strike="noStrike">
                <a:solidFill>
                  <a:srgbClr val="ffffff"/>
                </a:solidFill>
                <a:latin typeface="新細明體"/>
              </a:rPr>
              <a:t>/ </a:t>
            </a:r>
            <a:r>
              <a:rPr b="1" lang="zh-TW" sz="4800" spc="-1" strike="noStrike">
                <a:solidFill>
                  <a:srgbClr val="ffffff"/>
                </a:solidFill>
                <a:latin typeface="新細明體"/>
              </a:rPr>
              <a:t>管理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新細明體"/>
              </a:rPr>
              <a:t>九十三學年第一學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</a:rPr>
              <a:t>授課大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56000" y="496260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新細明體"/>
              </a:rPr>
              <a:t>企一甲</a:t>
            </a:r>
            <a:r>
              <a:rPr b="0" lang="zh-TW" sz="2400" spc="-1" strike="noStrike">
                <a:solidFill>
                  <a:srgbClr val="ffffff"/>
                </a:solidFill>
                <a:latin typeface="新細明體"/>
              </a:rPr>
              <a:t>. </a:t>
            </a:r>
            <a:r>
              <a:rPr b="0" lang="zh-TW" sz="2400" spc="-1" strike="noStrike">
                <a:solidFill>
                  <a:srgbClr val="ffffff"/>
                </a:solidFill>
                <a:latin typeface="新細明體"/>
              </a:rPr>
              <a:t>二企一甲</a:t>
            </a:r>
            <a:r>
              <a:rPr b="0" lang="zh-TW" sz="2400" spc="-1" strike="noStrike">
                <a:solidFill>
                  <a:srgbClr val="ffffff"/>
                </a:solidFill>
                <a:latin typeface="新細明體"/>
              </a:rPr>
              <a:t>. </a:t>
            </a:r>
            <a:r>
              <a:rPr b="0" lang="zh-TW" sz="2400" spc="-1" strike="noStrike">
                <a:solidFill>
                  <a:srgbClr val="ffffff"/>
                </a:solidFill>
                <a:latin typeface="新細明體"/>
              </a:rPr>
              <a:t>二企一乙</a:t>
            </a:r>
            <a:r>
              <a:rPr b="0" lang="zh-TW" sz="2400" spc="-1" strike="noStrike">
                <a:solidFill>
                  <a:srgbClr val="ffffff"/>
                </a:solidFill>
                <a:latin typeface="新細明體"/>
              </a:rPr>
              <a:t>. </a:t>
            </a:r>
            <a:r>
              <a:rPr b="0" lang="zh-TW" sz="2400" spc="-1" strike="noStrike">
                <a:solidFill>
                  <a:srgbClr val="ffffff"/>
                </a:solidFill>
                <a:latin typeface="新細明體"/>
              </a:rPr>
              <a:t>行銷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560" y="169560"/>
            <a:ext cx="809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9900"/>
                </a:solidFill>
                <a:latin typeface="Times New Roman"/>
              </a:rPr>
              <a:t>外語的重要性</a:t>
            </a:r>
            <a:endParaRPr b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2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ccff"/>
                </a:solidFill>
                <a:latin typeface="新細明體"/>
              </a:rPr>
              <a:t>美國</a:t>
            </a:r>
            <a:r>
              <a:rPr b="1" lang="zh-TW" sz="2400" spc="-1" strike="noStrike">
                <a:solidFill>
                  <a:srgbClr val="99ccff"/>
                </a:solidFill>
                <a:latin typeface="新細明體"/>
              </a:rPr>
              <a:t>Thunderbird</a:t>
            </a:r>
            <a:r>
              <a:rPr b="1" lang="zh-TW" sz="2400" spc="-1" strike="noStrike">
                <a:solidFill>
                  <a:srgbClr val="99ccff"/>
                </a:solidFill>
                <a:latin typeface="新細明體"/>
              </a:rPr>
              <a:t>大學國際管理研究所，針對五百多位曾經接受外語</a:t>
            </a:r>
            <a:endParaRPr b="1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ccff"/>
                </a:solidFill>
                <a:latin typeface="新細明體"/>
              </a:rPr>
              <a:t>訓練的校友進行調查。結果，</a:t>
            </a:r>
            <a:r>
              <a:rPr b="1" lang="zh-TW" sz="2400" spc="-1" strike="noStrike">
                <a:solidFill>
                  <a:srgbClr val="99ccff"/>
                </a:solidFill>
                <a:latin typeface="新細明體"/>
              </a:rPr>
              <a:t>82</a:t>
            </a:r>
            <a:r>
              <a:rPr b="1" lang="zh-TW" sz="2400" spc="-1" strike="noStrike">
                <a:solidFill>
                  <a:srgbClr val="99ccff"/>
                </a:solidFill>
                <a:latin typeface="新細明體"/>
              </a:rPr>
              <a:t>％的受訪者表示，因為他們的</a:t>
            </a:r>
            <a:endParaRPr b="1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ccff"/>
                </a:solidFill>
                <a:latin typeface="新細明體"/>
              </a:rPr>
              <a:t>外語能力，讓他們在工作上具有競爭優勢，包括，在應徵時比較</a:t>
            </a:r>
            <a:endParaRPr b="1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ccff"/>
                </a:solidFill>
                <a:latin typeface="新細明體"/>
              </a:rPr>
              <a:t>容易被錄用、提升他們的工作效率等。</a:t>
            </a:r>
            <a:br>
              <a:rPr sz="2400"/>
            </a:br>
            <a:endParaRPr b="1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ccff"/>
                </a:solidFill>
                <a:latin typeface="新細明體"/>
              </a:rPr>
              <a:t>另外，</a:t>
            </a:r>
            <a:r>
              <a:rPr b="1" lang="zh-TW" sz="2400" spc="-1" strike="noStrike">
                <a:solidFill>
                  <a:srgbClr val="99ccff"/>
                </a:solidFill>
                <a:latin typeface="新細明體"/>
              </a:rPr>
              <a:t>89</a:t>
            </a:r>
            <a:r>
              <a:rPr b="1" lang="zh-TW" sz="2400" spc="-1" strike="noStrike">
                <a:solidFill>
                  <a:srgbClr val="99ccff"/>
                </a:solidFill>
                <a:latin typeface="新細明體"/>
              </a:rPr>
              <a:t>％的受訪者表示，因為學習外語，他們更加了解外國</a:t>
            </a:r>
            <a:endParaRPr b="1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ccff"/>
                </a:solidFill>
                <a:latin typeface="新細明體"/>
              </a:rPr>
              <a:t>文化，也對工作有所助益。</a:t>
            </a:r>
            <a:endParaRPr b="1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ccff"/>
                </a:solidFill>
                <a:latin typeface="新細明體"/>
              </a:rPr>
              <a:t>受訪者還表示，因為他們對其他文化的了解，讓他們與別人相處</a:t>
            </a:r>
            <a:endParaRPr b="1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ccff"/>
                </a:solidFill>
                <a:latin typeface="新細明體"/>
              </a:rPr>
              <a:t>時更自在，也更了解整個商業環境。</a:t>
            </a:r>
            <a:br>
              <a:rPr sz="2400"/>
            </a:br>
            <a:br>
              <a:rPr sz="2000"/>
            </a:br>
            <a:endParaRPr b="1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74560" y="169560"/>
            <a:ext cx="809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9900"/>
                </a:solidFill>
                <a:latin typeface="Times New Roman"/>
              </a:rPr>
              <a:t>外語的重要性</a:t>
            </a:r>
            <a:endParaRPr b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26920" y="1773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Arial"/>
              </a:rPr>
              <a:t>為提升台灣學生英語能力，教育部計畫透過學校評鑑及獎補助等方式，提高學生通過英檢比率，目標是三年後（二００七年）要有一半大學生通過中級全民英檢，一半以上技專學生通過初級全民英檢。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560" y="169560"/>
            <a:ext cx="809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9900"/>
                </a:solidFill>
                <a:latin typeface="Times New Roman"/>
              </a:rPr>
              <a:t>學習成果考評</a:t>
            </a:r>
            <a:endParaRPr b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4360" y="1341360"/>
            <a:ext cx="813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學習成果的考評分成期中考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(30%)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、期末考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(40%)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、及參與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(30%)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等三部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課堂參與部份佔總成績的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30%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；其考評項目包括準時到課、課堂發言、隨堂測驗等。若課堂參與過低，或到堂上課人數過少，則將有隨堂測驗。若有隨堂測驗，則將固定於上課鐘響後十分鐘內舉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995640" y="907920"/>
            <a:ext cx="3905280" cy="22320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995640" y="3500280"/>
            <a:ext cx="3888000" cy="23544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16000" y="692280"/>
            <a:ext cx="1368360" cy="12920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5"/>
          <a:stretch/>
        </p:blipFill>
        <p:spPr>
          <a:xfrm>
            <a:off x="1116000" y="2133720"/>
            <a:ext cx="2664000" cy="19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72360" cy="40132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4005360"/>
            <a:ext cx="6372360" cy="28526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6804000" y="7812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</a:rPr>
              <a:t>行事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6516720" y="1628640"/>
            <a:ext cx="24112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4360" y="692280"/>
            <a:ext cx="7775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若個人有特殊狀況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(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例如，家裡的狗狗愛咬你的管理學筆記本；或，你的摩托車每逢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上課前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就發不動；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...)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，需授課者協助安排或考慮，還請事先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(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學期初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)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告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考評的主要目的，在於提供必要的資訊給大家參考，以修正未來的行動；因此，在公平公開的原則下，歡迎修習者於開學第一週內對考評方法提出意見。授課者於可容忍的範圍內，將儘力予以配合。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  <a:ea typeface="標楷體"/>
              </a:rPr>
              <a:t>附錄</a:t>
            </a:r>
            <a:br>
              <a:rPr sz="4800"/>
            </a:br>
            <a:br>
              <a:rPr sz="4800"/>
            </a:br>
            <a:r>
              <a:rPr b="0" lang="zh-TW" sz="4800" spc="-1" strike="noStrike">
                <a:solidFill>
                  <a:srgbClr val="000000"/>
                </a:solidFill>
                <a:latin typeface="Arial"/>
                <a:ea typeface="標楷體"/>
              </a:rPr>
              <a:t>蹺課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  <a:ea typeface="標楷體"/>
              </a:rPr>
              <a:t>本來就是應該的</a:t>
            </a:r>
            <a:r>
              <a:rPr b="0" lang="zh-TW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資料來源：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雜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整理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俏可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日期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OCT-25-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前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專家認為，不管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學校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有多少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課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，時間到了最好就離開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「怎麼可能？那麼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書更讀不完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」你心裡不以為然的想。先別急，聽聽專家的理由是什麼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  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理由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. 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讓你更有效率</a:t>
            </a: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多數的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課程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十分繁瑣，沒有明確的開始與結束。正由於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課程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千頭萬緒，你很容易這個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一點、那個進行一半，結果沒有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有結果，迫使你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熬夜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超選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來趕工， 一方面也安慰自己的心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但是，如果你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MM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約會的時間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是五點，那麼你就得盤算一下，在一天有限的時數內，該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上那些課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理由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2-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對你的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教授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有教育作用</a:t>
            </a: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不要過度擴大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教授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對你的期望；如果你常常讓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教授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看到你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常上課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，他會開始認為你很願意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上課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，久了就變成你應該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上課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不要讓教授以上課的次數來評估你的表現。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理由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3-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對你的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同學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有教育作用</a:t>
            </a: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讓你的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同學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學著在有限的時間內，分配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課程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的優先次序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明確的表示你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該蹺課時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就會離開，到時候他們應該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讓你抄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的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作業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，就應該交到你桌上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理由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4-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迫使你釐清價值觀</a:t>
            </a: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想清楚你生命中最重要的是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MM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或是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上課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？當然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常缺課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、不拼命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上課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，可能讓你失去許多表現機會，錯過加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分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與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畢業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但是你不會辛苦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上課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像條狗似的，到了四、五十歲，突然覺得愧對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MM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、愧對自己的生命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理由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5-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讓你走在時代尖端</a:t>
            </a: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企管顧問觀察到一個趨勢，這兩年愈來愈多的人認為，生命中比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上課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重要的東西還有許多；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常上課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的人不再被視為英雄，反而被看成不懂生命的人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現在懂得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蹺課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的人，將是未來的領導人物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理由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6-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讓偶一為之的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上課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變得有趣</a:t>
            </a:r>
            <a:r>
              <a:rPr b="0" lang="zh-TW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常常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上課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，同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學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之間會生膩，合作的興奮感也全無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如果大家平常準時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蹺課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，碰到緊急狀況或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考試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時，大夥晚上一起留在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學校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；有人從外面提了便當走進來，一邊吃飯、一邊討論，這時候很容易顯出團隊合作的革命情感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理由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7-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讓你免於枯竭的惡性循環</a:t>
            </a: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你愈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上課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，愈覺得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知識學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不完；愈覺得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知識學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不完，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上課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就拖的愈長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這樣的惡性循環遲早會讓你崩潰。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476360" y="519120"/>
            <a:ext cx="677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新細明體"/>
              </a:rPr>
              <a:t>授課老師：鄭焜中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新細明體"/>
              </a:rPr>
              <a:t>辦公室：</a:t>
            </a:r>
            <a:r>
              <a:rPr b="0" lang="zh-TW" sz="4000" spc="-1" strike="noStrike">
                <a:solidFill>
                  <a:srgbClr val="ffffff"/>
                </a:solidFill>
                <a:latin typeface="新細明體"/>
              </a:rPr>
              <a:t>D4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新細明體"/>
              </a:rPr>
              <a:t>聯絡電話：</a:t>
            </a:r>
            <a:r>
              <a:rPr b="0" lang="zh-TW" sz="4000" spc="-1" strike="noStrike">
                <a:solidFill>
                  <a:srgbClr val="ffffff"/>
                </a:solidFill>
                <a:latin typeface="新細明體"/>
              </a:rPr>
              <a:t>(04)8511888-30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539640" y="2708280"/>
            <a:ext cx="2303640" cy="19429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539640" y="4797360"/>
            <a:ext cx="2303640" cy="17272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3255840" y="2708280"/>
            <a:ext cx="540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E-Mai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學術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生活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laifucheng@hot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laifucheng@yahoo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五四三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辣妹圖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laifucheng01@hot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laifucheng01@yahoo.com.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a"/>
            </a:gs>
            <a:gs pos="100000">
              <a:srgbClr val="357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912000" cy="38638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3635280" y="1890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Arial"/>
              </a:rPr>
              <a:t>管理矩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58920" y="121284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cc00"/>
                </a:solidFill>
                <a:latin typeface="新細明體"/>
              </a:rPr>
              <a:t>企業</a:t>
            </a:r>
            <a:r>
              <a:rPr b="0" lang="zh-TW" sz="3600" spc="-1" strike="noStrike">
                <a:solidFill>
                  <a:srgbClr val="ffffff"/>
                </a:solidFill>
                <a:latin typeface="新細明體"/>
              </a:rPr>
              <a:t>機能 </a:t>
            </a:r>
            <a:r>
              <a:rPr b="0" lang="zh-TW" sz="3600" spc="-1" strike="noStrike">
                <a:solidFill>
                  <a:srgbClr val="ffffff"/>
                </a:solidFill>
                <a:latin typeface="新細明體"/>
              </a:rPr>
              <a:t>+ </a:t>
            </a:r>
            <a:r>
              <a:rPr b="1" lang="zh-TW" sz="3600" spc="-1" strike="noStrike">
                <a:solidFill>
                  <a:srgbClr val="99cc00"/>
                </a:solidFill>
                <a:latin typeface="新細明體"/>
              </a:rPr>
              <a:t>管理</a:t>
            </a:r>
            <a:r>
              <a:rPr b="0" lang="zh-TW" sz="3600" spc="-1" strike="noStrike">
                <a:solidFill>
                  <a:srgbClr val="ffffff"/>
                </a:solidFill>
                <a:latin typeface="新細明體"/>
              </a:rPr>
              <a:t>功能 </a:t>
            </a:r>
            <a:r>
              <a:rPr b="0" lang="zh-TW" sz="3600" spc="-1" strike="noStrike">
                <a:solidFill>
                  <a:srgbClr val="ffffff"/>
                </a:solidFill>
                <a:latin typeface="新細明體"/>
              </a:rPr>
              <a:t>= </a:t>
            </a:r>
            <a:r>
              <a:rPr b="1" lang="zh-TW" sz="3600" spc="-1" strike="noStrike">
                <a:solidFill>
                  <a:srgbClr val="99cc00"/>
                </a:solidFill>
                <a:latin typeface="新細明體"/>
              </a:rPr>
              <a:t>企業管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8:29:39Z</dcterms:created>
  <dc:creator>CoCo</dc:creator>
  <dc:description/>
  <dc:language>en-US</dc:language>
  <cp:lastModifiedBy>user</cp:lastModifiedBy>
  <dcterms:modified xsi:type="dcterms:W3CDTF">2004-09-21T23:32:06Z</dcterms:modified>
  <cp:revision>16</cp:revision>
  <dc:subject/>
  <dc:title>投影片 1</dc:title>
</cp:coreProperties>
</file>